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691-3899-4949-BA5F-65ED0BCD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4CA-EE44-495F-B6FB-052F51D4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1C45-5D2F-4062-9CBD-F4A4FA9E5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F62-B4C3-4CEB-8535-FA659BA7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8F9C-FACC-408B-9590-20F34674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2BA-1340-4F85-9715-53F11440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B027-5727-4C70-9A28-5F74C3F7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789E-F243-4929-AB03-85CE7206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082-4F78-4ADB-9820-33BB6F86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D4B-3E59-4C2D-9CCD-F15016AF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1C7F-5894-4C15-A942-25AFFF60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1FD-8AC9-44D0-988D-3D9FDA35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6F2A-6017-4273-B366-66FBA7FA3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allesoverspelen.nl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ltoeste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len is leuk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 jaar 11.000 kids tot 14 jaar in het ziekenhuis door speeltoeste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mtoestel, glijbaan, schommel is to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sch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nst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d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dders en tr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ttingen, kabels en t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bindi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ijkers, schroeven, bouten, moe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itstekende onder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ico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kn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vast)H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wegende 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140360" y="1492200"/>
            <a:ext cx="5003640" cy="46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ats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un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uurzaam, stabiel,slijtvast, anti slip, waterdoorlatend, schokdemp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odemmateria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, grind, houtsnippers, boomschors, gras, rubber tegels, beton, asfalt, b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ntar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e + onderhouds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ise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e ook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allesoverspelen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14:48:28Z</dcterms:created>
  <dc:creator>johan</dc:creator>
  <dc:description/>
  <dc:language>en-US</dc:language>
  <cp:lastModifiedBy>johan</cp:lastModifiedBy>
  <dcterms:modified xsi:type="dcterms:W3CDTF">2008-09-30T15:08:53Z</dcterms:modified>
  <cp:revision>3</cp:revision>
  <dc:subject/>
  <dc:title>speeltoestellen</dc:title>
</cp:coreProperties>
</file>