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8D1-4AA8-4E0D-A202-4929E977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D98B-8B03-4A1A-AB6F-57612E8D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8D4-FA12-4FA4-B2B5-1332D480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A5A3-59A9-4716-BD94-6F101FC3C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E5E-67D7-43B4-AA63-5E18DE092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5A69-D00C-444C-B3E6-1DE082D7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D49-468E-4C33-ABFD-8014ED01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3F0-49A3-452A-AAC2-90E9CBAE9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2A33-B115-46C0-A9B5-A33A4D9ED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5877-630A-41FC-B169-FE7839C4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F43B-8A6A-47AE-B051-B86E6FAD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0227-2656-4F99-BD33-C7A0ADCE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CDDD-F1D1-4E41-B2CA-39E9F4F49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raster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n r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7532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ardenomhe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753240" cy="4524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ew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6753240" cy="450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nt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00360" y="1330200"/>
            <a:ext cx="3801960" cy="5527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len pan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6753240" cy="5229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laphek, wildroo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4321440" cy="2884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3562200"/>
            <a:ext cx="4500720" cy="3295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ssenpo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4535280" cy="2657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11280" y="1138320"/>
            <a:ext cx="7561080" cy="5718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e/ wild binn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cherming tegen beschadiging door dieren of men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len tegen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ut: gepunt en gekru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uurzaam of verduurzaa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a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35280" y="1557360"/>
            <a:ext cx="5508720" cy="286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groo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asve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assterk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rt gaas: puntlassen, gevlochten, gedraaid, geplastifice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ort ga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3780000" cy="272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4089240"/>
            <a:ext cx="3780000" cy="2768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076720" y="1197000"/>
            <a:ext cx="4067280" cy="2809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003640" y="4172040"/>
            <a:ext cx="4140360" cy="268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t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adsp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am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kwerktang en bindd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51440" y="1125360"/>
            <a:ext cx="3282840" cy="5732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o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051000"/>
            <a:ext cx="4716360" cy="3807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4356000" cy="3125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ubbele schoor, hoeksc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705120"/>
            <a:ext cx="3851280" cy="31528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5148360" cy="3695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tzett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nzichten of dra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len plaa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dr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21320" y="1933560"/>
            <a:ext cx="2290680" cy="3859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9:38:27Z</dcterms:created>
  <dc:creator>johan</dc:creator>
  <dc:description/>
  <dc:language>en-US</dc:language>
  <cp:lastModifiedBy>johan</cp:lastModifiedBy>
  <dcterms:modified xsi:type="dcterms:W3CDTF">2008-09-30T14:37:15Z</dcterms:modified>
  <cp:revision>5</cp:revision>
  <dc:subject/>
  <dc:title>afrasteringen</dc:title>
</cp:coreProperties>
</file>