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A83C-7D65-413B-A4CB-0C8D1326BAC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3986-A1B0-410D-B815-19ACA28584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76FF-1A97-407D-90F6-F219DB3AF93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9A47-648B-4185-8B1E-14F11C05123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D339D-C465-47B8-AA57-C372A1A645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8DDF-21C3-46DA-A7C3-F640B4748B3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2B10-721D-4EFB-A222-2BAD1312A8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D1CB-ABF4-49BC-850D-8762C127F9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87A9-4D8F-48E1-8589-937B678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8582-838C-4DC6-BCC4-5CA7EC25C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1D7-8B1B-4CA0-9FFE-11AC5119E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2C6D-E09E-4CAF-84FB-0190AC779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A9C7-9098-4A77-9FA0-65481955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D65-466C-4203-982A-4BE57713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43D-40AD-4879-9781-1CD15820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1965-5455-4D40-A0E7-EE615943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C3C6-0C46-4054-A88C-4BBF741F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262-F65F-40DB-92FB-5E612466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0E2-2439-4018-867F-018646C7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DDC-C5F1-4F29-865F-622200CC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A0E9-554F-4EEB-A71E-61FFC30678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houtinfo.nl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urzaam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rd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duurzaam   &gt;25 jr        Azobe, Banki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uurzaam           15-25          Merbau, e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tig duurzaam  10-15       Larix, grove 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inig duurzaam 5-10       Esdoorn, fijnsp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er weinig           &lt;5 jr      Beuk, popul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chth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r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mm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uur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rduurza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lman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reosot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l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it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+ recyc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 = sch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 = geschil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 = teer en ol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uteigenschap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t werkt, een leraar ni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t op kieren en slingering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linter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igza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eer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houtinfo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9:00:55Z</dcterms:created>
  <dc:creator>johan</dc:creator>
  <dc:description/>
  <dc:language>en-US</dc:language>
  <cp:lastModifiedBy>laptop</cp:lastModifiedBy>
  <dcterms:modified xsi:type="dcterms:W3CDTF">2016-10-29T15:01:25Z</dcterms:modified>
  <cp:revision>4</cp:revision>
  <dc:subject/>
  <dc:title>Hout</dc:title>
</cp:coreProperties>
</file>