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BD7-6D7F-463A-93C3-B536DDEF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1335-3A3F-470D-8A66-48152485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5D6-16F8-4940-BDBB-5DBBB556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BC27-4D11-4BD5-BF21-1C5CFD74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24B-3EF3-41FC-8EA4-87E460E4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FD3-6FAC-4314-B363-4F6CA143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E63-0BF0-4494-8A31-26CCD97B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044-6D6D-4180-9C81-05DAD598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790-19F4-4818-A8D4-B66D05CB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FEB-8A3D-403D-9065-7BA31D9E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F020-DAFB-4242-A744-6CF89D6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E53-59FF-4966-97AF-14E37D51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613C-D9CD-4A35-8388-F32C3AF80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llesoverspelen.nl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en is leuk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jaar 11.000 kids tot 14 jaar in het ziekenhuis door speel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mtoestel, glijbaan, schommel is to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sch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s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ders en tr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en, kabels en t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ind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pijkers, schroeven, bouten, moe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stekende onder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ic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kn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ast)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40360" y="1492200"/>
            <a:ext cx="50036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at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u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uurzaam, stabiel,slijtvast, anti slip, waterdoorlatend, schokdemp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dem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, grind, houtsnippers, boomschors, gras, rubber tegels, beton, asfalt, b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e + onderhouds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s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 ook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llesoverspelen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4:48:28Z</dcterms:created>
  <dc:creator>johan</dc:creator>
  <dc:description/>
  <dc:language>en-US</dc:language>
  <cp:lastModifiedBy>johan</cp:lastModifiedBy>
  <dcterms:modified xsi:type="dcterms:W3CDTF">2008-09-30T15:08:53Z</dcterms:modified>
  <cp:revision>3</cp:revision>
  <dc:subject/>
  <dc:title>speeltoestellen</dc:title>
</cp:coreProperties>
</file>