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746-BE61-459D-8B50-07CB059C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E30-95A8-47D5-8E2E-2B74ABA0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DEF-3EE7-4DF7-A145-62874CDF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1FC-AF8F-4A0B-8599-77646148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6CC-0DF0-4945-8D77-C0148149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D20-72F5-4466-86E0-4DDD4431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B44-3289-40C7-BBBC-5C7C132F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F34-2A75-416E-BBD6-59583D8A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A7E-8638-483E-886F-531B0BEF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187-7038-4384-BE46-49DFC6B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E48-1F9F-47E5-BA83-EB35EC7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7C1-5C19-4DF1-AF64-B6E64E9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6D03-F97C-4743-A89F-DB31E2B7D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st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n r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532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rdenomhe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3240" cy="45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w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753240" cy="450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nt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330200"/>
            <a:ext cx="3801960" cy="55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en pan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75324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phek, wildro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2144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3562200"/>
            <a:ext cx="4500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po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38320"/>
            <a:ext cx="7561080" cy="571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/ wild binn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cherming tegen beschadiging door dieren of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n teg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ut: gepunt en gekru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urzaam of verduurza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5508720" cy="286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ve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asste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rt gaas: puntlassen, gevlochten, gedraaid, geplastif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 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78000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89240"/>
            <a:ext cx="378000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03640" y="4172040"/>
            <a:ext cx="4140360" cy="26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adsp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kwerktang en bind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1440" y="1125360"/>
            <a:ext cx="328284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716360" cy="380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356000" cy="312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bele schoor, hoeksc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05120"/>
            <a:ext cx="3851280" cy="31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5148360" cy="36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ze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zichten of dr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n 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21320" y="1933560"/>
            <a:ext cx="2290680" cy="38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9:38:27Z</dcterms:created>
  <dc:creator>johan</dc:creator>
  <dc:description/>
  <dc:language>en-US</dc:language>
  <cp:lastModifiedBy>johan</cp:lastModifiedBy>
  <dcterms:modified xsi:type="dcterms:W3CDTF">2008-09-30T14:37:15Z</dcterms:modified>
  <cp:revision>5</cp:revision>
  <dc:subject/>
  <dc:title>afrasteringen</dc:title>
</cp:coreProperties>
</file>