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CB6B-3C57-4121-916B-3E2C1A7D30F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379D-B056-40AE-9F76-07E3AF44C23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EA44-04B6-461E-9677-989BC60B347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2884-C645-47ED-BD44-60C6C483211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C90C-B183-43A0-85E3-420C1279522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E33B-5BF0-4980-9319-55490698D05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0541-A180-4B82-ADEC-F7EF01B8D32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A704-E342-4F46-B18F-EEF0D85C575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EEB3-22DE-43BE-B271-349F43E0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533E-E76F-419B-BB6C-6097F59F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B39F-22AE-410E-B04D-24C6D542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BC49-4525-4CD8-9A97-D4F2E273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1F12-8D2C-47B7-B6E3-4C94D958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740E-F42B-4E6D-8DC6-F4014D0E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0BEC-02FE-4114-936D-81613E04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827A-3745-4E79-B1CF-417C9415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C92F-D85C-4236-89C7-9E63885F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AE03-834A-4783-B117-B7798028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57BC-F125-461E-92F8-1DF95744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B757-87BC-4C08-9DA7-6AFF0273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1803-64E9-4951-B80E-4119651737F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outinfo.nl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urzaam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rd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er duurzaam   &gt;25 jr        Azobe, Banki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urzaam           15-25          Merbau, e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tig duurzaam  10-15       Larix, grove 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inig duurzaam 5-10       Esdoorn, fijn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er weinig           &lt;5 jr      Beuk, pop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cht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r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uurza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lmani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reoso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l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val + recyc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 = 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 = geschil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 = teer en 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eigenscha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ut werkt, een leraar n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 op kieren en slinger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linte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igza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er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utinfo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9:00:55Z</dcterms:created>
  <dc:creator>johan</dc:creator>
  <dc:description/>
  <dc:language>en-US</dc:language>
  <cp:lastModifiedBy>laptop</cp:lastModifiedBy>
  <dcterms:modified xsi:type="dcterms:W3CDTF">2016-10-29T15:01:25Z</dcterms:modified>
  <cp:revision>4</cp:revision>
  <dc:subject/>
  <dc:title>Hout</dc:title>
</cp:coreProperties>
</file>