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2C9-CBC7-471D-8503-9F7B863C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8C2-279F-47DE-9022-05718989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BA3-6F32-4722-8B93-649EDEA5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EA6-4335-4C36-9A7B-54A96162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C86-3F6B-42AF-B65D-51354098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E06-F377-4A1C-8C4D-F74A8188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072-ADC8-4D12-97AC-CAE73BD0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A95-D46E-4064-930E-D375C77F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C98-D893-44C4-8FC9-D8583491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3C9-FC87-4B9A-985E-3297D7B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AC2-D2A3-47B4-8D19-A69A8350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DC1-CF8B-4D20-AAA7-9EC1E148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4DA1-81A6-4CC3-820A-E5720DD93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lesoverspelen.nl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en is leuk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jaar 11.000 kids tot 14 jaar in het ziekenhuis door speel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toestel, glijbaan, schommel is to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s en tr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, kabels en t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ind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ijkers, schroeven, bouten, moe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stekende onder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ic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kn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ast)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40360" y="1492200"/>
            <a:ext cx="50036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urzaam, stabiel,slijtvast, anti slip, waterdoorlatend, schokdemp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, grind, houtsnippers, boomschors, gras, rubber tegels, beton, asfalt, b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 + onderhouds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ok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llesoverspe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48:28Z</dcterms:created>
  <dc:creator>johan</dc:creator>
  <dc:description/>
  <dc:language>en-US</dc:language>
  <cp:lastModifiedBy>johan</cp:lastModifiedBy>
  <dcterms:modified xsi:type="dcterms:W3CDTF">2008-09-30T15:08:53Z</dcterms:modified>
  <cp:revision>3</cp:revision>
  <dc:subject/>
  <dc:title>speeltoestellen</dc:title>
</cp:coreProperties>
</file>