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47E-4C90-4E16-9B87-C624C157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55A-5BAB-47CF-9E83-CA9AAB94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DEA-F949-4F06-9C32-37EE176A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1ED-CC00-42AF-909A-A8720E02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D81-3C16-4723-9261-C3DBCAF8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04B-01CA-4C5B-BA98-A905C718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456-F67A-4810-928A-541DB225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3DD-A681-476B-94EC-956D3622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26F-5760-4165-974E-8605DB06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D3D-4EDE-4294-AB5B-5292DD6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A78-7B7D-4F26-9973-F23EA856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E56-316B-4097-B4A9-4E45A857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3CE3-BA93-4436-8B7A-A38EB3E53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st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n r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532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rdenomhe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3240" cy="45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w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753240" cy="450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nt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330200"/>
            <a:ext cx="3801960" cy="55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en pan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75324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phek, wildro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2144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3562200"/>
            <a:ext cx="4500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po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38320"/>
            <a:ext cx="7561080" cy="571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/ wild binn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cherming tegen beschadiging door dieren of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n teg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ut: gepunt en gekru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urzaam of verduurza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5508720" cy="286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ve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asste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rt gaas: puntlassen, gevlochten, gedraaid, geplastif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 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78000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89240"/>
            <a:ext cx="378000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03640" y="4172040"/>
            <a:ext cx="4140360" cy="26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adsp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kwerktang en bind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1440" y="1125360"/>
            <a:ext cx="328284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716360" cy="380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356000" cy="312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bele schoor, hoeksc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05120"/>
            <a:ext cx="3851280" cy="31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5148360" cy="36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ze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zichten of dr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n 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21320" y="1933560"/>
            <a:ext cx="2290680" cy="38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9:38:27Z</dcterms:created>
  <dc:creator>johan</dc:creator>
  <dc:description/>
  <dc:language>en-US</dc:language>
  <cp:lastModifiedBy>johan</cp:lastModifiedBy>
  <dcterms:modified xsi:type="dcterms:W3CDTF">2008-09-30T14:37:15Z</dcterms:modified>
  <cp:revision>5</cp:revision>
  <dc:subject/>
  <dc:title>afrasteringen</dc:title>
</cp:coreProperties>
</file>