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09B9-CC01-492B-AC0D-884B30B2AF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598A-E41B-42F2-AB40-ECAE959D5D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E3BF-6608-404E-91E9-ACA72DF916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8E7E-3D85-4A2D-9F7C-6E5D5E59E2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1522-F6F8-437C-9205-2080CA8E6E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4BCD-DE22-49CE-B1A3-BFB87FF6C1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BD89-ECD9-445C-B7E3-2F0D12FF61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8909-2E71-4A81-A6CA-B0D3C3FC565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144-D4B2-4869-86EB-A1F0A000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925-90B1-4FBC-823B-5A1EDF43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4BA-6CBF-4FD4-B279-127F9CD8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7FC-1202-4BD4-B59E-ADD13154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2D9-5497-4B2B-B235-4DFEC837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58A-798D-4900-95DD-17435736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D19-88E4-4D82-864F-B693D826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40C-76C7-4E6C-9FF7-D2352933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9E5-F01B-43DC-9328-F020A5B6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676-5B6D-4130-B3A4-FAB37B67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AB3-1CCC-406E-B94E-06E0F65C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5A5-C5F1-4491-A74A-9D62D6F1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AE9E-98AF-49A1-BDEF-8DA6440559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utinfo.n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urzaam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d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duurzaam   &gt;25 jr        Azobe, Banki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urzaam           15-25          Merbau,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tig duurzaam  10-15       Larix, 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duurzaam 5-10       Esdoorn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weinig           &lt;5 jr      Beuk,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uurza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lman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eoso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+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=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 = geschil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 = te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 werkt, een leraar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 op kieren en sling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in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igza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utinfo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9:00:55Z</dcterms:created>
  <dc:creator>johan</dc:creator>
  <dc:description/>
  <dc:language>en-US</dc:language>
  <cp:lastModifiedBy>laptop</cp:lastModifiedBy>
  <dcterms:modified xsi:type="dcterms:W3CDTF">2016-10-29T15:01:25Z</dcterms:modified>
  <cp:revision>4</cp:revision>
  <dc:subject/>
  <dc:title>Hout</dc:title>
</cp:coreProperties>
</file>