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D29-88B9-4DA5-8BC9-1D01C687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661-C10B-4010-B196-5FE74637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A52-A989-462B-8457-95E2A488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3D2-04B8-42F3-BF56-95F39DA0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CDD-DB8E-4CDF-843C-E5291253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B4C-44F7-4C10-B680-2731EF2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6E0-382E-4C09-B229-AC428367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A65-F458-46C6-A384-284B44A3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946-18B9-4FD7-BF79-47A1BF3F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27E-8C1E-490F-86F1-2274E7FB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460-64F9-4943-BACD-C25D1D64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843-29B7-40E5-A947-8994F342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77D6-CC4C-45E4-B7F5-8EA82E672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st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n r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532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rdenomhe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3240" cy="45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w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75324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nt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330200"/>
            <a:ext cx="3801960" cy="55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en pan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5324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phek, wild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po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38320"/>
            <a:ext cx="7561080" cy="571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/ wild binn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cherming tegen beschadiging door dieren of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n teg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ut: gepunt en gekru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urzaam of verduurza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550872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ve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asste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rt gaas: puntlassen, gevlochten, gedraaid, geplastif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 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78000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89240"/>
            <a:ext cx="378000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03640" y="4172040"/>
            <a:ext cx="4140360" cy="26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adsp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kwerktang en bind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1440" y="1125360"/>
            <a:ext cx="328284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716360" cy="380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356000" cy="31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bele schoor, hoeksc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05120"/>
            <a:ext cx="3851280" cy="31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5148360" cy="36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ze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zichten of dr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 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1320" y="1933560"/>
            <a:ext cx="2290680" cy="38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9:38:27Z</dcterms:created>
  <dc:creator>johan</dc:creator>
  <dc:description/>
  <dc:language>en-US</dc:language>
  <cp:lastModifiedBy>johan</cp:lastModifiedBy>
  <dcterms:modified xsi:type="dcterms:W3CDTF">2008-09-30T14:37:15Z</dcterms:modified>
  <cp:revision>5</cp:revision>
  <dc:subject/>
  <dc:title>afrasteringen</dc:title>
</cp:coreProperties>
</file>