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0E8-A330-4DDF-95E5-68430275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450-F5B9-46BF-A96A-4B3DB0FC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2B9-64CE-4F60-9520-E6CDA486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4AB-F486-499D-8B8A-B49B1233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333-C2F3-40BB-B32F-AD87AA8F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862-1F61-4409-AA5B-DBB939CE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FA8-36EC-4B34-97BF-25DF556D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907-A037-4A62-BE76-F642920F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94C-6CDA-43A2-BBB8-87E76CCB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6EF-19FA-4D00-B341-93E19702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EA4-42BE-4671-8790-A1D6B13E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71A-C2FC-41F6-9E77-C63188B5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1BDD-0FDB-428C-8471-1D9D9B381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llesoverspelen.nl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en is leuk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jaar 11.000 kids tot 14 jaar in het ziekenhuis door speel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toestel, glijbaan, schommel is to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ders en tr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, kabels en t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ind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pijkers, schroeven, bouten, moe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stekende onder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ic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kn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ast)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40360" y="1492200"/>
            <a:ext cx="50036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urzaam, stabiel,slijtvast, anti slip, waterdoorlatend, schokdemp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, grind, houtsnippers, boomschors, gras, rubber tegels, beton, asfalt, b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 + onderhouds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s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 ook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llesoverspe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48:28Z</dcterms:created>
  <dc:creator>johan</dc:creator>
  <dc:description/>
  <dc:language>en-US</dc:language>
  <cp:lastModifiedBy>johan</cp:lastModifiedBy>
  <dcterms:modified xsi:type="dcterms:W3CDTF">2008-09-30T15:08:53Z</dcterms:modified>
  <cp:revision>3</cp:revision>
  <dc:subject/>
  <dc:title>speeltoestellen</dc:title>
</cp:coreProperties>
</file>