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2B2-E3C9-4242-ABBF-EF814A73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2BE-DA34-459B-9092-6751D3FC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B24-DDDB-4BCE-B060-4F62C68D6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FF21-1182-49A3-BBCB-DC5F04E5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EBE-D2B6-4541-B7B0-11E56E5D9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007D-7DB5-45D5-BEBA-891D0F76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724-2140-4893-BDCF-80302BD5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565A-9C61-4F22-9C6D-BD707F6F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5990-D556-4F17-8B0B-E60D9C5C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1BAD-8BF5-40DF-83ED-87A2C983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3EB-3E07-4417-BA06-61E15581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ED6-04B1-46FC-83E1-BC3BF445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61A4-6DA3-401D-94D3-08C694353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aster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n r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sen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75324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ardenomhe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53240" cy="452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ew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6753240" cy="450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nt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00360" y="1330200"/>
            <a:ext cx="3801960" cy="552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en pan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753240" cy="522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phek, wildro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321440" cy="2884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3562200"/>
            <a:ext cx="4500720" cy="329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senpo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535280" cy="2657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138320"/>
            <a:ext cx="7561080" cy="5718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/ wild binnen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cherming tegen beschadiging door dieren of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en tegen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ut: gepunt en gekru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urzaam of verduurzaa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st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5280" y="1557360"/>
            <a:ext cx="5508720" cy="286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sve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asster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rt gaas: puntlassen, gevlochten, gedraaid, geplastific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 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780000" cy="272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089240"/>
            <a:ext cx="3780000" cy="2768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4067280" cy="2809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003640" y="4172040"/>
            <a:ext cx="4140360" cy="268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dra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t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adsp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kwerktang en bind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51440" y="1125360"/>
            <a:ext cx="3282840" cy="573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51000"/>
            <a:ext cx="4716360" cy="3807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4356000" cy="3125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bbele schoor, hoeksc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705120"/>
            <a:ext cx="3851280" cy="315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5148360" cy="3695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at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zet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zichten of dra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n plaa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d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21320" y="1933560"/>
            <a:ext cx="2290680" cy="385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9:38:27Z</dcterms:created>
  <dc:creator>johan</dc:creator>
  <dc:description/>
  <dc:language>en-US</dc:language>
  <cp:lastModifiedBy>johan</cp:lastModifiedBy>
  <dcterms:modified xsi:type="dcterms:W3CDTF">2008-09-30T14:37:15Z</dcterms:modified>
  <cp:revision>5</cp:revision>
  <dc:subject/>
  <dc:title>afrasteringen</dc:title>
</cp:coreProperties>
</file>