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2C14-57A6-440D-8E64-FB37876A997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88CF-09C6-4C6B-85E9-E9D6A911DE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5C4-CA4B-4AC1-94F4-521A8CA780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2002-D093-4D41-8644-6193917619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8F67-3EE2-4400-B90B-51731FA8D9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D74D-3C8C-4792-9280-3D2534CDD4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20C-7531-48E6-BB4A-610C29A14CB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B22D-18D7-46EE-86D4-A19887D4E5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2E3-3997-4353-9082-DEAD8080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281-9C73-40A5-AEDF-C1FA2EB6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9FE-4F5B-4743-8279-58D8D0B3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77A-35F4-4DC6-BBC2-EBB867F3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7C4-3D6B-4052-9DC4-F5561318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04B-D7FC-4DBF-BEBB-6C598CC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C16-65BB-4AED-9C57-B34E12AB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DD6-477C-4767-BE2E-898FC64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354-4F4D-4B59-9EFA-7F1A1DA3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06B-2C88-43F5-9CF8-81F8EAC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3B1-09FE-4327-A53C-9D5C2947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CF5-5BEA-4890-9486-C64B999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9522-BE1D-4BAC-AC55-5834DE3F79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utinfo.n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urzaam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d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duurzaam   &gt;25 jr        Azobe, Banki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           15-25          Merbau,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ig duurzaam  10-15       Larix, 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duurzaam 5-10       Esdoorn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weinig           &lt;5 jr      Beuk,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uurz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lman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oso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+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=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 = geschil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 = te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 werkt, een leraar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 op kieren en sling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n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igza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utinfo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9:00:55Z</dcterms:created>
  <dc:creator>johan</dc:creator>
  <dc:description/>
  <dc:language>en-US</dc:language>
  <cp:lastModifiedBy>laptop</cp:lastModifiedBy>
  <dcterms:modified xsi:type="dcterms:W3CDTF">2016-10-29T15:01:25Z</dcterms:modified>
  <cp:revision>4</cp:revision>
  <dc:subject/>
  <dc:title>Hout</dc:title>
</cp:coreProperties>
</file>