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3998-C9AA-4BBD-B035-7253D68A5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389A-660B-462B-9AF5-AA5C5494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F95B-10F6-42D6-AF77-3DD2B93A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B228-D831-45C2-853D-BA6E53A42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4ACF-A318-4FC6-9C77-9B43BDCA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97EC-7DAB-4000-AA62-912CED26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4546-ACDC-42C8-AD1B-3E8C4368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6229-8DF5-4CFF-9749-4473A25A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2264-9EDF-47A3-8BFC-5DA9FFA4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DD8D-492F-4333-806D-75E0A050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C8BE-521D-4B38-8D8F-3BF214A0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5351-EA3D-4CA2-806D-EE372F19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E387-8936-4E08-80B9-E7D3A1271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llesoverspelen.nl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ltoeste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len is leuk!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 jaar 11.000 kids tot 14 jaar in het ziekenhuis door speeltoes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imtoestel, glijbaan, schommel is to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anscha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nst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dders en tr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ttingen, kabels en to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indin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pijkers, schroeven, bouten, moe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stekende onder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ico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kn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vast)H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wegende 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140360" y="1492200"/>
            <a:ext cx="500364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at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un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duurzaam, stabiel,slijtvast, anti slip, waterdoorlatend, schokdemp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demmateri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nd, grind, houtsnippers, boomschors, gras, rubber tegels, beton, asfalt, bk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pe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ar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pectie + onderhouds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is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e ook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allesoverspelen.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4:48:28Z</dcterms:created>
  <dc:creator>johan</dc:creator>
  <dc:description/>
  <dc:language>en-US</dc:language>
  <cp:lastModifiedBy>johan</cp:lastModifiedBy>
  <dcterms:modified xsi:type="dcterms:W3CDTF">2008-09-30T15:08:53Z</dcterms:modified>
  <cp:revision>3</cp:revision>
  <dc:subject/>
  <dc:title>speeltoestellen</dc:title>
</cp:coreProperties>
</file>