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E931-FB29-40A1-97EC-EE242F10B4B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8BCF-9378-466A-8144-A9C8F880117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6E87-AE3B-4BDC-8B7F-5C5B8836FEF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BCF4-71B8-476D-A73B-63034C39B58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BF07-C2F4-4EE7-BEC4-C85E3233E52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8A4C-CAA7-4F24-8EF2-EC5E9C687CF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D40A-0164-4A8F-A11F-0620AFBEAE4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B4B0-C7E7-4B91-96BA-776EC76A572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AF07-D8B2-4970-8680-D78AF1AF7E5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995A-0275-4C1E-8DD1-4C26A843BE3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EBC3-242F-4E78-BBC9-2CF4468B61A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DA91-8650-42A1-92B1-4FD4355B894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B2AC-8B3A-45AA-B4CA-90C0465DD70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01DF-8581-431B-A860-4D7BA33A602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0C4A-6731-45A7-8E10-669ACB41359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10F6-AE3D-4848-8215-E8473C62568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8836-1C9E-412D-B1F9-F60DEDEDF9D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A435-E143-424F-8914-A373850A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4417-D01A-41EE-90C4-5401E8D6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18B5-5283-46C5-9719-DE5861842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7438-1CD5-44F2-AF5F-493ACFF2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586A-905F-4600-AD01-D26BB8E5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3EA8-FB0D-449A-B633-F70C0FDC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7475-181E-48E8-99EE-ACF3D574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74E0-35BD-4F2D-8234-7BE7258F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0B95-A1E7-421F-AB82-B1FB2B35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5DEF-2DE4-4133-BC4C-99DEDDB1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3B31-E36E-4DFA-A3A6-34124BBC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A94A-62FC-4D00-A610-2DBB47E1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A247-BD35-41EA-A73C-79778BC3C30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d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ndbegins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et 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rond, lucht, water en bem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zijn belangrijke groeifacto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robeer deze zo goed mogelij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e krijgen en te hou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lechte grond en slechte bemesting zorgen voor slecht groeiende plan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aarnaast wordt de plant veel gevoeliger voor ziekten en plagen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. Vaag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. Veen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. Podzol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. Brik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. Eerd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ag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aug1"/>
          <p:cNvPicPr/>
          <p:nvPr/>
        </p:nvPicPr>
        <p:blipFill>
          <a:blip r:embed="rId1"/>
          <a:stretch/>
        </p:blipFill>
        <p:spPr>
          <a:xfrm>
            <a:off x="3056040" y="1197000"/>
            <a:ext cx="29192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dzol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aug"/>
          <p:cNvPicPr/>
          <p:nvPr/>
        </p:nvPicPr>
        <p:blipFill>
          <a:blip r:embed="rId1"/>
          <a:stretch/>
        </p:blipFill>
        <p:spPr>
          <a:xfrm>
            <a:off x="3152880" y="1197000"/>
            <a:ext cx="26812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en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aug2"/>
          <p:cNvPicPr/>
          <p:nvPr/>
        </p:nvPicPr>
        <p:blipFill>
          <a:blip r:embed="rId1"/>
          <a:stretch/>
        </p:blipFill>
        <p:spPr>
          <a:xfrm>
            <a:off x="3033720" y="1197000"/>
            <a:ext cx="29084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rik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aug4"/>
          <p:cNvPicPr/>
          <p:nvPr/>
        </p:nvPicPr>
        <p:blipFill>
          <a:blip r:embed="rId1"/>
          <a:stretch/>
        </p:blipFill>
        <p:spPr>
          <a:xfrm>
            <a:off x="3092400" y="1197000"/>
            <a:ext cx="28497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rd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aug5"/>
          <p:cNvPicPr/>
          <p:nvPr/>
        </p:nvPicPr>
        <p:blipFill>
          <a:blip r:embed="rId1"/>
          <a:stretch/>
        </p:blipFill>
        <p:spPr>
          <a:xfrm>
            <a:off x="3171960" y="1197000"/>
            <a:ext cx="2695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oor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ö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Wat is goede gro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e plant moet kunnen worte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er mogen geen storende lagen in de grond zij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oede struktuur (goed waterdoorlate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oede zuurgraad. (P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enoeg voeding. (bem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enoeg organische stof / hum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(zeer sterk verteerde plantenres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odemleven. (zet organische stof om in voor de plant opneembare de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Houdt de grond water en voeding vast? (Adsorptievermogen gron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een schadelijke stoff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(zout, rioolslib, resten bestrijdingsmiddel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1m2 akkergrond, 20 cm d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wak humushoudende zandgr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ierop groeien 3 ko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80 regen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80.000 ring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100.000 springstaar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200.000 mij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500.000 Zweepdiertj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1.000.000 draad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4.000.000.000 bacteriën en 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nder onderz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1 liter aarde, 15 cm dikke weide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1.551.000.000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infusie, zweep en wimperdier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50.000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raadwo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220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pringstaa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14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uizendpo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la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genworm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t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1 hand compost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eer levende wezens dan er mensen op aarde zijn!!!!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scan0001"/>
          <p:cNvPicPr/>
          <p:nvPr/>
        </p:nvPicPr>
        <p:blipFill>
          <a:blip r:embed="rId1"/>
          <a:stretch/>
        </p:blipFill>
        <p:spPr>
          <a:xfrm>
            <a:off x="1476360" y="0"/>
            <a:ext cx="579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demonderz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vengrondse onkrui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len. (zacht of scherp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worteling,  hoe die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demleven, regen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kt de grond? Organische s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rde lagen? (penetrome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uimels, afgerond blokkig, scherp blokki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rrelgrootte (zandlinia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cht, grondwater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ventueel: Ph meting (lakmoespapi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PIM0161"/>
          <p:cNvPicPr/>
          <p:nvPr/>
        </p:nvPicPr>
        <p:blipFill>
          <a:blip r:embed="rId1"/>
          <a:stretch/>
        </p:blipFill>
        <p:spPr>
          <a:xfrm>
            <a:off x="1908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9T10:05:47Z</dcterms:created>
  <dc:creator>Johan</dc:creator>
  <dc:description/>
  <dc:language>en-US</dc:language>
  <cp:lastModifiedBy>Johan Schuppert</cp:lastModifiedBy>
  <cp:lastPrinted>2015-01-08T07:14:35Z</cp:lastPrinted>
  <dcterms:modified xsi:type="dcterms:W3CDTF">2015-01-08T07:15:44Z</dcterms:modified>
  <cp:revision>7</cp:revision>
  <dc:subject/>
  <dc:title>Bodem</dc:title>
</cp:coreProperties>
</file>