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453-A410-4662-89FB-F805EA6D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DD20-86A4-40CF-B32B-92500D6F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91A-7618-4C21-9C0D-8694644D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17FF-7942-4526-A725-D7D99797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6F1-B5F0-4B15-A04F-C9B3061C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A64-D44A-4531-9272-424F4BBF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7C7-151C-43C0-803B-57F820E4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D69-6EB2-4E9B-986F-23AA1350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4044-9AA0-4E52-8B3C-761DA6A2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7054-28FB-4F46-96C5-6E2C1629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AC3-D9B0-4DCE-B1B2-121CF63B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C43C-418C-4AD3-B434-B9B4E53D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F581-49A1-434D-ABCB-E535FE98A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ndbe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drijv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ker + aft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ass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ass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finric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eregeling: vast: kunstmeststroo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efstand: oneffenheden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rstandregeling: plo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regeling: (positie + weerst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en met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bouwen: positiereg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: veiligheid (stabilisatiesta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afstelling: bedrijfsklaar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gelij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nipp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kelij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snaren, kettingen, tandwielen, bou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jwij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119400" y="1197000"/>
            <a:ext cx="2990880" cy="566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t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l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jven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o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+ multifuncti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onkruid, spitten gras en mest, zaai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PUN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erke verkruime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m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lem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reesz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286160" cy="3209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t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vere klu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freesz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982880"/>
            <a:ext cx="4038480" cy="376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ud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in groen gebru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torkop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aai en plantklaar ma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galiseren grasv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te lichte grond ivm verkruim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nde lagen doorbr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urverbe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bemesting: meer organische 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i of plantbed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rijden on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ijven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kruid bestrij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de plantenresten m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2376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iv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breken 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kruid los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els los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a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643280" cy="308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oe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diep los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0 -70 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P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losser, natter, minder draagkr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181240"/>
            <a:ext cx="4716360" cy="353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bridge ro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uwelijks gebru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dde en getande 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len: vorenpak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ware 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licht aandru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333360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derspitten ge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zetten top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3800520" cy="277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hankelijk 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ndsoort + draagkracht bo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jdst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d en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otte terr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ikbaarheid terr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pte grondbe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ndsoort/draagkr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gro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k verkruimelen voor goed zaai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grond/zavelgro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te sterk verkruimelen in verband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emping en verstu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jdstip + w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: najaar (kapotvriezen klui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: voorjaar (verslem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n: dichtrijden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 morgens: meer vocht: onkruid groeit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oge grond: slecht te be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jd/g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op: te ondiepe grondbewer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r kans op verdroging en/of verzui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otte + bereikbaarheid terr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2 of 10.000m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wland of achter een huis met h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pte grondbe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30 cm storende laa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engen gro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30 cm: bouwvoor belu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10 cm: zaaibed klaar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5 cm: onkruid bestrij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eksc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k / schre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ff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6:11:42Z</dcterms:created>
  <dc:creator>johan</dc:creator>
  <dc:description/>
  <dc:language>en-US</dc:language>
  <cp:lastModifiedBy>johan</cp:lastModifiedBy>
  <dcterms:modified xsi:type="dcterms:W3CDTF">2009-07-10T14:18:20Z</dcterms:modified>
  <cp:revision>5</cp:revision>
  <dc:subject/>
  <dc:title>grondbewerking</dc:title>
</cp:coreProperties>
</file>