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02B-7215-4822-ADC1-5C54E464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6B2-AA67-4DDA-AEEB-ADE22EDE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2C3-5485-4F63-8801-F247F3EF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0D3-7249-4D20-ACB4-82FA6942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204-1969-4CC9-85A6-4BDB40AF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421-5AAB-42F2-88D7-4A963E72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80D-48FB-4B83-9B8E-2BDD15FD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E55-3AFF-4A59-AE95-78AF82BA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614-ED46-480B-B909-F0E127E3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925-7E1D-47A3-B868-D180E90A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304-3F33-423D-A7A2-74DB584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6C52-7FC5-406C-9142-25BD9CB5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FCDB-D254-4280-8BD2-A07286EAF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lopen (ganzep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al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zaaien of 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ha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 plantgat g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al op zuidwe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 (op juiste diep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ven een vuist afstand, onder een vo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 dichtg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nd aan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en aan 1 kant in de sleuf z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en aan beide zijden in de 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273320"/>
            <a:ext cx="727236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8:26:47Z</dcterms:created>
  <dc:creator>johan</dc:creator>
  <dc:description/>
  <dc:language>en-US</dc:language>
  <cp:lastModifiedBy>johan</cp:lastModifiedBy>
  <dcterms:modified xsi:type="dcterms:W3CDTF">2008-09-14T08:31:18Z</dcterms:modified>
  <cp:revision>2</cp:revision>
  <dc:subject/>
  <dc:title>Planten volgens het boekje</dc:title>
</cp:coreProperties>
</file>