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DA3F-E56C-4D71-A39B-0BC2D3A3D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3BC6-DE0F-4383-8838-A68863E31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730A-1AA4-4102-812F-7C004894F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DED6-9801-448D-AD65-4A153F416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750A-9CC9-4669-B313-49BA021D1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81ED-95FD-4FF8-8C8F-AA37EA4FA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D3AF-EFC4-4F82-B218-8AF443EC2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3990-C1CE-47CD-93DC-360F192A5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6866-832F-4875-AEE6-AA6CC7820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7D2F-C946-47A8-88DA-AB9FE92C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37DB-3ACB-441D-8D8B-B9386C56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1C03-EDCC-4BE9-92DD-97141101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8E3A3-B060-4841-8C9A-26B0B01CC11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ndbewer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chillende mani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tfr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03120" y="1198440"/>
            <a:ext cx="8445600" cy="56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00000" y="1322280"/>
            <a:ext cx="7201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 op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 kan wat in de grond zitte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bes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de gran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575320" y="1566720"/>
            <a:ext cx="2597040" cy="19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276720" y="4005360"/>
            <a:ext cx="23749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bels en leid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aarom grondbewerk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e gr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te gr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in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42920" y="1481040"/>
            <a:ext cx="6624720" cy="46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de gr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er lu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tere bewort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fwa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ndmat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14280" y="1413000"/>
            <a:ext cx="3835440" cy="5445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219640" y="1341360"/>
            <a:ext cx="363528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ikra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16000" y="1271520"/>
            <a:ext cx="74167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-114480"/>
            <a:ext cx="9906120" cy="742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26920" y="1106640"/>
            <a:ext cx="7667640" cy="57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infr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00000" y="1109520"/>
            <a:ext cx="7632720" cy="57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14:57:20Z</dcterms:created>
  <dc:creator>Johan</dc:creator>
  <dc:description/>
  <dc:language>en-US</dc:language>
  <cp:lastModifiedBy>johan</cp:lastModifiedBy>
  <dcterms:modified xsi:type="dcterms:W3CDTF">2008-08-27T17:05:06Z</dcterms:modified>
  <cp:revision>5</cp:revision>
  <dc:subject/>
  <dc:title>grondbewerking</dc:title>
</cp:coreProperties>
</file>