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BF732-B957-4609-A4CF-F2B38EAFD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C2DAE-BE03-44D8-B9DB-F43C9FD7B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2C475-96F7-4F88-8B10-E37537FFD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31185-485C-4D37-AF60-AE2C5BF9A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81D3D-2450-40AB-A98D-0DF58A26B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8F695-7936-4CAE-BA6F-3B7DA99E2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AE234-B1E8-46ED-9F42-D538AAC1B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C9C74-2B7D-457B-892F-3FBCA4F47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8270C-38DF-41FC-8E3A-0A484DB01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07397-ED91-4FA0-9086-B13E40BF7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55588-E361-4744-8797-3D1E07ABE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BCE16-AC2E-43E8-A15C-F6448A686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E539F-84D4-49A3-B7E3-38DB581989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ondbewerk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ch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andrijving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rekker + aftak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 assi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2 assi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u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finrich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itieregeling: vast: kunstmeststroo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weefstand: oneffenheden gro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erstandregeling: ploe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ngregeling: (positie + weerstan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rken met mach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anbouwen: positierege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port: veiligheid (stabilisatiesta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isafstelling: bedrijfsklaar ma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derhou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gelijk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tnipp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rkende de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kelij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 snaren, kettingen, tandwielen, bou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ijwijz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3119400" y="1197000"/>
            <a:ext cx="2990880" cy="5661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ch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Fre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pitmach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ultiva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oel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chijvene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loe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e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+ multifunctione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(onkruid, spitten gras en mest, zaaib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INPUNT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terke verkruimel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ersme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erslemp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freesz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250920" y="2060640"/>
            <a:ext cx="4286160" cy="32097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itmach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vere klui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en freesz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457200" y="1982880"/>
            <a:ext cx="4038480" cy="37605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chude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iet in groen gebruik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395280" y="242100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rotorkope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Zaai en plantklaar mak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galiseren grasve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Niet te lichte grond ivm verkruime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242100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arom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orende lagen doorbre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uctuurverbete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 bemesting: meer organische st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aai of plantbed ma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strijden onkru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chijvene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kruid bestrij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de plantenresten me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162864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68360" y="162864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68360" y="237636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ultiva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breken gro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kruid lostrek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ppels lostrek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aaib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2421000"/>
            <a:ext cx="4643280" cy="30891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woel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nd diep lostrek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30 -70 c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PUN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nd losser, natter, minder draagkrac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2181240"/>
            <a:ext cx="4716360" cy="35384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mbridge rol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uwelijks gebruik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ladde en getande ri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68360" y="162864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68360" y="162864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755640" y="1844640"/>
            <a:ext cx="3809880" cy="28576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llen: vorenpakk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ware ri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nd licht aandruk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611280" y="2133720"/>
            <a:ext cx="3333600" cy="25146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e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derspitten gew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mzetten toplaa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68360" y="3068640"/>
            <a:ext cx="3800520" cy="27716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hankelijk van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ndsoort + draagkracht bod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jdst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ld en tij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otte terre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reikbaarheid terre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epte grondbewer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ondsoort/draagkrach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leigrond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terk verkruimelen voor goed zaaib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andgrond/zavelgrond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iet te sterk verkruimelen in verband m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rslemping en verstui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jdstip + we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lei: najaar (kapotvriezen kluite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and: voorjaar (verslempi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egen: dichtrijden gro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 morgens: meer vocht: onkruid groeit do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roge grond: slecht te bewer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jd/ge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 op: te ondiepe grondbewerk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er kans op verdroging en/of verzuip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ootte + bereikbaarheid terre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 m2 of 10.000m2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uwland of achter een huis met he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epte grondbewerk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30 cm storende laa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 mengen grondla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lt;30 cm: bouwvoor beluch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lt;10 cm: zaaibed klaarma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lt;5 cm: onkruid bestrij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ndgereedsch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eksch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ee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ltiva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k / schrep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off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30T06:11:42Z</dcterms:created>
  <dc:creator>johan</dc:creator>
  <dc:description/>
  <dc:language>en-US</dc:language>
  <cp:lastModifiedBy>johan</cp:lastModifiedBy>
  <dcterms:modified xsi:type="dcterms:W3CDTF">2009-07-10T14:18:20Z</dcterms:modified>
  <cp:revision>5</cp:revision>
  <dc:subject/>
  <dc:title>grondbewerking</dc:title>
</cp:coreProperties>
</file>