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D0D-5CA1-469A-A1DA-D8F806EF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277-FCAB-4BD0-A96E-EE09364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FA7-D4E2-4DA1-B938-31B843D5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1F5-1182-4E2D-93A9-9DC8B0BC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953-4F67-40B4-A314-450A26A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72F-1546-4C62-A358-9AC2E55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F7F-4FB9-464B-BB56-3509AD0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A2B-6A8F-487F-BE5F-ACBF68F5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3F5-DF82-41B4-B149-15E2E078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EAC-6B6E-4DBC-8DA4-DC17DDB6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5CB-A081-4366-A523-A9E13D1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A80-CC27-4523-A530-127A1EE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1B37-586D-4B59-BCD2-E7127BE2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lopen (ganze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aaien of 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h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 plantgat g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l op zuid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 (op juiste diep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ven een vuist afstand, onder een vo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 dichtg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 aan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1 kant in de sleuf z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beide zijden in de 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272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26:47Z</dcterms:created>
  <dc:creator>johan</dc:creator>
  <dc:description/>
  <dc:language>en-US</dc:language>
  <cp:lastModifiedBy>johan</cp:lastModifiedBy>
  <dcterms:modified xsi:type="dcterms:W3CDTF">2008-09-14T08:31:18Z</dcterms:modified>
  <cp:revision>2</cp:revision>
  <dc:subject/>
  <dc:title>Planten volgens het boekje</dc:title>
</cp:coreProperties>
</file>