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47F0-AE25-456A-BAAD-E2805913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BA98-45F7-4569-8B32-8672AE11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89FB-16D9-49E2-92F6-9CF5AFD5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0642-123E-44D2-A1DF-092BCE89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4853-5842-4A70-AF8E-9FC8A43E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58F4-D0FB-4CD0-BF99-3B528DFE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8730-E650-4568-A115-CC060CC3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5E78-EA3C-45C4-B617-36AED77F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ABB7-7A9C-4BEE-BC0F-F08DFE74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4471-9733-4A2C-8CDD-45031299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D50E-BCCC-4BE0-8EF8-A355C42C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57A7-0811-4CD3-A461-530799C1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4146-C31A-43AE-B2B9-40CFFFB5954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planten van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llende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bomen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105000"/>
            <a:ext cx="5003640" cy="375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18464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ere metho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go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1312920"/>
            <a:ext cx="72723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goed / 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d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gens het boek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erenkool” me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orb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planten bosplantso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152360"/>
            <a:ext cx="8748720" cy="603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8389800" y="1722600"/>
          <a:ext cx="185760" cy="12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9800" y="1722600"/>
                    <a:ext cx="185760" cy="1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plan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1192320"/>
            <a:ext cx="842472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10:38:37Z</dcterms:created>
  <dc:creator>Johan</dc:creator>
  <dc:description/>
  <dc:language>en-US</dc:language>
  <cp:lastModifiedBy>Johan</cp:lastModifiedBy>
  <dcterms:modified xsi:type="dcterms:W3CDTF">2006-08-09T17:32:03Z</dcterms:modified>
  <cp:revision>5</cp:revision>
  <dc:subject/>
  <dc:title>Het planten van planten</dc:title>
</cp:coreProperties>
</file>