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2A31-A910-411D-BFD7-4217727F6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8F4F-E7A0-4F20-86A6-E53588A4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C6A9-9C57-4D57-AE7C-0406F01DB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7502-3452-4473-A54F-1A0FC8CFF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59D3-EBAF-46E1-99A6-607F37EF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66EF-944F-44AD-AB35-D874BD6E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E44D-5EF0-4106-8FDA-260AB534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383C-5B1D-4B48-A90B-3772EAF0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C931-2DF4-43BE-846F-7D1601AD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6D5F-D5CB-41EE-847B-77E15EE9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7CF4-BC13-492D-9943-5A99D254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CC90-7A7C-4167-A726-FBA21BE0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9495-8CEE-466C-9BC2-D503CB78D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m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479600"/>
            <a:ext cx="597708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ond, lucht, water en bem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ijn belangrijke groeifacto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eer deze zo goed mogelij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 krijgen en te hou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echte grond en slechte bemesting zorgen voor slecht groeiende plan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arnaast wordt de plant veel gevoeliger voor ziekten en plagen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t in aanle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465280" y="1125360"/>
            <a:ext cx="42991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ofdelemente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PK (warme maaltij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, Mg, S (ontbijt + lun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orenelement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, Mn, Cl,B, Mo,Cu,Zn (fruit, koekj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stikstof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e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    fosfor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ortel + afrijping vru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    kali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vige celwa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  kalk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lwand+ waterop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g  magnesium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adgr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    zwavel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maak van eiw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neer strooi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ve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e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N                                    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                                       P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3456000" cy="2884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940360" y="1197000"/>
            <a:ext cx="3203640" cy="2617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476360" y="4149720"/>
            <a:ext cx="3456000" cy="2860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012000" y="4005360"/>
            <a:ext cx="31320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H of zuurgra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+    (zuur)        (pH &lt;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H-   (basisch)  (pH &gt;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2O (neutraal)   (pH = 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lk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pH omhoog (minder zuu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urf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pH omlaag (zuurdere gro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/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2311560"/>
            <a:ext cx="914400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rgelijking tussen organische en anorganische meststoffen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rganisch: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oorbeel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oeiepoep, compost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Langzaamwerkend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lle elementen  zitten er in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oed voor bodemleven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Moeilijk te verwerken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oedkoop in aanschaf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organ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unstmest N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nelwerk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gecoat = langzaam werkend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kele elemen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tteloos voor bodeml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kelijk verwerkb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ets duurder in aansch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8T19:27:18Z</dcterms:created>
  <dc:creator>johan</dc:creator>
  <dc:description/>
  <dc:language>en-US</dc:language>
  <cp:lastModifiedBy>johan</cp:lastModifiedBy>
  <dcterms:modified xsi:type="dcterms:W3CDTF">2008-08-27T18:08:12Z</dcterms:modified>
  <cp:revision>7</cp:revision>
  <dc:subject/>
  <dc:title>Bemesting</dc:title>
</cp:coreProperties>
</file>