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E6CF-2885-4237-9BBD-1BF7C996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ED63-568D-49FE-AD6F-E4FF42F4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C06-FC2F-46A4-9EB7-D8ECCE05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D52A-CD59-4BFC-ACCF-A433CAA1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A560-CFAF-42F5-AB4E-63F56841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1D95-5B3C-4DD3-B264-AD8FF26F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A848-B47A-4773-89B9-E990B865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0625-C700-4100-9842-FCFC1209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C407-092B-42D5-8E68-6D87F871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47E6-5DF5-464E-98C1-21E1F70B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F992-016E-44C1-AAE3-B11C7141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3D9-F8F4-4477-8996-1E5B36CE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26E6-69D8-4890-ABA2-87B810FE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BCA0-4502-411C-ADFA-79F72C53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B10F-7066-4635-93F8-27061945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8590-90D6-49B1-B2C3-642ECCA6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06F0-ED44-461B-8A26-D3A2EA7B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ABA-9E84-4107-B792-E38F25AD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3E2-D2CF-4F67-BE64-B31D1A58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1411-D6AD-4D68-9FC0-4AD28957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258B-FEC7-4D2D-88E1-A6A86666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3B8C-F07C-42F6-9DBF-681ABF1C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0504-E9D7-49CC-B209-849C241B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439-0AAD-4391-AB6D-5B52D2ED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9666-6447-4292-81B6-D89821B059C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1BBF-F723-4159-AAF0-272088C3F5A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termineren van grass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chema%20plant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3200400" cy="6324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9480" y="990720"/>
            <a:ext cx="4648320" cy="45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chematische weergave van een graspla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erkenningspunten gr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ongetj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ortj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prui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itloper / Polvorm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oop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lad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loeiwijz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ongetj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98400" y="2819520"/>
            <a:ext cx="38102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leu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ng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tong" descr=""/>
          <p:cNvPicPr/>
          <p:nvPr/>
        </p:nvPicPr>
        <p:blipFill>
          <a:blip r:embed="rId1"/>
          <a:stretch/>
        </p:blipFill>
        <p:spPr>
          <a:xfrm>
            <a:off x="4722840" y="1665360"/>
            <a:ext cx="3684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ortje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400" y="3124080"/>
            <a:ext cx="381024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itsteeksels aan bladba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haard/onbeha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oortje" descr=""/>
          <p:cNvPicPr/>
          <p:nvPr/>
        </p:nvPicPr>
        <p:blipFill>
          <a:blip r:embed="rId1"/>
          <a:stretch/>
        </p:blipFill>
        <p:spPr>
          <a:xfrm>
            <a:off x="4660920" y="1994040"/>
            <a:ext cx="38098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rui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590560"/>
            <a:ext cx="381024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gste bl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rol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l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aaiing bl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spruit" descr=""/>
          <p:cNvPicPr/>
          <p:nvPr/>
        </p:nvPicPr>
        <p:blipFill>
          <a:blip r:embed="rId1"/>
          <a:stretch/>
        </p:blipFill>
        <p:spPr>
          <a:xfrm>
            <a:off x="4660920" y="2170080"/>
            <a:ext cx="380988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lvormer of uitlop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poluitloper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noop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8400" y="2971440"/>
            <a:ext cx="38102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dikkingen van de steng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lad / beha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rtelvor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knoop" descr=""/>
          <p:cNvPicPr/>
          <p:nvPr/>
        </p:nvPicPr>
        <p:blipFill>
          <a:blip r:embed="rId1"/>
          <a:stretch/>
        </p:blipFill>
        <p:spPr>
          <a:xfrm>
            <a:off x="5075280" y="1665360"/>
            <a:ext cx="297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lad en bladsche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437920"/>
            <a:ext cx="341640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l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ladsched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leu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warsverbinding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aal / dicht behaa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blad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4038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Bloeiwijz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971440"/>
            <a:ext cx="3873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argrasse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arpluimgrass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uimgrass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kenmerkengras1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581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2:07:50Z</dcterms:created>
  <dc:creator>Ellis Aardema</dc:creator>
  <dc:description/>
  <dc:language>en-US</dc:language>
  <cp:lastModifiedBy>Ellis Aardema</cp:lastModifiedBy>
  <dcterms:modified xsi:type="dcterms:W3CDTF">2004-11-28T19:09:54Z</dcterms:modified>
  <cp:revision>4</cp:revision>
  <dc:subject/>
  <dc:title>PowerPoint-presentatie</dc:title>
</cp:coreProperties>
</file>