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913-1174-4811-8B80-8270256F6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579-826B-42EB-8D09-5D99490D1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85CF-C7A1-4053-AB79-56424B8E0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6821-A035-4250-8ED8-BBC7E4593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F1174-CBFE-4BBF-B241-CDEA6B37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34F79-6F4D-40AB-AF76-FD4E765F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B7572-ADBB-4E47-A4D9-0EB70E4F8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6BF8C-B561-458C-8C7C-CB0DAF5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CD45-57FF-49C5-8E2C-323EA6794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620A-AE40-44A1-9671-8E618D303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9149-3D04-435E-AE66-FA8C8E6C9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D2AF2-367F-4F2A-95D9-567226C52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433D7-9D8B-4107-AA6F-39772E124B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mes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479600"/>
            <a:ext cx="5977080" cy="530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out in aanleg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465280" y="1125360"/>
            <a:ext cx="4299120" cy="57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ofdelemente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PK (warme maaltij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, Mg, S (ontbijt + lun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porenelement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e, Mn, Cl,B, Mo,Cu,Zn (fruit, koekje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erk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stikstof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e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P    fosfor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ortel + afrijping vruc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    kali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tevige celwan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a  kalk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elwand+ wateropna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Mg  magnesium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ladgro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    zwavel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anmaak van eiw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nneer strooi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e vee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brek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N                                    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                                        P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476360" y="1125360"/>
            <a:ext cx="3456000" cy="28846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940360" y="1197000"/>
            <a:ext cx="3203640" cy="26179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1476360" y="4149720"/>
            <a:ext cx="3456000" cy="28605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4"/>
          <a:stretch/>
        </p:blipFill>
        <p:spPr>
          <a:xfrm>
            <a:off x="6012000" y="4005360"/>
            <a:ext cx="313200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H of zuurgra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+    (zuur)        (pH &l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OH-   (basisch)  (pH &gt;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H2O (neutraal)   (pH = 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alk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hoog (minder zuu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Turf </a:t>
            </a:r>
            <a:r>
              <a:rPr b="0" lang="nl-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pH omlaag (zuurdere gro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/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311560"/>
            <a:ext cx="9144000" cy="30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Vergelijking tussen organische en anorganische meststoffen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Organisch: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Voorbeel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Koeiepoep, compost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Langzaamwerkend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Alle elementen  zitten er in 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 voor bodemlev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Moeilijk te verwerken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Goedkoop in aanschaf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organis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Kunstmest NP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nelwerk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gecoat = langzaam werkend)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nkele element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utteloos voor bodemlev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kelijk verwerkba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ets duurder in aansch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8T19:27:18Z</dcterms:created>
  <dc:creator>johan</dc:creator>
  <dc:description/>
  <dc:language>en-US</dc:language>
  <cp:lastModifiedBy>johan</cp:lastModifiedBy>
  <dcterms:modified xsi:type="dcterms:W3CDTF">2008-08-27T18:08:12Z</dcterms:modified>
  <cp:revision>7</cp:revision>
  <dc:subject/>
  <dc:title>Bemesting</dc:title>
</cp:coreProperties>
</file>