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E087-BAEF-4F2C-92C1-743BAABE6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EA41-E0F5-48DA-A1B5-EB2B4F2B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9DEA-FD64-43A8-9087-7D49D2454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C024-6947-4D5E-A40F-429EA644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D3D4-485F-4672-B230-098C8E8F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9CE3-3040-4E78-B1D7-2EC378B72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ADE3-4362-4B42-AD9F-10AC47C2B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1B5F-C542-4296-9A1E-B4DA95B0D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EFB4-2270-410E-9AFC-D993C7FBD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5998-3AE4-442E-AC7E-458F795EC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BEEC-1801-468A-A926-67029CBB8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4B0A-65CC-45A4-AA17-CCE547D6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1D817-AF1B-4F12-AF28-BB3F107FCED5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rondbe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chillende manier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it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03120" y="1198440"/>
            <a:ext cx="84456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e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0000" y="132228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 kan wat in de grond zitte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bes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de grana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 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575320" y="1566720"/>
            <a:ext cx="2597040" cy="19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76720" y="4005360"/>
            <a:ext cx="237492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abels en leidin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l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aarom grondbewerk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te 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aina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042920" y="1481040"/>
            <a:ext cx="6624720" cy="467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rde 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eer l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etere beworte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fwat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ndmat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4280" y="1413000"/>
            <a:ext cx="3835440" cy="5445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5219640" y="1341360"/>
            <a:ext cx="363528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nikra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116000" y="1271520"/>
            <a:ext cx="741672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-114480"/>
            <a:ext cx="9906120" cy="742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26920" y="1106640"/>
            <a:ext cx="7667640" cy="57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uinfre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00000" y="1109520"/>
            <a:ext cx="763272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14:57:20Z</dcterms:created>
  <dc:creator>Johan</dc:creator>
  <dc:description/>
  <dc:language>en-US</dc:language>
  <cp:lastModifiedBy>johan</cp:lastModifiedBy>
  <dcterms:modified xsi:type="dcterms:W3CDTF">2008-08-27T17:05:06Z</dcterms:modified>
  <cp:revision>5</cp:revision>
  <dc:subject/>
  <dc:title>grondbewerking</dc:title>
</cp:coreProperties>
</file>