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4F1A-B8D5-4E64-8E73-0B44E7698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F407-BBCF-462F-974F-059899E55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944-D65E-41E5-82C2-92E14544C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4D4D3-4A57-455B-9808-3CB86664C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BDDF1-7F9C-4F53-9E95-3ECDD845A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DA719-7FF9-4910-B9C0-EC3D9D793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11018-53B2-4D77-8C60-00902FD62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FD6F2-3109-489F-87CF-D54B56A1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BE241-A729-4BBA-AAD9-377E76BB9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1930C-8AB5-40FE-9001-B8EA680A1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FAE66-ED9A-4E5A-BBDA-881DE395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9BB9-09C4-4186-AFE2-C25ACF93F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E9B15-7707-414F-BA35-74F8600E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228A6-9E82-434C-BFCD-CCF1AC04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27985-6870-4308-BD76-DA9B21521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3E1F4-0E30-4D12-A0D3-F5271A0077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02719-73AB-42D8-8701-CF814705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4B6C-87F2-4A61-A2BD-2A77E969B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F342-D80B-4F87-9E9A-0BD3EC01F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284-8B53-4A1D-A0F6-083B8246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CBF2E-68A5-4FCA-81BA-0B26BBDFA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BFDC-8E57-4128-939C-FB008E788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059C-BEDE-421E-B645-1B854D914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DD89-E0F5-4F84-8D78-123DC8F56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7C56B-1513-4B93-8075-2AAC655CA44E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524CB-FC40-416F-AE75-C0FEC53FC86A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212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etermineren van grass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schema%20plant" descr=""/>
          <p:cNvPicPr/>
          <p:nvPr/>
        </p:nvPicPr>
        <p:blipFill>
          <a:blip r:embed="rId1"/>
          <a:stretch/>
        </p:blipFill>
        <p:spPr>
          <a:xfrm>
            <a:off x="5715000" y="304920"/>
            <a:ext cx="3200400" cy="63244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609480" y="990720"/>
            <a:ext cx="4648320" cy="45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chematische weergave van een grasplant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erkenningspunten gra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Tongetj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Oortj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prui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itloper / Polvorm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Knoop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lad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Bloeiwijze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ongetj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98400" y="2819520"/>
            <a:ext cx="3810240" cy="29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leu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ngt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orm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tong" descr=""/>
          <p:cNvPicPr/>
          <p:nvPr/>
        </p:nvPicPr>
        <p:blipFill>
          <a:blip r:embed="rId1"/>
          <a:stretch/>
        </p:blipFill>
        <p:spPr>
          <a:xfrm>
            <a:off x="4722840" y="1665360"/>
            <a:ext cx="3684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Oortje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98400" y="3124080"/>
            <a:ext cx="3810240" cy="26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itsteeksels aan bladbasi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haard/onbeha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1" name="oortje" descr=""/>
          <p:cNvPicPr/>
          <p:nvPr/>
        </p:nvPicPr>
        <p:blipFill>
          <a:blip r:embed="rId1"/>
          <a:stretch/>
        </p:blipFill>
        <p:spPr>
          <a:xfrm>
            <a:off x="4660920" y="1994040"/>
            <a:ext cx="380988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prui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2590560"/>
            <a:ext cx="381024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Jongste bl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erol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la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Draaiing bl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4" name="spruit" descr=""/>
          <p:cNvPicPr/>
          <p:nvPr/>
        </p:nvPicPr>
        <p:blipFill>
          <a:blip r:embed="rId1"/>
          <a:stretch/>
        </p:blipFill>
        <p:spPr>
          <a:xfrm>
            <a:off x="4660920" y="2170080"/>
            <a:ext cx="3809880" cy="31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Polvormer of uitlop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16" name="poluitloper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noop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98400" y="2971440"/>
            <a:ext cx="381024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Verdikkingen van de steng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Glad / behaar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wortelvorm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9" name="knoop" descr=""/>
          <p:cNvPicPr/>
          <p:nvPr/>
        </p:nvPicPr>
        <p:blipFill>
          <a:blip r:embed="rId1"/>
          <a:stretch/>
        </p:blipFill>
        <p:spPr>
          <a:xfrm>
            <a:off x="5075280" y="1665360"/>
            <a:ext cx="297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lad en bladsched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2437920"/>
            <a:ext cx="3416400" cy="33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lad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ladschede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leu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Dwarsverbindinge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Kaal / dicht behaar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blad" descr=""/>
          <p:cNvPicPr/>
          <p:nvPr/>
        </p:nvPicPr>
        <p:blipFill>
          <a:blip r:embed="rId1"/>
          <a:stretch/>
        </p:blipFill>
        <p:spPr>
          <a:xfrm>
            <a:off x="4800600" y="1447920"/>
            <a:ext cx="40384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cc66"/>
                </a:solidFill>
                <a:latin typeface="Times New Roman"/>
              </a:rPr>
              <a:t>Bloeiwijz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98400" y="2971440"/>
            <a:ext cx="3873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argrassen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arpluimgrass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luimgrassen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5" name="kenmerkengras1" descr=""/>
          <p:cNvPicPr/>
          <p:nvPr/>
        </p:nvPicPr>
        <p:blipFill>
          <a:blip r:embed="rId1"/>
          <a:stretch/>
        </p:blipFill>
        <p:spPr>
          <a:xfrm>
            <a:off x="4876920" y="1752480"/>
            <a:ext cx="3581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27T12:07:50Z</dcterms:created>
  <dc:creator>Ellis Aardema</dc:creator>
  <dc:description/>
  <dc:language>en-US</dc:language>
  <cp:lastModifiedBy>Ellis Aardema</cp:lastModifiedBy>
  <dcterms:modified xsi:type="dcterms:W3CDTF">2004-11-28T19:09:54Z</dcterms:modified>
  <cp:revision>4</cp:revision>
  <dc:subject/>
  <dc:title>PowerPoint-presentatie</dc:title>
</cp:coreProperties>
</file>