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5.jpeg" ContentType="image/jpeg"/>
  <Override PartName="/ppt/media/image26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media/image2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1B8E-9DB2-4A9C-B30B-9239FE994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9BB-04DB-482E-BDBA-D7B8FAB0F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2C8AF-B8BD-4DC3-B44B-7A80632DF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6366-C3E7-40EC-9444-8A49C0AF5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004A-2671-4EC5-BCA3-2F2EA80A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5029-BFDF-47EC-A26B-4390E4C95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104F-FC89-4848-AC16-C1E3010C0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583D-AB41-4F7D-83CF-BDFE3F02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BC69-4B1E-4114-A477-CCF97081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3AF3F-6380-496B-86F7-4765EF713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06B9-76CC-440F-A0CC-14EAFDAB9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11A1-B5AB-4C17-B569-F22C1F296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4FFB-1AF5-4D61-90C0-9EACCA62EF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1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as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week Hendri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Voorbereiding"/>
          <p:cNvPicPr/>
          <p:nvPr/>
        </p:nvPicPr>
        <p:blipFill>
          <a:blip r:embed="rId1"/>
          <a:stretch/>
        </p:blipFill>
        <p:spPr>
          <a:xfrm>
            <a:off x="2360520" y="4083120"/>
            <a:ext cx="6783480" cy="27748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Aanleggen"/>
          <p:cNvPicPr/>
          <p:nvPr/>
        </p:nvPicPr>
        <p:blipFill>
          <a:blip r:embed="rId2"/>
          <a:stretch/>
        </p:blipFill>
        <p:spPr>
          <a:xfrm>
            <a:off x="0" y="189000"/>
            <a:ext cx="7812000" cy="31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Queens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erse maten leverba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40 en 6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te leg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verse grassoo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4500720" cy="35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okzod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or oevers/talu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619280" y="2349360"/>
            <a:ext cx="7524720" cy="45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sla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5292720" y="3645000"/>
            <a:ext cx="3597120" cy="321444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ngte tot 50 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eedte 50 – 100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nad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der rugklach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4643280" cy="33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kte 2 - 4 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nel bespeel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4643280" y="1628640"/>
            <a:ext cx="4500720" cy="3630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0" y="3871800"/>
            <a:ext cx="4500720" cy="29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demping: Tot 3 me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droog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as kan tegen veel betre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anleg bump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211640" cy="27176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5003640" y="1197000"/>
            <a:ext cx="4140360" cy="274320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0" y="4013280"/>
            <a:ext cx="4211640" cy="2844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5076720" y="4024440"/>
            <a:ext cx="4067280" cy="28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                      </a:t>
            </a: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Xtra g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woon maaiba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evi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atselijk te gebrui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100320" cy="30495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3162240"/>
            <a:ext cx="45007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pkw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Telen"/>
          <p:cNvPicPr/>
          <p:nvPr/>
        </p:nvPicPr>
        <p:blipFill>
          <a:blip r:embed="rId1"/>
          <a:stretch/>
        </p:blipFill>
        <p:spPr>
          <a:xfrm>
            <a:off x="0" y="1268280"/>
            <a:ext cx="5940360" cy="2430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Telen"/>
          <p:cNvPicPr/>
          <p:nvPr/>
        </p:nvPicPr>
        <p:blipFill>
          <a:blip r:embed="rId2"/>
          <a:stretch/>
        </p:blipFill>
        <p:spPr>
          <a:xfrm>
            <a:off x="1908000" y="3897360"/>
            <a:ext cx="7236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Faciliteiten"/>
          <p:cNvPicPr/>
          <p:nvPr/>
        </p:nvPicPr>
        <p:blipFill>
          <a:blip r:embed="rId1"/>
          <a:stretch/>
        </p:blipFill>
        <p:spPr>
          <a:xfrm>
            <a:off x="1835280" y="3867120"/>
            <a:ext cx="7308720" cy="2990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Telen"/>
          <p:cNvPicPr/>
          <p:nvPr/>
        </p:nvPicPr>
        <p:blipFill>
          <a:blip r:embed="rId2"/>
          <a:stretch/>
        </p:blipFill>
        <p:spPr>
          <a:xfrm>
            <a:off x="0" y="0"/>
            <a:ext cx="6877080" cy="28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ogs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Oogsten"/>
          <p:cNvPicPr/>
          <p:nvPr/>
        </p:nvPicPr>
        <p:blipFill>
          <a:blip r:embed="rId1"/>
          <a:stretch/>
        </p:blipFill>
        <p:spPr>
          <a:xfrm>
            <a:off x="0" y="1197000"/>
            <a:ext cx="5867280" cy="2400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Oogsten"/>
          <p:cNvPicPr/>
          <p:nvPr/>
        </p:nvPicPr>
        <p:blipFill>
          <a:blip r:embed="rId2"/>
          <a:stretch/>
        </p:blipFill>
        <p:spPr>
          <a:xfrm>
            <a:off x="3728880" y="4365720"/>
            <a:ext cx="541512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Oogsten"/>
          <p:cNvPicPr/>
          <p:nvPr/>
        </p:nvPicPr>
        <p:blipFill>
          <a:blip r:embed="rId1"/>
          <a:stretch/>
        </p:blipFill>
        <p:spPr>
          <a:xfrm>
            <a:off x="0" y="189000"/>
            <a:ext cx="7667640" cy="313524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Oogsten"/>
          <p:cNvPicPr/>
          <p:nvPr/>
        </p:nvPicPr>
        <p:blipFill>
          <a:blip r:embed="rId2"/>
          <a:stretch/>
        </p:blipFill>
        <p:spPr>
          <a:xfrm>
            <a:off x="2843280" y="3860640"/>
            <a:ext cx="6300720" cy="25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Expeditie"/>
          <p:cNvPicPr/>
          <p:nvPr/>
        </p:nvPicPr>
        <p:blipFill>
          <a:blip r:embed="rId1"/>
          <a:stretch/>
        </p:blipFill>
        <p:spPr>
          <a:xfrm>
            <a:off x="0" y="1197000"/>
            <a:ext cx="5219640" cy="2135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Expeditie"/>
          <p:cNvPicPr/>
          <p:nvPr/>
        </p:nvPicPr>
        <p:blipFill>
          <a:blip r:embed="rId2"/>
          <a:stretch/>
        </p:blipFill>
        <p:spPr>
          <a:xfrm>
            <a:off x="4500720" y="3387600"/>
            <a:ext cx="4643280" cy="190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Expeditie"/>
          <p:cNvPicPr/>
          <p:nvPr/>
        </p:nvPicPr>
        <p:blipFill>
          <a:blip r:embed="rId3"/>
          <a:stretch/>
        </p:blipFill>
        <p:spPr>
          <a:xfrm>
            <a:off x="0" y="5016600"/>
            <a:ext cx="4500720" cy="184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Faciliteiten"/>
          <p:cNvPicPr/>
          <p:nvPr/>
        </p:nvPicPr>
        <p:blipFill>
          <a:blip r:embed="rId1"/>
          <a:stretch/>
        </p:blipFill>
        <p:spPr>
          <a:xfrm>
            <a:off x="0" y="1666800"/>
            <a:ext cx="9325080" cy="381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g ro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Hendriks Super Big Roll"/>
          <p:cNvPicPr/>
          <p:nvPr/>
        </p:nvPicPr>
        <p:blipFill>
          <a:blip r:embed="rId1"/>
          <a:stretch/>
        </p:blipFill>
        <p:spPr>
          <a:xfrm>
            <a:off x="0" y="1268280"/>
            <a:ext cx="5761080" cy="23576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Hendriks Super Big Roll"/>
          <p:cNvPicPr/>
          <p:nvPr/>
        </p:nvPicPr>
        <p:blipFill>
          <a:blip r:embed="rId2"/>
          <a:stretch/>
        </p:blipFill>
        <p:spPr>
          <a:xfrm>
            <a:off x="1763640" y="3789360"/>
            <a:ext cx="7380360" cy="308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orbereiding aanl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sen van de oude gras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Voorbereiding"/>
          <p:cNvPicPr/>
          <p:nvPr/>
        </p:nvPicPr>
        <p:blipFill>
          <a:blip r:embed="rId1"/>
          <a:stretch/>
        </p:blipFill>
        <p:spPr>
          <a:xfrm>
            <a:off x="0" y="1989000"/>
            <a:ext cx="4716360" cy="19306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Voorbereiding"/>
          <p:cNvPicPr/>
          <p:nvPr/>
        </p:nvPicPr>
        <p:blipFill>
          <a:blip r:embed="rId2"/>
          <a:stretch/>
        </p:blipFill>
        <p:spPr>
          <a:xfrm>
            <a:off x="0" y="4521240"/>
            <a:ext cx="471636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1T15:17:19Z</dcterms:created>
  <dc:creator>johan</dc:creator>
  <dc:description/>
  <dc:language>en-US</dc:language>
  <cp:lastModifiedBy>johan</cp:lastModifiedBy>
  <dcterms:modified xsi:type="dcterms:W3CDTF">2009-02-19T08:50:31Z</dcterms:modified>
  <cp:revision>3</cp:revision>
  <dc:subject/>
  <dc:title>graszoden</dc:title>
</cp:coreProperties>
</file>