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2459-44DC-40D4-B6E1-877730F63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42F9-CB7C-4F77-8AC0-84786610A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35A05-DFA5-4CBD-A5CF-EBB67453F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E41-C7FE-4864-9A30-BCA3C73B4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7047-EBE9-43B6-9E32-04AAA0CB2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7EE9D-5792-40E4-B094-33EEC1678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D801-0F56-4AC4-A7EE-B4D82A3DD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D0CC-1FAF-48E9-B61E-C08CDF1CE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4AEE-C39D-4719-A57C-D83440E3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4AF9C-B461-45A6-B7A5-990D75E85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DC1A-1504-41D2-8F17-F05412537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83E3-DBE0-4398-91B9-07FD0D7C2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6063-5746-4B9F-B759-C5BA75E424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waliteit plantmateria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en op 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kweken uit z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 één groeijaar ("1+0") geroo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erplanten, wederom gerooid. in het vakjargon "1+1". (2 jaar ou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pgeplant voor twee jaar (is dus 3 jaar oud), wordt dan gerooid, gesorteerd en verkocht, dit is de "1+2"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dering (internationaal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203480"/>
            <a:ext cx="8604360" cy="56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703520"/>
            <a:ext cx="914400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581328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459080" y="0"/>
            <a:ext cx="5513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411200" y="0"/>
            <a:ext cx="5811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aste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7 x 7 (P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 x 9 (P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Liter (C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ome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2-14 (stamomtrek op 1m hoog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4-1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16:04:29Z</dcterms:created>
  <dc:creator>johan</dc:creator>
  <dc:description/>
  <dc:language>en-US</dc:language>
  <cp:lastModifiedBy>johan</cp:lastModifiedBy>
  <dcterms:modified xsi:type="dcterms:W3CDTF">2009-06-12T09:28:42Z</dcterms:modified>
  <cp:revision>4</cp:revision>
  <dc:subject/>
  <dc:title>Kwaliteit plantmateriaal</dc:title>
</cp:coreProperties>
</file>