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1189-0A1A-4AC7-853E-9005710C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338E-2AF2-4C24-B991-806FD41D2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DA2F-7033-4638-8CDE-AE13A83DE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F178-1CD5-4DD4-A2B4-79520034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4451-7743-4FB0-A720-3532A72E2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35EA-BE55-460B-A81A-3566FF58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4376-C513-4528-B87E-5B84E0F1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D36B-9395-49BE-93DE-6E5BF8AD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6038-C752-416B-A222-88B504C7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5FC0-E910-4B16-BC19-52C0B540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BF11-6FA8-4513-B5AC-C37337E2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BAAE-976D-471C-9F7F-58735E96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BF2E-FA5C-43A4-89A6-8DEEB4F8A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ndbe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drijv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ker + aft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ass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ass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finrich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eregeling: vast: kunstmeststroo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eefstand: oneffenheden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rstandregeling: plo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regeling: (positie + weerst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en met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bouwen: positiereg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: veiligheid (stabilisatiesta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afstelling: bedrijfsklaar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gelij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nipp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kelij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snaren, kettingen, tandwielen, bou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jwij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119400" y="1197000"/>
            <a:ext cx="2990880" cy="5661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t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ul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e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jven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o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+ multifuncti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onkruid, spitten gras en mest, zaai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PUN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erke verkruime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m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lem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reesz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286160" cy="3209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t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vere klu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freesz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982880"/>
            <a:ext cx="4038480" cy="376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ud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in groen gebru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otorkop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aai en plantklaar ma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galiseren grasv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te lichte grond ivm verkruim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nde lagen doorbr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urverbe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bemesting: meer organische 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ai of plantbed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rijden on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ijven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kruid bestrij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de plantenresten m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2376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iv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breken gr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kruid los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pels los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a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643280" cy="3089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oe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diep los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0 -70 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P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losser, natter, minder draagkr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2181240"/>
            <a:ext cx="4716360" cy="353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bridge ro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uwelijks gebru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dde en getande 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len: vorenpak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ware 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licht aandru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333360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derspitten ge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zetten top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3800520" cy="277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hankelijk 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ndsoort + draagkracht bo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jdst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ld en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otte terr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ikbaarheid terr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pte grondbe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ndsoort/draagkra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gron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k verkruimelen voor goed zaai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ndgrond/zavelgron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te sterk verkruimelen in verband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emping en verstu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jdstip + w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: najaar (kapotvriezen klui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nd: voorjaar (verslem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n: dichtrijden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 morgens: meer vocht: onkruid groeit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oge grond: slecht te be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jd/g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op: te ondiepe grondbewerk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r kans op verdroging en/of verzui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otte + bereikbaarheid terr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2 of 10.000m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wland of achter een huis met h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pte grondbe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30 cm storende laa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engen gro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30 cm: bouwvoor belu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10 cm: zaaibed klaar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5 cm: onkruid bestrij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eksc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k / schre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ff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6:11:42Z</dcterms:created>
  <dc:creator>johan</dc:creator>
  <dc:description/>
  <dc:language>en-US</dc:language>
  <cp:lastModifiedBy>johan</cp:lastModifiedBy>
  <dcterms:modified xsi:type="dcterms:W3CDTF">2009-07-10T14:18:20Z</dcterms:modified>
  <cp:revision>5</cp:revision>
  <dc:subject/>
  <dc:title>grondbewerking</dc:title>
</cp:coreProperties>
</file>