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9E0A-8932-4B47-83FE-97A40C3344A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17781-E55C-484F-968F-9E92609D396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8910F-381A-4540-B5AD-D54C0B46F44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91150-798B-4A61-932F-9C395515081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55DF3-40FA-4CCF-BE98-5AF2D97D3FE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E8429-C55D-4CA9-9F6B-C2A1916C1398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F8580-1E79-47B1-AB8F-6FE7655D27F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95E87-3904-4B0C-A440-9EEDE1357E0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33E3-7992-4323-8585-EBBEB8E71AD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15A1-A269-4FA4-950E-FEC4E46FF2B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0705C-DAE4-4B5C-A83A-8237C3067ED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557FA-5582-4294-AD24-037D209ED215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35E8D-A98D-49B7-BA68-B843EF8ECD0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6D3F9-4986-494A-A5A2-D615E959040A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ACE6-E5D9-4241-AA26-AB95D58D7427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2D32-5078-4730-8D40-D39B754E11AE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CDB3F-77FC-40C1-9871-AE0765E71562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F647-09AE-4B1E-9037-8F97687A8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C4DC-E3EE-423A-AF88-00A20865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9735A-4047-4A10-81E0-7FCAD1034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29A2-D6A6-423F-B00A-2793FBB226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2E91-21FC-40EE-ACBE-D4D4DA157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8A8E-5BA8-4B8D-B1D0-52B09F7B5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4C07-E91B-489B-B37C-700C787E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13F8-7560-429F-B23E-1D500003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C429-9068-4BB6-AE8F-714D2862B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FC45-8976-437F-9AEA-BAF22E222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8B395-E93D-47CD-8E60-E0BB941A2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2E4DA-0D04-42A2-BA39-02FE4340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DAD2-52A2-41A2-9448-47FACDD0D387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grondbeginsel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et 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Grond, lucht, water en bem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zijn belangrijke groeifacto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Probeer deze zo goed mogelij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te krijgen en te houd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echte grond en slechte bemesting zorgen voor slecht groeiende plan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aarnaast wordt de plant veel gevoeliger voor ziekten en plagen!!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Inde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. Vaag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. Veen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C. Podzol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D. Brik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E. Eerd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aag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" descr="aug1"/>
          <p:cNvPicPr/>
          <p:nvPr/>
        </p:nvPicPr>
        <p:blipFill>
          <a:blip r:embed="rId1"/>
          <a:stretch/>
        </p:blipFill>
        <p:spPr>
          <a:xfrm>
            <a:off x="3056040" y="1197000"/>
            <a:ext cx="291924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odzol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aug"/>
          <p:cNvPicPr/>
          <p:nvPr/>
        </p:nvPicPr>
        <p:blipFill>
          <a:blip r:embed="rId1"/>
          <a:stretch/>
        </p:blipFill>
        <p:spPr>
          <a:xfrm>
            <a:off x="3152880" y="1197000"/>
            <a:ext cx="268128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Veen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6" descr="aug2"/>
          <p:cNvPicPr/>
          <p:nvPr/>
        </p:nvPicPr>
        <p:blipFill>
          <a:blip r:embed="rId1"/>
          <a:stretch/>
        </p:blipFill>
        <p:spPr>
          <a:xfrm>
            <a:off x="3033720" y="1197000"/>
            <a:ext cx="290844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rik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aug4"/>
          <p:cNvPicPr/>
          <p:nvPr/>
        </p:nvPicPr>
        <p:blipFill>
          <a:blip r:embed="rId1"/>
          <a:stretch/>
        </p:blipFill>
        <p:spPr>
          <a:xfrm>
            <a:off x="3092400" y="1197000"/>
            <a:ext cx="284976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Eerdgro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aug5"/>
          <p:cNvPicPr/>
          <p:nvPr/>
        </p:nvPicPr>
        <p:blipFill>
          <a:blip r:embed="rId1"/>
          <a:stretch/>
        </p:blipFill>
        <p:spPr>
          <a:xfrm>
            <a:off x="3171960" y="1197000"/>
            <a:ext cx="26953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Soor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Kle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Z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ö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Le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0000"/>
                </a:solidFill>
                <a:latin typeface="Arial"/>
              </a:rPr>
              <a:t>Wat is goede gro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De plant moet kunnen wortel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er mogen geen storende lagen in de grond zij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struktuur (goed waterdoorlaten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oede zuurgraad. (P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voeding. (bemesti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noeg organische stof / humu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eer sterk verteerde plantenrest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Bodemleven. (zet organische stof om in voor de plant opneembare del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Houdt de grond water en voeding vast? (Adsorptievermogen gron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Geen schadelijke stoffe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Arial"/>
              </a:rPr>
              <a:t>(zout, rioolslib, resten bestrijdingsmiddelen</a:t>
            </a: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m2 akkergrond, 20 cm di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Zwak humushoudende zandgr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Hierop groeien 3 kol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80.000 ring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00.000 springstaar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200.000 mij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500.000 Zweepdiertj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1.000.000 draad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Arial"/>
              </a:rPr>
              <a:t>4.000.000.000 bacteriën en schimm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nder 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liter aarde, 15 cm dikke weidegro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.551.00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infusie, zweep en wimperdiert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0.00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raadwor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20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pringstaar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4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duizendpo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5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lakk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regenwormen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weet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1 hand compost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meer levende wezens dan er mensen op aarde zijn!!!!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scan0001"/>
          <p:cNvPicPr/>
          <p:nvPr/>
        </p:nvPicPr>
        <p:blipFill>
          <a:blip r:embed="rId1"/>
          <a:stretch/>
        </p:blipFill>
        <p:spPr>
          <a:xfrm>
            <a:off x="1476360" y="0"/>
            <a:ext cx="5791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odemonderzoe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vengrondse onkrui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elen. (zacht of scherp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G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eworteling,  hoe diep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Bodemleven, regenworm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le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Plakt de grond? Organische st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arde lagen? (penetrom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ruimels, afgerond blokkig, scherp blokki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Korrelgrootte (zandlinia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Vocht, grondwaterst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Eventueel: Ph meting (lakmoespapi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PIM0161"/>
          <p:cNvPicPr/>
          <p:nvPr/>
        </p:nvPicPr>
        <p:blipFill>
          <a:blip r:embed="rId1"/>
          <a:stretch/>
        </p:blipFill>
        <p:spPr>
          <a:xfrm>
            <a:off x="1908000" y="0"/>
            <a:ext cx="5143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9T10:05:47Z</dcterms:created>
  <dc:creator>Johan</dc:creator>
  <dc:description/>
  <dc:language>en-US</dc:language>
  <cp:lastModifiedBy>Johan Schuppert</cp:lastModifiedBy>
  <cp:lastPrinted>2015-01-08T07:14:35Z</cp:lastPrinted>
  <dcterms:modified xsi:type="dcterms:W3CDTF">2015-01-08T07:15:44Z</dcterms:modified>
  <cp:revision>7</cp:revision>
  <dc:subject/>
  <dc:title>Bodem</dc:title>
</cp:coreProperties>
</file>