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AF2-1F56-45FA-80B7-FF73C425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F4B-1B92-455C-87DA-825FA608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13F-7BC4-481B-8F60-74A541AA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FB1-A255-4103-89D6-76FB1E0A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664-8FD8-4E47-8853-6353D01A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508-BE73-4020-B720-675B285B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59B-A156-4F9D-B7E8-DA93522B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790-EDC3-4FC8-AE2A-DACC665D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1D4-9340-429B-BADA-3FCF5514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179-487E-4028-A603-C3BC5F2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898-6287-4690-81F8-2FA373E4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65D-D013-4391-9AC2-B10895FB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3677-B159-40FE-959B-B5F43A9FA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lopen (ganzep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zaaien of 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ha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 plantgat g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l op zuid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 (op juiste diep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ven een vuist afstand, onder een vo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 dichtg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nd aan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n aan 1 kant in de sleuf z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n aan beide zijden in de 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273320"/>
            <a:ext cx="727236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8:26:47Z</dcterms:created>
  <dc:creator>johan</dc:creator>
  <dc:description/>
  <dc:language>en-US</dc:language>
  <cp:lastModifiedBy>johan</cp:lastModifiedBy>
  <dcterms:modified xsi:type="dcterms:W3CDTF">2008-09-14T08:31:18Z</dcterms:modified>
  <cp:revision>2</cp:revision>
  <dc:subject/>
  <dc:title>Planten volgens het boekje</dc:title>
</cp:coreProperties>
</file>