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F34-2468-4109-9F3E-B8329485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AF8-B0D6-497F-8073-6D64D420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761-3A54-4595-A196-709C6219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811-7354-47A3-ACAD-CC877E49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23D-D5CD-4F3C-96A3-6F1AA083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6E3-63B5-486B-B49E-3B086975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205-4B4A-4637-991A-0623ADD3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BEB-E31F-4297-B5EE-D80943CA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130-53C4-452A-8C5B-16E791B4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BFD-BB4F-44B1-BC69-ABC7C50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6A0-3F56-4C75-99FF-A14A9879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875-2B62-4C42-982C-9C3F3CF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4670-76B6-4FA4-B420-FC36BDBA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drijv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 + aft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finric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eregeling: vast: kunstmeststroo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efstand: oneffenhe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rstandregeling: plo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regeling: (positie + we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bouwen: positie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: veiligheid (stabilisatiesta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afstelling: bedrijfsklaar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elij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kelij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, kettingen, tandwielen, bou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wij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19400" y="1197000"/>
            <a:ext cx="299088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+ multifuncti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onkruid, spitten gras en mest, zaai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PU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rke verkruim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m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le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286160" cy="320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e klu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982880"/>
            <a:ext cx="4038480" cy="376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ud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 groen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orkop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ai en plantklaar m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asv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te lichte grond ivm verkruim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nde lagen doorb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verbe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bemesting: meer organisch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i of plantbed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rijden o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bestrij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plantenresten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brek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ls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8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diep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 -70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P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osser, natter, minder draag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8124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ridge ro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welijks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dde en getand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len: vorenp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war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icht aandru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33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erspitten ge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zetten top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3800520" cy="27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hankelijk 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soort + draagkracht b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s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 en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te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ikbaarheid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soort/draagk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 verkruimelen voor goed zaa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grond/zavel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te sterk verkruimelen in verband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emping en verstu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stip + w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: najaar (kapotvriezen klui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: voorjaar (versle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n: dichtrij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morgens: meer vocht: onkruid groeit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ge grond: slecht te be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/g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p: te ondiepe grondbewer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kans op verdroging en/of verzui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otte + bereikbaarheid 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2 of 10.000m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wland of achter een huis met h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30 cm storende la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engen gro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0 cm: bouwvoor belu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0 cm: zaaibed klaar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5 cm: onkruid best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ksc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k / schre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2Z</dcterms:created>
  <dc:creator>johan</dc:creator>
  <dc:description/>
  <dc:language>en-US</dc:language>
  <cp:lastModifiedBy>johan</cp:lastModifiedBy>
  <dcterms:modified xsi:type="dcterms:W3CDTF">2009-07-10T14:18:20Z</dcterms:modified>
  <cp:revision>5</cp:revision>
  <dc:subject/>
  <dc:title>grondbewerking</dc:title>
</cp:coreProperties>
</file>