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79C9-7E66-4DA7-B01C-40073A6A6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CB12C-30F9-4250-B0FB-753CC5DD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BD083-22F8-4525-988E-F44364B6B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C10E3-BC1E-4E9A-A95B-CF355015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3628-BD0A-4466-93AB-4C6F2B3A3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6A73-7A5E-4C10-A5C7-73A741373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60AA-4D14-4A9D-B236-620773B8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47CBD-C9E7-4B47-B359-0949EA00C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70435-C442-4A72-A1D4-DD5078702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672E-9C59-4D61-A488-47F6E0D9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0B2D-917D-4918-9082-F4EE9B30C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D25-EB12-4D8F-8130-4FB782B03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4006-5425-4487-9E95-87F5952EC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drijving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rekker + afta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1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2 assi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u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finrich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sitieregeling: vast: kunstmeststroo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weefstand: oneffenhe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erstandregeling: ploe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ngregeling: (positie + weersta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en met 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anbouwen: positiereg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: veiligheid (stabilisatiesta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isafstelling: bedrijfsklaar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nderho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gelijk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O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tnipp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rkende d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kelij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 snaren, kettingen, tandwielen, bou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ijwij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119400" y="1197000"/>
            <a:ext cx="2990880" cy="5661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ch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+ multifunctione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(onkruid, spitten gras en mest, zaaib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MINPUNTE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Sterke verkruimel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me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verslemp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250920" y="2060640"/>
            <a:ext cx="4286160" cy="3209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mach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vere klui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en freeszo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457200" y="1982880"/>
            <a:ext cx="4038480" cy="37605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ud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iet in groen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39528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rotorkop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Zaai en plantklaar mak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Egaliseren grasv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Niet te lichte grond ivm verkruim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arom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nde lagen doorbre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uctuurverbe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bemesting: meer organische sto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aai of plantbed 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strijden onkru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chijven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bestrij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plantenresten me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468360" y="237636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breken gr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kruid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ppels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aaib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421000"/>
            <a:ext cx="4643280" cy="30891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oe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diep lostre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30 -70 c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NP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osser, natter, minder draagkrac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2181240"/>
            <a:ext cx="4716360" cy="3538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mbridge roll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uwelijks gebruik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adde en getand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755640" y="1844640"/>
            <a:ext cx="3809880" cy="2857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llen: vorenpakk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ware ring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ond licht aandrukk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11280" y="2133720"/>
            <a:ext cx="333360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derspitten gew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mzetten topla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3800520" cy="27716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hankelijk va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ndsoort + draagkracht bod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ijdst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ld en tij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otte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reikbaarheid terre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soort/draagkrac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rk verkruimelen voor goed zaa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grond/zavelgrond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iet te sterk verkruimelen in verband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lemping en verstu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stip + w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: najaar (kapotvriezen kluit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: voorjaar (verslemp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Regen: dichtrijden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morgens: meer vocht: onkruid groeit do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roge grond: slecht te bewer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jd/g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et op: te ondiepe grondbewerk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er kans op verdroging en/of verzuip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otte + bereikbaarheid terr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m2 of 10.000m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uwland of achter een huis met he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epte 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30 cm storende laa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mengen grondla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30 cm: bouwvoor beluch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10 cm: zaaibed klaarma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5 cm: onkruid bestrij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ndgereedsch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eeksch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e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ltiv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k / schrep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hoff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6:11:42Z</dcterms:created>
  <dc:creator>johan</dc:creator>
  <dc:description/>
  <dc:language>en-US</dc:language>
  <cp:lastModifiedBy>johan</cp:lastModifiedBy>
  <dcterms:modified xsi:type="dcterms:W3CDTF">2009-07-10T14:18:20Z</dcterms:modified>
  <cp:revision>5</cp:revision>
  <dc:subject/>
  <dc:title>grondbewerking</dc:title>
</cp:coreProperties>
</file>