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6F0-DE9D-4F9C-BBF1-96F7423D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E71-2D24-46B9-99CC-7363E545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27D-7486-4487-A90F-71382B89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556-18AC-45BB-B4AF-DED43886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D69-8AC3-4947-9AB3-F6834F3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D7D-0164-474A-ADB8-AF058BB0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FA6-53EE-49D1-BC12-3F25C7A6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95F-E67E-4025-BEE4-30E45806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D5F-08B1-4BCF-92AF-6AC89C65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731-D23B-42C1-BD28-18C5601A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21A-5DD5-47E1-B42C-B2D4A2D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C31-0F0D-40E4-9CF8-62917FEA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C967-D868-4839-A5BC-312361ECBD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an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3120" y="1198440"/>
            <a:ext cx="84456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1322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kan wat in de grond zit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gra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75320" y="1566720"/>
            <a:ext cx="2597040" cy="19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bels en leid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grondbewerk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t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i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481040"/>
            <a:ext cx="66247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l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tere bewor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4280" y="1413000"/>
            <a:ext cx="3835440" cy="544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36352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27152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9061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106640"/>
            <a:ext cx="7667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in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10952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57:20Z</dcterms:created>
  <dc:creator>Johan</dc:creator>
  <dc:description/>
  <dc:language>en-US</dc:language>
  <cp:lastModifiedBy>johan</cp:lastModifiedBy>
  <dcterms:modified xsi:type="dcterms:W3CDTF">2008-08-27T17:05:06Z</dcterms:modified>
  <cp:revision>5</cp:revision>
  <dc:subject/>
  <dc:title>grondbewerking</dc:title>
</cp:coreProperties>
</file>