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1D87-9BCA-435B-BC03-1F058101309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7404-E88C-4D04-8E67-0A9870301AA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7E3B-8228-49DE-B83A-EB78683040C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3DB2-C667-4BED-BFBB-8188F0ACF43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46A2-A036-4D57-8D67-484CD4A2176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B9C8-27C6-4AAA-816D-B4BBC255EAD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7464-A9DC-42F0-B4F0-F0D8DDE155E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E7A1-CE7F-49C9-8252-F42CCF77C0A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FD40-6253-4319-A738-FEA0EBEC18F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5626-2AA0-4E62-95F6-37993FA3F04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E4E5-8E61-4019-BAA6-B2531D85509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09CE-1D0C-4432-BF5F-246A18CE3AF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9C5B-39B8-4ABF-8349-9D8D47E847A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11B6-8C72-44C4-ACA2-31C3EF17AA0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A8BD-F30C-4F53-8AB6-1A15DD0BDF8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1ACA-8F19-4F26-8622-4CA65A947FB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AF30-7903-4B5B-A910-4D5904BD281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4D5-DFE4-4BE7-8BBB-69631A6F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2A6-35A4-4D90-B829-30296C95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FA9-51A7-450D-B92A-56CD2EF1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480-E263-4F5E-A4EC-8DE38723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49A-A9D1-426E-A450-D7C3EB6B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5023-D90A-4735-A934-4D91E0F2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978-168B-44F7-8FA2-3856B2E6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7B4-2019-45B8-8725-B1F22274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63A-B47B-4041-AD49-7B72B835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D1F5-DBA9-45AD-80F4-46AB7A96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2FC-7D91-49F8-B446-AFE9B905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D1B5-894C-4396-8D8C-DB5B321B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D5DD-64A4-4F31-AC6C-B7033AC89A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d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ndbegins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t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nd, lucht, water en bem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zijn belangrijke groeifact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beer deze zo goed mo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e krijgen en te hou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lechte grond en slechte bemesting zorgen voor slecht groeiende 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aarnaast wordt de plant veel gevoeliger voor ziekten en plage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. Vaag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. Veen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. Podzol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. Brik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. Eerd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ag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aug1"/>
          <p:cNvPicPr/>
          <p:nvPr/>
        </p:nvPicPr>
        <p:blipFill>
          <a:blip r:embed="rId1"/>
          <a:stretch/>
        </p:blipFill>
        <p:spPr>
          <a:xfrm>
            <a:off x="3056040" y="1197000"/>
            <a:ext cx="29192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dzol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aug"/>
          <p:cNvPicPr/>
          <p:nvPr/>
        </p:nvPicPr>
        <p:blipFill>
          <a:blip r:embed="rId1"/>
          <a:stretch/>
        </p:blipFill>
        <p:spPr>
          <a:xfrm>
            <a:off x="3152880" y="1197000"/>
            <a:ext cx="26812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en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aug2"/>
          <p:cNvPicPr/>
          <p:nvPr/>
        </p:nvPicPr>
        <p:blipFill>
          <a:blip r:embed="rId1"/>
          <a:stretch/>
        </p:blipFill>
        <p:spPr>
          <a:xfrm>
            <a:off x="3033720" y="1197000"/>
            <a:ext cx="2908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rik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aug4"/>
          <p:cNvPicPr/>
          <p:nvPr/>
        </p:nvPicPr>
        <p:blipFill>
          <a:blip r:embed="rId1"/>
          <a:stretch/>
        </p:blipFill>
        <p:spPr>
          <a:xfrm>
            <a:off x="3092400" y="1197000"/>
            <a:ext cx="28497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rd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aug5"/>
          <p:cNvPicPr/>
          <p:nvPr/>
        </p:nvPicPr>
        <p:blipFill>
          <a:blip r:embed="rId1"/>
          <a:stretch/>
        </p:blipFill>
        <p:spPr>
          <a:xfrm>
            <a:off x="3171960" y="1197000"/>
            <a:ext cx="2695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ö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Wat is goede gro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plant moet kunnen wort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r mogen geen storende lagen in de grond zij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oede struktuur (goed waterdoorlat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oede zuurgraad. (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noeg voeding. (bem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noeg organische stof / hum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(zeer sterk verteerde plantenre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odemleven. (zet organische stof om in voor de plant opneembare de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oudt de grond water en voeding vast? (Adsorptievermogen gron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en schadelijke stoff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(zout, rioolslib, resten bestrijdingsmidde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1m2 akkergrond, 20 cm d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wak humushoudende zandgr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erop groeien 3 k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80 regen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80.000 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100.000 springsta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00.000 mij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500.000 Zweepdier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1.000.000 draa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4.000.000.000 bacteriën en 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der 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 liter aarde, 15 cm dikke weide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.551.000.000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fusie, zweep en wimperdier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50.000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raadw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220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pringstaa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uizendp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l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nwor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t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 hand compos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er levende wezens dan er mensen op aarde zijn!!!!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can0001"/>
          <p:cNvPicPr/>
          <p:nvPr/>
        </p:nvPicPr>
        <p:blipFill>
          <a:blip r:embed="rId1"/>
          <a:stretch/>
        </p:blipFill>
        <p:spPr>
          <a:xfrm>
            <a:off x="147636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dem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grondse onkrui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. (zacht of scher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orteling,  hoe die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demleven, regen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kt de grond? Organische 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de lagen? (penetrome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mels, afgerond blokkig, scherp blokk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relgrootte (zandlinia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, grondwat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entueel: Ph meting (lakmoespap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PIM0161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10:05:47Z</dcterms:created>
  <dc:creator>Johan</dc:creator>
  <dc:description/>
  <dc:language>en-US</dc:language>
  <cp:lastModifiedBy>Johan Schuppert</cp:lastModifiedBy>
  <cp:lastPrinted>2015-01-08T07:14:35Z</cp:lastPrinted>
  <dcterms:modified xsi:type="dcterms:W3CDTF">2015-01-08T07:15:44Z</dcterms:modified>
  <cp:revision>7</cp:revision>
  <dc:subject/>
  <dc:title>Bodem</dc:title>
</cp:coreProperties>
</file>