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D546-2358-483C-99F6-0A05748F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D0A8-E68C-474E-813F-D26AA14C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07B9-B341-4FAE-84D0-D9EA85563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E60C-15A5-47B6-AA2E-4A439D390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D72F-4F62-4F80-83B1-BF9998042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BA4C-AF5B-4A8B-AC70-0BCB0B64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D961-71C2-4FBC-B8A4-D5F47C2E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167-04B6-47A9-9C2D-B019088F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464F-CC50-46CD-9C3C-691AA3358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E6E7-B58A-4322-A241-4B2D71A0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7393-C081-4A3A-B30A-82A0AF69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036-EC5D-4288-B21D-6ED3EC56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AB63-DCC0-40B8-B151-67AE4967D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aliteit plantmateri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n op 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kweken uit z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één groeijaar ("1+0") gero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planten, wederom gerooid. in het vakjargon "1+1". (2 jaar 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eplant voor twee jaar (is dus 3 jaar oud), wordt dan gerooid, gesorteerd en verkocht, dit is de "1+2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ring (internationa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8604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13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590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1120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 7 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 9 (P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iter (C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m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-14 (stamomtrek op 1m hoog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04:29Z</dcterms:created>
  <dc:creator>johan</dc:creator>
  <dc:description/>
  <dc:language>en-US</dc:language>
  <cp:lastModifiedBy>johan</cp:lastModifiedBy>
  <dcterms:modified xsi:type="dcterms:W3CDTF">2009-06-12T09:28:42Z</dcterms:modified>
  <cp:revision>4</cp:revision>
  <dc:subject/>
  <dc:title>Kwaliteit plantmateriaal</dc:title>
</cp:coreProperties>
</file>