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22F8-7C6E-48F3-B44B-F77452895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F4AD-5FF1-4A03-9BC9-CF7CFF333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6B59-BFAF-4C26-A036-2B187E678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BDAB-4F13-4DCB-B9E7-A8F80AD8F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C1CA-1D1E-4D08-B299-7E0F2A84B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7E07-D781-404E-9F50-07D6B7828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34E0-7A35-4335-BF6D-6700807CE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F440-1740-4BEB-83DF-4F7F18CEE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6BA6-0C4D-4912-AF25-D1495F321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BE8E-1D90-4BDF-B589-93FF756EC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30AA-BFD4-4E7F-B2E7-4F0681FE2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5936-6CA6-4E35-A726-1715E4EE5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973CF-D148-429A-A261-455114CC17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m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1479600"/>
            <a:ext cx="597708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 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ond, lucht, water en bem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ijn belangrijke groeifacto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beer deze zo goed mogelij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 krijgen en te hou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lechte grond en slechte bemesting zorgen voor slecht groeiende plan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arnaast wordt de plant veel gevoeliger voor ziekten en plagen!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t in aanle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465280" y="1125360"/>
            <a:ext cx="429912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ofdelemente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PK (warme maaltij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, Mg, S (ontbijt + lun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orenelement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, Mn, Cl,B, Mo,Cu,Zn (fruit, koekje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stikstof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e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    fosfor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ortel + afrijping vru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    kali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evige celwa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  kalk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elwand+ waterop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g  magnesium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ladgro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    zwavel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maak van eiw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ra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nneer strooi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vee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bre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N                                    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                                        P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476360" y="1125360"/>
            <a:ext cx="3456000" cy="2884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940360" y="1197000"/>
            <a:ext cx="3203640" cy="2617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476360" y="4149720"/>
            <a:ext cx="3456000" cy="28605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6012000" y="4005360"/>
            <a:ext cx="313200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H of zuurgra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+    (zuur)        (pH &lt;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H-   (basisch)  (pH &gt;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2O (neutraal)   (pH = 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alk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pH omhoog (minder zuu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urf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pH omlaag (zuurdere gro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/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2311560"/>
            <a:ext cx="9144000" cy="30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ergelijking tussen organische en anorganische meststoffen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Organisch: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oorbeel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oeiepoep, compost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Langzaamwerkend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Alle elementen  zitten er in 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oed voor bodemleven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Moeilijk te verwerken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oedkoop in aanschaf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organ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unstmest NP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nelwerk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gecoat = langzaam werkend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kele elemen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tteloos voor bodemle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kelijk verwerkba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ets duurder in aansch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0800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8T19:27:18Z</dcterms:created>
  <dc:creator>johan</dc:creator>
  <dc:description/>
  <dc:language>en-US</dc:language>
  <cp:lastModifiedBy>johan</cp:lastModifiedBy>
  <dcterms:modified xsi:type="dcterms:W3CDTF">2008-08-27T18:08:12Z</dcterms:modified>
  <cp:revision>7</cp:revision>
  <dc:subject/>
  <dc:title>Bemesting</dc:title>
</cp:coreProperties>
</file>