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60D6-7F3C-453E-9CB2-560E3D16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6743-FFFF-43D8-A744-E3F4ADE3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D50E-8092-4D29-B80B-4EB71313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2796-FB7C-40B2-A423-7A9D70F73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814B-527A-4BDD-BB5F-7B0E1AF2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9621-D8AA-401F-BE45-69D962A7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9BEA-83D9-4D9B-A091-87C03D2C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9613-3125-4D3C-A2DE-8F02AF86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7203-6765-4E04-93B9-690445DA1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0EAF3-15C9-453F-83FD-AFC5EF16B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1C031-8FB8-4949-B407-74D820F6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3EFC-B553-4433-9F4C-EC8ECBA8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8E509-305F-435C-877B-D09F98674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7033-6966-4CA8-9E59-C741679A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05D8-B2C2-4584-8CA9-2551B521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9168-B858-4EF5-A0DB-A8B31622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4EAE0-3DD8-4661-A2D9-AE3BCD3A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EA67-7F76-4B8D-B0A4-FF2DFE6C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6DA-9BD8-4436-A8C2-702B798C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91CD-3F40-4195-8C8F-46EA7112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501-B499-45EF-8FE6-B2811E6F6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9E3B-BAEF-41AD-A1F4-CC7C5861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A76-46DB-4470-9406-9CD283559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85C-0989-4D44-B41E-66EE097A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9C87-84F3-4A0E-BAF7-39C498B6B59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CFA4-9683-4FB7-8088-1B72880712A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rmineren van grass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ema%20plant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90720"/>
            <a:ext cx="46483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ematische weergave van een graspl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rkenningspunten g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nge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or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ru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itloper / Polvorm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op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oeiwijz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nget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2819520"/>
            <a:ext cx="38102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ng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tong" descr=""/>
          <p:cNvPicPr/>
          <p:nvPr/>
        </p:nvPicPr>
        <p:blipFill>
          <a:blip r:embed="rId1"/>
          <a:stretch/>
        </p:blipFill>
        <p:spPr>
          <a:xfrm>
            <a:off x="4722840" y="1665360"/>
            <a:ext cx="36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rtj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312408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itsteeksels aan blad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ard/on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oortje" descr=""/>
          <p:cNvPicPr/>
          <p:nvPr/>
        </p:nvPicPr>
        <p:blipFill>
          <a:blip r:embed="rId1"/>
          <a:stretch/>
        </p:blipFill>
        <p:spPr>
          <a:xfrm>
            <a:off x="4660920" y="1994040"/>
            <a:ext cx="380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u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590560"/>
            <a:ext cx="381024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gste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aiing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spruit" descr=""/>
          <p:cNvPicPr/>
          <p:nvPr/>
        </p:nvPicPr>
        <p:blipFill>
          <a:blip r:embed="rId1"/>
          <a:stretch/>
        </p:blipFill>
        <p:spPr>
          <a:xfrm>
            <a:off x="4660920" y="217008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vormer of uitlo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oluitloper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op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1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dikkingen van de steng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ad / 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telvo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knoop" descr=""/>
          <p:cNvPicPr/>
          <p:nvPr/>
        </p:nvPicPr>
        <p:blipFill>
          <a:blip r:embed="rId1"/>
          <a:stretch/>
        </p:blipFill>
        <p:spPr>
          <a:xfrm>
            <a:off x="5075280" y="166536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ad en bladsch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437920"/>
            <a:ext cx="3416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sche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warsverbindin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al / dicht beha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blad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Bloeiwij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73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grass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kenmerkengras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07:50Z</dcterms:created>
  <dc:creator>Ellis Aardema</dc:creator>
  <dc:description/>
  <dc:language>en-US</dc:language>
  <cp:lastModifiedBy>Ellis Aardema</cp:lastModifiedBy>
  <dcterms:modified xsi:type="dcterms:W3CDTF">2004-11-28T19:09:54Z</dcterms:modified>
  <cp:revision>4</cp:revision>
  <dc:subject/>
  <dc:title>PowerPoint-presentatie</dc:title>
</cp:coreProperties>
</file>