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E66AC-8A9C-4FF8-8504-1C0078414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B7044-F43B-40A3-B1DE-1F34D9903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24F81-B465-4F6F-9D20-F41456DDC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6E887-6BA7-4102-A077-A9AD0646C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67785-2308-45E3-BA32-045763CD8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7E069-B646-48F8-9ADF-D784446D4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0B3EC-B14E-49F7-82AA-96D768962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415B4-54DD-40FE-A298-FE4C14592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17DA1-83C4-45D4-9202-2ED862E45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CC5CA-84FF-440E-9823-9B7AAABA2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7B15F-20EE-4C76-AC8E-559D79F62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EA519-6E7E-4A9E-828B-309EB6AE3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8B66E-AD09-411B-873C-0D555DE543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m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1479600"/>
            <a:ext cx="5977080" cy="530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t o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rond, lucht, water en bem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zijn belangrijke groeifactor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beer deze zo goed mogelij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e krijgen en te houd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lechte grond en slechte bemesting zorgen voor slecht groeiende plant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aarnaast wordt de plant veel gevoeliger voor ziekten en plagen!!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ut in aanleg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465280" y="1125360"/>
            <a:ext cx="4299120" cy="573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ofdelementen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PK (warme maaltij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, Mg, S (ontbijt + lunc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porenelemente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e, Mn, Cl,B, Mo,Cu,Zn (fruit, koekje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rk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stikstof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roe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    fosfor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ortel + afrijping vruc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    kali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tevige celwan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a  kalk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elwand+ wateropn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g  magnesium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ladgro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    zwavel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anmaak van eiw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rag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nneer strooi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e vee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brek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N                                    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                                        P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476360" y="1125360"/>
            <a:ext cx="3456000" cy="28846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5940360" y="1197000"/>
            <a:ext cx="3203640" cy="26179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1476360" y="4149720"/>
            <a:ext cx="3456000" cy="28605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6012000" y="4005360"/>
            <a:ext cx="3132000" cy="28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pH of zuurgra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+    (zuur)        (pH &lt;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H-   (basisch)  (pH &gt;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2O (neutraal)   (pH = 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alk 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pH omhoog (minder zuu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urf 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pH omlaag (zuurdere gron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/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2311560"/>
            <a:ext cx="9144000" cy="30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Vergelijking tussen organische en anorganische meststoffen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Organisch: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oorbeel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oeiepoep, compost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Langzaamwerkend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Alle elementen  zitten er in 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oed voor bodemleven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Moeilijk te verwerken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oedkoop in aanschaf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organis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unstmest NP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nelwerk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gecoat = langzaam werkend)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kele elemen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utteloos voor bodemlev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kelijk verwerkba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ets duurder in aansch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90800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8T19:27:18Z</dcterms:created>
  <dc:creator>johan</dc:creator>
  <dc:description/>
  <dc:language>en-US</dc:language>
  <cp:lastModifiedBy>johan</cp:lastModifiedBy>
  <dcterms:modified xsi:type="dcterms:W3CDTF">2008-08-27T18:08:12Z</dcterms:modified>
  <cp:revision>7</cp:revision>
  <dc:subject/>
  <dc:title>Bemesting</dc:title>
</cp:coreProperties>
</file>