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48C0-629D-4624-9218-ECE8533E82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EC26F-4CFF-4F05-9A15-2017711E9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2A54-A16C-4500-93EA-730267BF0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078B-5A5F-4E37-8B40-AF075E30E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4359-06D8-4789-95F8-71563A797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D45B-8866-4568-AE76-62C0D38A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66BB-1712-4F47-9A21-2C81EB3A5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6ED4-5C9F-4B69-813D-0FA43CB47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9C3B-B585-47EE-B11A-524BF10AC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5A279-7CB8-4D3A-8D0B-5CF4A1ADB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61DF2-72C4-41A0-9CC8-273F19618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D24D9-0084-48EC-99B0-A0604AA7A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487C5-FD43-46F2-B2C9-9369C47ED7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en volgens het boek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t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lopen (ganzepa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galis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Inzaaien of z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ha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m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im plantgat gra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al op zuidwe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m (op juiste diep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ven een vuist afstand, onder een vo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t dichtgooi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nd aanlop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omb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rij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e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en aan 1 kant in de sleuf zet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nd aanvu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rij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e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ten aan beide zijden in de sleu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nd aanvull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splantso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332000" y="1273320"/>
            <a:ext cx="7272360" cy="55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4T08:26:47Z</dcterms:created>
  <dc:creator>johan</dc:creator>
  <dc:description/>
  <dc:language>en-US</dc:language>
  <cp:lastModifiedBy>johan</cp:lastModifiedBy>
  <dcterms:modified xsi:type="dcterms:W3CDTF">2008-09-14T08:31:18Z</dcterms:modified>
  <cp:revision>2</cp:revision>
  <dc:subject/>
  <dc:title>Planten volgens het boekje</dc:title>
</cp:coreProperties>
</file>