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A192-A014-4554-869D-D0A28BCA94C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9112-DE38-436C-94C7-3562271ACE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81BA-0513-4A10-BE55-471D2DEF8C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B7A6-D266-4B86-8F07-4988BCEEB1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E7C6-076A-4BE9-9424-F105DF70C5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12D6-E603-424E-99CB-DFAA380C89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9A7-10E1-4F2F-A577-C6384D5F30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4D73-9443-4A71-9D5D-58972E76E52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A75-7940-4414-AD35-E7DF072F068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80C1-2C7B-46B5-B40E-77BC00A367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70F0-8B65-45B1-8505-4143C50A6C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EF2B-5DA8-4936-99BA-1A00960090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02C4-DD53-4189-A6BC-1C68D3FBB6B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FD03-90BB-4BD2-9B16-C9821AD704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3743-A49A-43E7-90B3-1846640B1B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A345-DD94-453D-BB4E-2018E824C3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E69B-A2F9-4932-880F-E5F36491FA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F3D-2DA1-4204-80F5-9ECAB572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840-1BF0-4CC6-9AE2-19609B71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E77-DEC8-4255-8B85-355870DE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084-8495-4961-B81A-B08E21F0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D53-1CA6-4639-8187-47166911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FD0-176C-4B24-BBFB-423B16CB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759-F958-4A2A-9003-611CC561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D88-C5B0-4A6B-83CB-725749DC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082-4048-4F1A-B4B2-C71A9C86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923-204E-46E6-AD4E-76770F3B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E58-884A-445E-BFB5-E10D505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266-F3C1-47B7-BEC8-C5B0A8E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D3F2-8547-4890-B2ED-BDCA8C7B4F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ndbegin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Vaag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. Veen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. Podzol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. Brik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. Eerd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ag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ug1"/>
          <p:cNvPicPr/>
          <p:nvPr/>
        </p:nvPicPr>
        <p:blipFill>
          <a:blip r:embed="rId1"/>
          <a:stretch/>
        </p:blipFill>
        <p:spPr>
          <a:xfrm>
            <a:off x="3056040" y="1197000"/>
            <a:ext cx="2919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dzol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aug"/>
          <p:cNvPicPr/>
          <p:nvPr/>
        </p:nvPicPr>
        <p:blipFill>
          <a:blip r:embed="rId1"/>
          <a:stretch/>
        </p:blipFill>
        <p:spPr>
          <a:xfrm>
            <a:off x="3152880" y="1197000"/>
            <a:ext cx="2681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en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ug2"/>
          <p:cNvPicPr/>
          <p:nvPr/>
        </p:nvPicPr>
        <p:blipFill>
          <a:blip r:embed="rId1"/>
          <a:stretch/>
        </p:blipFill>
        <p:spPr>
          <a:xfrm>
            <a:off x="3033720" y="1197000"/>
            <a:ext cx="2908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ik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ug4"/>
          <p:cNvPicPr/>
          <p:nvPr/>
        </p:nvPicPr>
        <p:blipFill>
          <a:blip r:embed="rId1"/>
          <a:stretch/>
        </p:blipFill>
        <p:spPr>
          <a:xfrm>
            <a:off x="3092400" y="1197000"/>
            <a:ext cx="28497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rd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ug5"/>
          <p:cNvPicPr/>
          <p:nvPr/>
        </p:nvPicPr>
        <p:blipFill>
          <a:blip r:embed="rId1"/>
          <a:stretch/>
        </p:blipFill>
        <p:spPr>
          <a:xfrm>
            <a:off x="3171960" y="1197000"/>
            <a:ext cx="2695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ö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Wat is goede gro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plant moet kunnen wort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r mogen geen storende lagen in de gron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struktuur (goed waterdoorlat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zuurgraad. (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voeding. (bem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organische stof / hum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eer sterk verteerde plantenre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odemleven. (zet organische stof om in voor de plant opneembare d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oudt de grond water en voeding vast? (Adsorptievermogen gron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n schadelijke stoff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out, rioolslib, resten bestrijdingsmidd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m2 akkergrond, 20 cm 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ak humushoudende zandgr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erop groeien 3 k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.000 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00.000 springsta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00.000 mij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00.000 Zweepdier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.000.000 draa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4.000.000.000 bacteriën en 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liter aarde, 15 cm dikke weid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.551.00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fusie, zweep en wimperdier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raadw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2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ringsta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uizendp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nwor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hand compos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er levende wezens dan er mensen op aarde zijn!!!!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can0001"/>
          <p:cNvPicPr/>
          <p:nvPr/>
        </p:nvPicPr>
        <p:blipFill>
          <a:blip r:embed="rId1"/>
          <a:stretch/>
        </p:blipFill>
        <p:spPr>
          <a:xfrm>
            <a:off x="147636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grondse onkru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. (zacht of scher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orteling,  hoe di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leven,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kt de grond? Organische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e lagen? (penetro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mels, afgerond blokkig, scherp blokk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relgrootte (zandlin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, grondwat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: Ph meting (lakmoespap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PIM0161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0:05:47Z</dcterms:created>
  <dc:creator>Johan</dc:creator>
  <dc:description/>
  <dc:language>en-US</dc:language>
  <cp:lastModifiedBy>Johan Schuppert</cp:lastModifiedBy>
  <cp:lastPrinted>2015-01-08T07:14:35Z</cp:lastPrinted>
  <dcterms:modified xsi:type="dcterms:W3CDTF">2015-01-08T07:15:44Z</dcterms:modified>
  <cp:revision>7</cp:revision>
  <dc:subject/>
  <dc:title>Bodem</dc:title>
</cp:coreProperties>
</file>