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3A1-3680-4A77-9024-2AEEB5D7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9F9-B389-4905-ADC9-9B5DA492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088-6D35-4B59-AC2D-EDF4E92D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93E-67C5-4537-9678-92C824FC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C3F0-4567-43DC-A9A3-BD3611C6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6547-A4C5-41B0-8200-873CF88C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79D9-AB1D-4EBC-9759-C67B09BF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45CC-D781-4B9A-A749-2D22906F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9E76-2C62-400B-9218-6F469801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B1DF-A246-4837-BF71-F6CC6082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F63D-24D5-4C43-8BD7-547342D2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26F-8455-4D92-9626-8A1CBD21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5A01-5BEA-446A-A8CD-ECE6040C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FF7F-3C2B-451F-939E-E1FAD450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C492-6AEF-484F-8BD8-79872218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2DF4-C21F-40DD-BB9A-D055E117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2D6A-084A-4E02-B852-07837AD0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1A9-59F1-4469-B240-6A9EE673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691-6BC1-457F-899D-EF3042DF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8BB-F65F-41AA-8A02-53D53AB2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54D-FFF9-47BF-98FC-EA26748A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F94-7183-43FF-A801-0C115098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117-1382-4EB5-B288-8FF13A49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9C7-4CAB-46B7-AC2F-DEEE1602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0471-1824-41BF-AF2A-96419B7A44F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EDC4-8AA8-4EB0-B023-C86942B408F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rmineren van grass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chema%20plant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200400" cy="632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990720"/>
            <a:ext cx="464832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ematische weergave van een graspla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rkenningspunten g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ngetj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ortj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pru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itloper / Polvorm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oop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lad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loeiwijz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nget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400" y="2819520"/>
            <a:ext cx="38102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leu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ng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tong" descr=""/>
          <p:cNvPicPr/>
          <p:nvPr/>
        </p:nvPicPr>
        <p:blipFill>
          <a:blip r:embed="rId1"/>
          <a:stretch/>
        </p:blipFill>
        <p:spPr>
          <a:xfrm>
            <a:off x="4722840" y="1665360"/>
            <a:ext cx="368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ortj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3124080"/>
            <a:ext cx="381024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itsteeksels aan blad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ard/onbeha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oortje" descr=""/>
          <p:cNvPicPr/>
          <p:nvPr/>
        </p:nvPicPr>
        <p:blipFill>
          <a:blip r:embed="rId1"/>
          <a:stretch/>
        </p:blipFill>
        <p:spPr>
          <a:xfrm>
            <a:off x="4660920" y="1994040"/>
            <a:ext cx="3809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ru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590560"/>
            <a:ext cx="381024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gste 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r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aiing 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spruit" descr=""/>
          <p:cNvPicPr/>
          <p:nvPr/>
        </p:nvPicPr>
        <p:blipFill>
          <a:blip r:embed="rId1"/>
          <a:stretch/>
        </p:blipFill>
        <p:spPr>
          <a:xfrm>
            <a:off x="4660920" y="2170080"/>
            <a:ext cx="38098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vormer of uitlop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poluitloper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noop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2971440"/>
            <a:ext cx="38102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dikkingen van de steng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lad / beha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telvor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knoop" descr=""/>
          <p:cNvPicPr/>
          <p:nvPr/>
        </p:nvPicPr>
        <p:blipFill>
          <a:blip r:embed="rId1"/>
          <a:stretch/>
        </p:blipFill>
        <p:spPr>
          <a:xfrm>
            <a:off x="5075280" y="1665360"/>
            <a:ext cx="297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ad en bladsche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437920"/>
            <a:ext cx="34164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adsched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le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warsverbindin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aal / dicht beha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blad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Bloeiwijz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971440"/>
            <a:ext cx="3873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argrasse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arpluimgras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uimgras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kenmerkengras1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8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07:50Z</dcterms:created>
  <dc:creator>Ellis Aardema</dc:creator>
  <dc:description/>
  <dc:language>en-US</dc:language>
  <cp:lastModifiedBy>Ellis Aardema</cp:lastModifiedBy>
  <dcterms:modified xsi:type="dcterms:W3CDTF">2004-11-28T19:09:54Z</dcterms:modified>
  <cp:revision>4</cp:revision>
  <dc:subject/>
  <dc:title>PowerPoint-presentatie</dc:title>
</cp:coreProperties>
</file>