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7F94-4D40-4B9D-ABDD-ACD14C148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B163-4B1C-462C-8189-F8E24D9A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F58B-27B4-4BFB-B6E8-3688764E1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2480-6251-44E2-9B01-7E96C869D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8691-DA96-4B1D-A694-9B3E33C5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74DC-CC84-4D12-B052-1B449C30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B72B-391B-4B8F-8E4D-3D45E60D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2573-31E1-4ECF-85B7-67FDB025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7282-40FC-4137-A924-7B849EDA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2A54-4D12-471C-A426-686D8BDC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1113-9DAA-46D0-8EDE-46AFE2F7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A43E-A5D2-4E69-9666-4EC0A165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9D22-EA79-4710-B515-DFA3FE2D6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en volgens het boek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lopen (ganzep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galis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zaaien of z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ha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im plantgat gr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al op zuidwe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m (op juiste diep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ven een vuist afstand, onder een vo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 dichtgoo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nd aanl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mb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rij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e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en aan 1 kant in de sleuf ze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nd aanvu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rij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e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en aan beide zijden in de sle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nd aanvu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splantso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32000" y="1273320"/>
            <a:ext cx="727236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08:26:47Z</dcterms:created>
  <dc:creator>johan</dc:creator>
  <dc:description/>
  <dc:language>en-US</dc:language>
  <cp:lastModifiedBy>johan</cp:lastModifiedBy>
  <dcterms:modified xsi:type="dcterms:W3CDTF">2008-09-14T08:31:18Z</dcterms:modified>
  <cp:revision>2</cp:revision>
  <dc:subject/>
  <dc:title>Planten volgens het boekje</dc:title>
</cp:coreProperties>
</file>