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A8D-8919-4714-B032-2AA95E46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8BB-8644-4FF5-914C-DB79031E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58E-58F8-42CD-95ED-2B1FD16C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35C-A707-448E-B160-D36823F7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F1E5-D345-402B-9C7A-240C6842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AC44-7DD2-44B0-B8F6-21D0E5E8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5605-D9EC-4D30-9C6F-F5AA8054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0055-AF7E-40B3-A418-0E39BEA9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88D1-F0CE-4753-8E88-384BB417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99D0-2EF3-4AE9-AD68-6F85145F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B288-B597-4709-920C-1E78802B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DAA9-03F6-4806-8C7C-06E1BF3A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DA1A-E338-48A0-9DBE-9D57A079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FA16-DEB7-493B-8426-DFF7BA76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FEDB-6F40-406D-8BAA-921D7807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5721-6C9E-4F22-9C30-369BE82D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7534-1CBE-445C-A0D2-3148A9F2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28A-3600-45D1-B868-09937CC7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EFFB-7D80-4E9D-8472-59AD9E80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BCF0-35FE-4E9B-92CB-46006737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E6F-0E70-443E-9445-FAE03974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35E-A51D-42D1-B19E-13EDA8A8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082-8B29-4E23-A86D-6FA174EC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078-B268-478A-B6F3-C5E1DB11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EC47-0F34-4220-B43C-E1DFF0D811B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68D1-A348-4C06-AC70-544442BCD71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termineren van grass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chema%20plant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3200400" cy="6324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480" y="990720"/>
            <a:ext cx="464832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chematische weergave van een graspla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erkenningspunten gr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ongetj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ortj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prui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itloper / Polvorm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oop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lad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loeiwijz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ongetj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98400" y="2819520"/>
            <a:ext cx="38102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leu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ng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tong" descr=""/>
          <p:cNvPicPr/>
          <p:nvPr/>
        </p:nvPicPr>
        <p:blipFill>
          <a:blip r:embed="rId1"/>
          <a:stretch/>
        </p:blipFill>
        <p:spPr>
          <a:xfrm>
            <a:off x="4722840" y="1665360"/>
            <a:ext cx="3684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ortj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3124080"/>
            <a:ext cx="381024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itsteeksels aan bladba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haard/onbeha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oortje" descr=""/>
          <p:cNvPicPr/>
          <p:nvPr/>
        </p:nvPicPr>
        <p:blipFill>
          <a:blip r:embed="rId1"/>
          <a:stretch/>
        </p:blipFill>
        <p:spPr>
          <a:xfrm>
            <a:off x="4660920" y="1994040"/>
            <a:ext cx="38098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rui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590560"/>
            <a:ext cx="381024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gste bl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ro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aiing bl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spruit" descr=""/>
          <p:cNvPicPr/>
          <p:nvPr/>
        </p:nvPicPr>
        <p:blipFill>
          <a:blip r:embed="rId1"/>
          <a:stretch/>
        </p:blipFill>
        <p:spPr>
          <a:xfrm>
            <a:off x="4660920" y="2170080"/>
            <a:ext cx="380988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lvormer of uitlop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poluitloper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noop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400" y="2971440"/>
            <a:ext cx="38102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dikkingen van de steng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lad / beha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telvor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knoop" descr=""/>
          <p:cNvPicPr/>
          <p:nvPr/>
        </p:nvPicPr>
        <p:blipFill>
          <a:blip r:embed="rId1"/>
          <a:stretch/>
        </p:blipFill>
        <p:spPr>
          <a:xfrm>
            <a:off x="5075280" y="1665360"/>
            <a:ext cx="297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lad en bladsche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437920"/>
            <a:ext cx="341640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l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ladsched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le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warsverbinding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aal / dicht behaa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blad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4038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Bloeiwijz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971440"/>
            <a:ext cx="3873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argrasse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arpluimgrass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uimgrass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kenmerkengras1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81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2:07:50Z</dcterms:created>
  <dc:creator>Ellis Aardema</dc:creator>
  <dc:description/>
  <dc:language>en-US</dc:language>
  <cp:lastModifiedBy>Ellis Aardema</cp:lastModifiedBy>
  <dcterms:modified xsi:type="dcterms:W3CDTF">2004-11-28T19:09:54Z</dcterms:modified>
  <cp:revision>4</cp:revision>
  <dc:subject/>
  <dc:title>PowerPoint-presentatie</dc:title>
</cp:coreProperties>
</file>