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321D-8752-443F-9A40-6A5D3CA5F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1F3D-E079-4CD4-B9D9-FD512D15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4E98-5F71-4D37-981A-57E01FB4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DE7-A921-4095-9DD4-801FFAC4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89E5-0020-4420-BDDE-BC74C73E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DB35-9D34-417A-97CD-CCDF33D4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BF1-E389-4C97-9034-AE8110CC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223E-53BD-453D-AFB4-F70DAB1CB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E63-7ABD-4B58-8A91-4B68F6C1C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74B8-185B-4C0E-9BF9-6F3B61E3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1956-8AF2-4F4B-8DB8-F7C2A3C8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6E6-D303-46A5-9465-FC037825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EBC-BBC4-49D2-B0D7-5CCD2BA7029C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a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3120" y="1198440"/>
            <a:ext cx="84456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kan wat in de grond zit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gra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75320" y="1566720"/>
            <a:ext cx="259704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els en leid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grondbewer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1040"/>
            <a:ext cx="66247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l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ere bewor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13000"/>
            <a:ext cx="383544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635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27152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9061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in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10952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7:20Z</dcterms:created>
  <dc:creator>Johan</dc:creator>
  <dc:description/>
  <dc:language>en-US</dc:language>
  <cp:lastModifiedBy>johan</cp:lastModifiedBy>
  <dcterms:modified xsi:type="dcterms:W3CDTF">2008-08-27T17:05:06Z</dcterms:modified>
  <cp:revision>5</cp:revision>
  <dc:subject/>
  <dc:title>grondbewerking</dc:title>
</cp:coreProperties>
</file>