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15B-79C2-4922-8CE7-647A6747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CA9-1E0E-4A69-AF12-ECAE2668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0BD-DB96-4069-9F29-F1DE3E3F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FD3-2176-4342-B974-2D62013B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453-17AC-4393-8FD7-02351C6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EDF-3E7C-4F05-ABD7-52AFDE34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727-8847-4114-BDEC-23838D0E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92F-8E03-4F78-96EC-E32703C2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354-E21A-48E9-A219-57ABBAC0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B3-589C-40D2-91BC-614C1F2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DAE-2833-42AC-A1F6-7BADE293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892-C10F-4F26-81C0-34B09BC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D780-BA1A-4486-A694-C01DCF17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drijv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 + aft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finr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eregeling: vast: kunstmeststroo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efstand: oneffenhe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rstandregeling: plo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regeling: (positie + we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bouwen: positie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veiligheid (stabilisatiesta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afstelling: bedrijfsklaar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elij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kelij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, kettingen, tandwielen, bo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wij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19400" y="1197000"/>
            <a:ext cx="29908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 multifuncti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onkruid, spitten gras en mest, zaai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PU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verkruim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m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e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e klu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ud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 groen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orkop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ai en plantklaar m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asv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te lichte grond ivm verkruim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nde lagen doo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verb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emesting: meer organisch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i of plantbed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rijden o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bestrij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plantenresten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brek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ls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diep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 -70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P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osser, natter, minder draag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8124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ridge r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welijks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dde en getand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en: vorenp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ar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icht aandru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33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spitten ge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zetten top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hankelijk 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soort + draagkracht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s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 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te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ikbaarheid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soort/draagk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 verkruimelen voor goed zaa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grond/zavel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te sterk verkruimelen in verband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emping en verstu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stip + w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: najaar (kapotvriezen klui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: voorjaar (versle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n: dichtrij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morgens: meer vocht: onkruid groeit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ge grond: slecht te be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/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: te ondiepe grondbewer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kans op verdroging en/of verzui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otte + bereikbaarheid 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2 of 10.000m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wland of achter een huis met h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30 cm storende la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ngen gro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 cm: bouwvoor belu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0 cm: zaaibed klaar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 cm: onkruid 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ksc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 / sch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2Z</dcterms:created>
  <dc:creator>johan</dc:creator>
  <dc:description/>
  <dc:language>en-US</dc:language>
  <cp:lastModifiedBy>johan</cp:lastModifiedBy>
  <dcterms:modified xsi:type="dcterms:W3CDTF">2009-07-10T14:18:20Z</dcterms:modified>
  <cp:revision>5</cp:revision>
  <dc:subject/>
  <dc:title>grondbewerking</dc:title>
</cp:coreProperties>
</file>