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ACEB-C589-418B-92CF-FD40EB69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9E20E-031E-4237-8F87-85E94A04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6F02-8DB3-45C8-952C-2151F945A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F400-4263-4C4C-BA1C-EE7F9B706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EE1F3-18CE-455B-8875-E795440C7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EDB95-5176-4940-AB69-83189DD7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5134-605D-4D5D-AAD3-5888C9E4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4E43-8314-4504-B6CB-A243D4BE5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812F-DB6E-4ADD-BA5A-6364FF84A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ED9B-7C55-46EC-9005-256C17B14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D1726-C270-456E-B7B6-1263784F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EB17-A23F-42F3-8E8A-FBEF82DE3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CB21B-C345-4757-9BE1-1E23500D17B3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t planten va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etho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bomen pla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3105000"/>
            <a:ext cx="5003640" cy="375300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4788000" y="1413000"/>
            <a:ext cx="418464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dere metho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554120" y="1600200"/>
            <a:ext cx="6033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55640" y="1312920"/>
            <a:ext cx="7272360" cy="521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tgoed / contain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del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gens het boek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oerenkool” metho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torbo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970520" y="1600200"/>
            <a:ext cx="3394080" cy="45259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79400" y="1600200"/>
            <a:ext cx="33940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bosplantso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152360"/>
            <a:ext cx="8748720" cy="6031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8389800" y="1722600"/>
          <a:ext cx="185760" cy="12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9800" y="1722600"/>
                    <a:ext cx="185760" cy="12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aal pla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324000" y="1192320"/>
            <a:ext cx="84247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10:38:37Z</dcterms:created>
  <dc:creator>Johan</dc:creator>
  <dc:description/>
  <dc:language>en-US</dc:language>
  <cp:lastModifiedBy>Johan</cp:lastModifiedBy>
  <dcterms:modified xsi:type="dcterms:W3CDTF">2006-08-09T17:32:03Z</dcterms:modified>
  <cp:revision>5</cp:revision>
  <dc:subject/>
  <dc:title>Het planten van planten</dc:title>
</cp:coreProperties>
</file>