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59D-36B6-4E4F-B07B-95091858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882-5058-4767-9450-74D06542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60F-3F2B-4321-B1E2-B0670011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3A3-5774-4ACC-86CF-BB34BD0C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DEE-0238-4B20-B501-416D6238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E9A-866F-4B22-88E6-1A0E096B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DDD-0633-459E-AE8F-16A2E7B2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882-4B2D-40A0-964E-55187371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FFB-CA33-4840-B075-E03AB8A2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1A3-51D4-4625-A755-DD1112CB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CBF-88F8-4FF1-A7E5-2F0368B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227-8451-4B22-B537-EA0228F0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0772-A1EA-48CA-BF6F-F8E1434CEC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an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3120" y="1198440"/>
            <a:ext cx="84456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1322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kan wat in de grond zit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gra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75320" y="1566720"/>
            <a:ext cx="2597040" cy="19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400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bels en leid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grondbewerk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t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i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481040"/>
            <a:ext cx="66247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l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tere bewor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4280" y="1413000"/>
            <a:ext cx="3835440" cy="544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36352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27152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9061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106640"/>
            <a:ext cx="7667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in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10952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4:57:20Z</dcterms:created>
  <dc:creator>Johan</dc:creator>
  <dc:description/>
  <dc:language>en-US</dc:language>
  <cp:lastModifiedBy>johan</cp:lastModifiedBy>
  <dcterms:modified xsi:type="dcterms:W3CDTF">2008-08-27T17:05:06Z</dcterms:modified>
  <cp:revision>5</cp:revision>
  <dc:subject/>
  <dc:title>grondbewerking</dc:title>
</cp:coreProperties>
</file>