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2EB-3F54-4E92-9DEA-A26F3118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422-11DE-4401-9CEE-83AF01D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537-8F2C-485D-9FF4-50CFC654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16E-F453-4AEF-9553-45738EA7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D6B-40FE-4A1E-98EF-EFFF9BC4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B7F-8818-41E0-9EF3-83154242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444-A3AA-467A-B57F-359923F1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490-E1E6-4A47-8D39-C4A3DC9F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530-0CB0-4F29-A11D-FDD3F5E7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2D1-EE07-41DA-B14D-48B05CA7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006-FE04-47E5-A71C-C3776846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52B-556D-41CE-A6BE-09084AA6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E9B0-7CE2-4B99-A415-DF9009D20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79600"/>
            <a:ext cx="5977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6528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fdelemen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K (warme maaltij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, Mg, S (ontbijt +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enelem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, Mn, Cl,B, Mo,Cu,Zn (fruit, koekj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iksto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   fosfo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 + afrijping 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    kal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vige cel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  kal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+ waterop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g  magnes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   zwav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maak van ei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stroo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                       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                                     P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3456000" cy="288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320364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3456000" cy="286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H of zuurg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+    (zuur)        (pH &l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H-   (basisch)  (pH &g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2O (neutraal)   (pH =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l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hoog (minder z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r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laag (zuurdere gr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gelijking tussen organische en anorganische meststoffe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ganisch: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oeiepoep, compos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ngzaamwerkend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le elementen  zitten er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 voor bodemlev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oeilijk te verwerk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koop in aanschaf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rg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mest 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wer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coat = langzaam werken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kele 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teloos voor bodem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kelijk verwer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s duurder in aansch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9:27:18Z</dcterms:created>
  <dc:creator>johan</dc:creator>
  <dc:description/>
  <dc:language>en-US</dc:language>
  <cp:lastModifiedBy>johan</cp:lastModifiedBy>
  <dcterms:modified xsi:type="dcterms:W3CDTF">2008-08-27T18:08:12Z</dcterms:modified>
  <cp:revision>7</cp:revision>
  <dc:subject/>
  <dc:title>Bemesting</dc:title>
</cp:coreProperties>
</file>