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D75A-FFEF-4316-ADDB-1BCE18F20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BD33-101B-47DF-A5A6-3E2D29F2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1D22-42EC-4E5C-8EA6-97B0E7349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A1ED-C87D-41DA-903E-F28F8619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E86B-B1AB-414F-A3CD-7E855BDD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35A6-E37E-4482-B534-3C294439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E61B-E89E-427A-99FD-FAC2D29C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72DE-B93B-4556-9AB1-EE92BADC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0EC8-71C8-4063-B709-D142610B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E73C-C6F1-4EB6-983C-3D3F7499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ED3E-964A-4E5D-95F5-62602C45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47AD-FDF0-4C99-8448-EAFF6FA8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EA52-D883-459B-A785-25364AC82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upload.wikimedia.org/wikipedia/commons/c/ca/Baak.sv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m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dl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16000" y="1235160"/>
            <a:ext cx="741672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gte m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schot bepa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meth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1: Ri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91440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2: ba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19640" y="1197000"/>
            <a:ext cx="3778200" cy="5661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Image:Baak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465280"/>
            <a:ext cx="43862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3: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64000" y="1989000"/>
            <a:ext cx="453708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meten/uitzet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dere metho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lmaat met evt pi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l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lonric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233960" y="1341360"/>
            <a:ext cx="4910040" cy="551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71640" y="4149720"/>
            <a:ext cx="15634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488960"/>
            <a:ext cx="91440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8:07:56Z</dcterms:created>
  <dc:creator>johan</dc:creator>
  <dc:description/>
  <dc:language>en-US</dc:language>
  <cp:lastModifiedBy>johan</cp:lastModifiedBy>
  <dcterms:modified xsi:type="dcterms:W3CDTF">2009-07-11T11:43:27Z</dcterms:modified>
  <cp:revision>4</cp:revision>
  <dc:subject/>
  <dc:title>inmeten/uitzetten</dc:title>
</cp:coreProperties>
</file>