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D1C-86BF-434C-B0F1-B176E494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B59-15DE-4BAB-AC14-0DA6E9C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937-A4EE-4806-B9C7-A817E8D9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A76-CA1E-419E-8625-5F04EF59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EEE-98D5-48B3-8D9B-6F323E21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ABD-B342-4F31-A3BE-3C865F74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EA5-050A-4FFE-8071-26E2E0F7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413-60EB-4D21-B8C2-BACC7391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27F-E6D2-4A4E-8677-DA952A01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8E5-73F3-44F0-B09A-C00E570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0AC-9D01-4D5D-88AD-F9B38C2D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7C2-448B-4415-B3B3-4BC07E14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E6B4-42A7-472A-BB59-EC3181B15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is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dik is de laag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om geel z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sluitband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om opsluitban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krol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11640" y="765000"/>
            <a:ext cx="4614840" cy="2314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3141720"/>
            <a:ext cx="3260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vende hoek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ra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lijen, ti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bakken, beton, natuurs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a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ok        halfsteen        elleboog         kepe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436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27640" y="4724280"/>
            <a:ext cx="1778040" cy="127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516720" y="4724280"/>
            <a:ext cx="17780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lg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kantopslui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e strat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591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80000" y="2205000"/>
            <a:ext cx="53640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rammelant in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r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r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u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8:03:59Z</dcterms:created>
  <dc:creator>johan</dc:creator>
  <dc:description/>
  <dc:language>en-US</dc:language>
  <cp:lastModifiedBy>johan</cp:lastModifiedBy>
  <dcterms:modified xsi:type="dcterms:W3CDTF">2009-07-11T11:53:06Z</dcterms:modified>
  <cp:revision>4</cp:revision>
  <dc:subject/>
  <dc:title>straten</dc:title>
</cp:coreProperties>
</file>