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488-7306-4440-BE1C-37FEB536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D7B-8E64-4039-ADD8-ACA0CEA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C8D-B2E5-4FD5-B561-3EBB617DB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046-2A95-4BE8-9E6A-DF73C921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52F-C6EA-4339-9BF4-FA25154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CCC-103B-4462-A60D-ECDFAB7A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416-29E9-46A5-A8F5-AD3991C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7FE-646F-48D5-982C-5BF7A195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9AE-7355-491F-91D6-6238CE5C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1C7-7367-4356-AF9B-02D3CD6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F30-E7D8-4591-BA90-65D36BB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821-A74D-4C35-8BCF-760FC4E9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D863-760E-4170-B150-CE1E33001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pload.wikimedia.org/wikipedia/commons/c/ca/Baak.sv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dl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235160"/>
            <a:ext cx="7416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te m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chot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1: 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2: ba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19640" y="1197000"/>
            <a:ext cx="3778200" cy="566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Image:Baak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465280"/>
            <a:ext cx="4386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e 3: l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64000" y="1989000"/>
            <a:ext cx="4537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meten/uitze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metho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lmaat met evt p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l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lonric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33960" y="1341360"/>
            <a:ext cx="491004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71640" y="4149720"/>
            <a:ext cx="15634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48896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07:56Z</dcterms:created>
  <dc:creator>johan</dc:creator>
  <dc:description/>
  <dc:language>en-US</dc:language>
  <cp:lastModifiedBy>johan</cp:lastModifiedBy>
  <dcterms:modified xsi:type="dcterms:W3CDTF">2009-07-11T11:43:27Z</dcterms:modified>
  <cp:revision>4</cp:revision>
  <dc:subject/>
  <dc:title>inmeten/uitzetten</dc:title>
</cp:coreProperties>
</file>