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558-D655-41D2-ABEF-AC1285A1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83D4-A24D-47C7-8483-3650B4F4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97D-F77A-4075-BE14-4A61FF03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3D6-4457-4A60-AAB8-1963A082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4D98-0216-4693-8950-0CC93A3F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F1AD-4BD6-4B60-BC07-2752B830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3C58-570F-46DA-BD34-CFADC289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FB76-D2AF-44AC-A29B-3620E599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692-B672-4640-AA55-83199B5F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5E9-58F1-454B-B326-818E3B6A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601-D062-4721-908E-D96D9E25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0FD-F7F4-449F-8940-CFB3F2FB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259B-23A4-4B67-9636-67BEA883C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u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dik is de laag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om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sluitband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om opsluitban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k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11640" y="765000"/>
            <a:ext cx="4614840" cy="23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3260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4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vende hoek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ijen, t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akken, beton, natuur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k        halfsteen        elleboog         kepe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84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2764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516720" y="4724280"/>
            <a:ext cx="17780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lg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kantopslu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strat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591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rammelant in 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r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r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8:03:59Z</dcterms:created>
  <dc:creator>johan</dc:creator>
  <dc:description/>
  <dc:language>en-US</dc:language>
  <cp:lastModifiedBy>johan</cp:lastModifiedBy>
  <dcterms:modified xsi:type="dcterms:W3CDTF">2009-07-11T11:53:06Z</dcterms:modified>
  <cp:revision>4</cp:revision>
  <dc:subject/>
  <dc:title>straten</dc:title>
</cp:coreProperties>
</file>