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E66-83C4-49F0-9939-C4D4901D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0AE-09D6-447A-8FEA-AA722381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15CA-12F5-46C8-A451-E373C376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E4AC-3ADE-4F86-95CD-DCFD912C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95D1-629F-43DB-B3EE-FBE7D09D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7672-A45D-410B-8AAA-FA876D9E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CB69-1264-4A48-8A37-88C73E9B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F56-B0A4-4471-80C1-E3FCC00E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BEA-B81A-4650-92E4-23015E20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030-A539-4D67-AD96-8E7CE532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B1D4-C6BA-4EA2-99E6-B1B2C302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52A1-111A-47C7-B49D-B32642CA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BD1F-B46F-4C56-AB16-74D3570EB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commons/c/ca/Baak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d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235160"/>
            <a:ext cx="74167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te 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chot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1: 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2: ba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778200" cy="566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Image:Baak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465280"/>
            <a:ext cx="4386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3: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7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meten/uitzet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metho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lmaat met evt p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lonri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33960" y="1341360"/>
            <a:ext cx="4910040" cy="551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1563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07:56Z</dcterms:created>
  <dc:creator>johan</dc:creator>
  <dc:description/>
  <dc:language>en-US</dc:language>
  <cp:lastModifiedBy>johan</cp:lastModifiedBy>
  <dcterms:modified xsi:type="dcterms:W3CDTF">2009-07-11T11:43:27Z</dcterms:modified>
  <cp:revision>4</cp:revision>
  <dc:subject/>
  <dc:title>inmeten/uitzetten</dc:title>
</cp:coreProperties>
</file>