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DCF1-D075-4B1C-B112-4158CB4B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E379-7149-40BB-9EDB-C1380D2F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101-C7C1-4A35-AF7B-160B67B6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2CA-0CD6-497C-BFA3-E3E7F29B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C33B-8D52-4A16-8373-29FAAD98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A3A2-7539-4FC3-8942-9C14E018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F0E-6A4A-47A2-8096-0D2D287B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77FC-E874-40F4-AE98-A0569A97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3272-77A6-41AB-AA28-F5398B50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2A9-C6B5-4DC6-8B9C-B383582C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D9F-2B06-429B-995D-9C49ED96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4FDC-BDE1-41B4-98A3-EFF5E461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9694-C5E4-40FE-89DF-5CC4A8D99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u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dik is de laag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om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sluitband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om opsluitban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k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11640" y="765000"/>
            <a:ext cx="4614840" cy="23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3260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4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vende hoek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ijen, t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akken, beton, natuur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k        halfsteen        elleboog         kepe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84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2764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516720" y="4724280"/>
            <a:ext cx="17780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lg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kantopslu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strat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591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rammelant in 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r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r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8:03:59Z</dcterms:created>
  <dc:creator>johan</dc:creator>
  <dc:description/>
  <dc:language>en-US</dc:language>
  <cp:lastModifiedBy>johan</cp:lastModifiedBy>
  <dcterms:modified xsi:type="dcterms:W3CDTF">2009-07-11T11:53:06Z</dcterms:modified>
  <cp:revision>4</cp:revision>
  <dc:subject/>
  <dc:title>straten</dc:title>
</cp:coreProperties>
</file>