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7E8-CF07-4675-98DA-5FF7FBB7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01F-5883-46B2-B5FE-D2A6025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A4A-1912-461A-935A-C93CEA9A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D96-DE03-45E8-8DA8-B2BBB514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413-E8DF-43ED-8538-2C54D9B4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510-3DCB-4721-BC4B-276059A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2CC-EE78-47B6-AEFE-0F2758F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D7C-8E17-4162-9F95-EA113056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574-4DC5-4F39-B68A-AFF6033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099-5D9C-44B3-BE24-078FEA0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89F-3688-468E-ADE1-53069D9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742-1E2B-43AF-A82F-56C1AF1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8B3D-0642-4E8B-8963-27A7BD87AA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8131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64148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default</cp:lastModifiedBy>
  <cp:lastPrinted>2005-05-24T09:08:19Z</cp:lastPrinted>
  <dcterms:modified xsi:type="dcterms:W3CDTF">2008-09-30T06:35:22Z</dcterms:modified>
  <cp:revision>2</cp:revision>
  <dc:subject/>
  <dc:title>Dia 1</dc:title>
</cp:coreProperties>
</file>