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F806-7F57-4FFB-ACD7-9BE867039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DBC2-927A-41BF-B7C1-A93BB6FD0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1796-0FFB-470E-8420-92236E0E2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5FAA-67A7-46FF-91E2-CF34F3300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BB79-2903-49E3-A03D-EB2F1D975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20DC-00A7-4FF7-885F-1FDC5AE11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54A2-EB28-4CC3-9C6E-DB7EC89D8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21C1-89B1-433A-93A6-918845A05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1EE1-E880-4B72-B041-6F7D23D14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3554-40F5-4D77-965B-B8B70AD7C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8F73-D33D-4298-A6D3-47F4C9B7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0F59-1A20-44B3-9F98-E97F5EF2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E09F8-964B-46CD-AB32-6060BBCFB2A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4360" y="2133720"/>
            <a:ext cx="795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340000" y="1197000"/>
            <a:ext cx="6804000" cy="510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4360" y="2133720"/>
            <a:ext cx="795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124000" y="1197000"/>
            <a:ext cx="6659640" cy="499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2133720"/>
            <a:ext cx="795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979640" y="1341360"/>
            <a:ext cx="6481800" cy="48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4360" y="2133720"/>
            <a:ext cx="795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995640" y="1268280"/>
            <a:ext cx="3672000" cy="48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2133720"/>
            <a:ext cx="795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050920" y="1413000"/>
            <a:ext cx="6193080" cy="464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4360" y="2133720"/>
            <a:ext cx="795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979640" y="1268280"/>
            <a:ext cx="6913440" cy="518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4360" y="2133720"/>
            <a:ext cx="795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979640" y="1268280"/>
            <a:ext cx="6769080" cy="507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4360" y="2133720"/>
            <a:ext cx="795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268360" y="1773360"/>
            <a:ext cx="6228000" cy="467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4360" y="2133720"/>
            <a:ext cx="795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284720" y="1125360"/>
            <a:ext cx="3813120" cy="508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4360" y="2133720"/>
            <a:ext cx="795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195640" y="1484280"/>
            <a:ext cx="6414840" cy="4811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12:43:33Z</dcterms:created>
  <dc:creator>De Lange</dc:creator>
  <dc:description/>
  <dc:language>en-US</dc:language>
  <cp:lastModifiedBy>default</cp:lastModifiedBy>
  <cp:lastPrinted>2005-05-24T09:08:19Z</cp:lastPrinted>
  <dcterms:modified xsi:type="dcterms:W3CDTF">2008-09-30T06:35:22Z</dcterms:modified>
  <cp:revision>2</cp:revision>
  <dc:subject/>
  <dc:title>Dia 1</dc:title>
</cp:coreProperties>
</file>