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2A3-4969-49ED-852A-ACC59B5A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03C-C2B3-4286-88F6-7C397A88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1F5-EADE-468C-AA74-731D6FDE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242-D3E3-467B-AAB4-263DADF2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0E2-18FA-4A14-9DA3-8BB00F18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6C0-4ABF-460F-85C9-820DF679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064-4069-4A68-8AAD-2DFADEB2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446-A9F2-4B1F-B1AE-5E745556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72A-5D2A-4B8E-B488-B3A3C9C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302-FA31-44B0-8659-0DFB3FFF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423-7131-4959-9A05-276AF476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8E2-B224-4999-96A7-10D1F6C0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ECE4-A6DB-4F00-8062-9B53178F9E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91344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6228000" cy="46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38131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64148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De Lange</dc:creator>
  <dc:description/>
  <dc:language>en-US</dc:language>
  <cp:lastModifiedBy>default</cp:lastModifiedBy>
  <cp:lastPrinted>2005-05-24T09:08:19Z</cp:lastPrinted>
  <dcterms:modified xsi:type="dcterms:W3CDTF">2008-09-30T06:35:22Z</dcterms:modified>
  <cp:revision>2</cp:revision>
  <dc:subject/>
  <dc:title>Dia 1</dc:title>
</cp:coreProperties>
</file>