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285-8DE2-4E39-9C07-136E94BE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DE9-A69C-4F11-BB43-61AC1EB3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832-99A0-4D58-A6DF-214500BF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461-DA35-43B4-AAC7-27317020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763-CA44-4798-93CD-5B1EE915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F15-B46C-4377-BB96-6142ED98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AF0-B502-4A6B-83AC-0884A2B3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8FA-FA6A-4885-AD10-30D4DEF9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10A-AA97-4C06-A050-F126A8BF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069-C680-4DCF-9A38-575A5D33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B0E-D365-4104-9AB7-DDC75BBB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7F5-BAA3-4F88-8B50-289E0863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B643-FE49-48EF-AC6C-4AF44CD5E60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64818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36720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91344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6228000" cy="46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3813120" cy="50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95640" y="1484280"/>
            <a:ext cx="64148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43:33Z</dcterms:created>
  <dc:creator>De Lange</dc:creator>
  <dc:description/>
  <dc:language>en-US</dc:language>
  <cp:lastModifiedBy>default</cp:lastModifiedBy>
  <cp:lastPrinted>2005-05-24T09:08:19Z</cp:lastPrinted>
  <dcterms:modified xsi:type="dcterms:W3CDTF">2008-09-30T06:35:22Z</dcterms:modified>
  <cp:revision>2</cp:revision>
  <dc:subject/>
  <dc:title>Dia 1</dc:title>
</cp:coreProperties>
</file>