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E45-BB0E-47CC-9961-B4F6E24F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949-9095-41E3-B68D-055FFB29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353-85AB-4DE2-AE7A-7BB597E2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B7C-F512-4DE9-93F8-89A9B160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479-7170-4C79-BF8B-C2F5458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D795-E98A-4BF4-BCE9-834FBCEB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DC65-9A61-4806-860C-B3071516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1DF-52C4-46ED-8800-064EE9A5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A54-220F-4EC2-AF1C-97F65881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87D-9307-4323-9D2D-DB88F77A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E9D-4B79-4E60-B88B-4DFFEF3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62D-5A15-4D53-9C10-78FFE902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5AED-D084-4BFF-B915-F993690BA5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64818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91344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6769080" cy="50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228000" cy="46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38131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133720"/>
            <a:ext cx="79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6414840" cy="481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default</cp:lastModifiedBy>
  <cp:lastPrinted>2005-05-24T09:08:19Z</cp:lastPrinted>
  <dcterms:modified xsi:type="dcterms:W3CDTF">2008-09-30T06:35:22Z</dcterms:modified>
  <cp:revision>2</cp:revision>
  <dc:subject/>
  <dc:title>Dia 1</dc:title>
</cp:coreProperties>
</file>