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8.jpeg" ContentType="image/jpe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FC2B-5E19-4BC6-8948-2DE14C2C21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it is een kombinatie van een EE woordenboek en thesaur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C69A-9FC2-4B54-9554-E6F740F672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E7E5-74FC-4C88-B2C6-5FF8B2D41A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5E4E-EAB9-4EFA-B0D2-52BA8F7B566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7603-1ECB-489B-95B7-9E642D2AF3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1FB9-A316-41D1-9265-F1A70F4D43F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CD25-C1B7-4809-860D-EC97BCF98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9D4F-E11B-4B82-8AAE-3E708559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0A21-2319-461C-AF73-DCCF5A8EC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C9CC-DD46-4DA4-A04D-F5F7CDB8C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757E-8C5C-4129-A7F4-47F2C3F7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4918-FF75-49BA-9BBA-009A68EA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40AA-8ECA-434A-962D-00649C1E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9661-C044-4E04-99F8-E9901201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528C-4DCF-4F3C-9CCC-413BEA7E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5B27-5119-4B54-801C-9851FA7F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2874-9A62-4C74-8607-FEDDBD95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FBDB-295A-435E-A44C-E2F86D97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ED17-95D3-4B56-AFF3-DD897C308EA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g221.imageshack.us/img221/2046/b00007e8bhjg4.jpg&amp;imgrefurl=http://rumahbeasiswa.com/english-preparation/dictionary/oxford-dictionary-of-english-2006.html&amp;h=384&amp;w=384&amp;sz=43&amp;hl=nl&amp;start=2&amp;um=1&amp;tbnid=4CFZPEoXHJnukM:&amp;tbnh=123&amp;tbnw=123&amp;prev=/images%3Fq%3Ddictionary%26um%3D1%26hl%3Dnl%26safe%3Doff%26rls%3Dcom.microsoft:*:IE-SearchBox%26rlz%3D1I7SUNA%26sa%3DN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457200" y="3808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ictionary Skills!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tbn0.google.com/images?q=tbn:4CFZPEoXHJnukM:http://img221.imageshack.us/img221/2046/b00007e8bhjg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242892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tbn0.google.com/images?q=tbn:zfICr-3Y62jI7M:http://www3.waterstones.com/wat/images/special/promo/dictionary.jpg"/>
          <p:cNvPicPr/>
          <p:nvPr/>
        </p:nvPicPr>
        <p:blipFill>
          <a:blip r:embed="rId3"/>
          <a:stretch/>
        </p:blipFill>
        <p:spPr>
          <a:xfrm>
            <a:off x="2286000" y="3956040"/>
            <a:ext cx="1714680" cy="2901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tbn0.google.com/images?q=tbn:TptWn9A4ZNSt6M:http://upload.wikimedia.org/wikipedia/en/2/2c/Oxford_English_Dictionary_Set.jpg"/>
          <p:cNvPicPr/>
          <p:nvPr/>
        </p:nvPicPr>
        <p:blipFill>
          <a:blip r:embed="rId4"/>
          <a:stretch/>
        </p:blipFill>
        <p:spPr>
          <a:xfrm>
            <a:off x="2928960" y="2428920"/>
            <a:ext cx="2979720" cy="128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tbn0.google.com/images?q=tbn:wG1R1j9u349wWM:http://www.nnbh.com/9066482184.jpg"/>
          <p:cNvPicPr/>
          <p:nvPr/>
        </p:nvPicPr>
        <p:blipFill>
          <a:blip r:embed="rId5"/>
          <a:stretch/>
        </p:blipFill>
        <p:spPr>
          <a:xfrm>
            <a:off x="6572160" y="3643200"/>
            <a:ext cx="20718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ave a go: who gets it righ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kstvak 2"/>
          <p:cNvSpPr/>
          <p:nvPr/>
        </p:nvSpPr>
        <p:spPr>
          <a:xfrm>
            <a:off x="428760" y="164304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armee wordt een richting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ange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Op grond va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ze erva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k ben daar niet bij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b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g maa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a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an sch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kstvak 3"/>
          <p:cNvSpPr/>
          <p:nvPr/>
        </p:nvSpPr>
        <p:spPr>
          <a:xfrm>
            <a:off x="357120" y="371484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’re looking for a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isintereste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ere would have been some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ift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her m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 Teachers Un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i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is is a pa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re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 Thesaurus</a:t>
            </a:r>
            <a:br>
              <a:rPr sz="4400"/>
            </a:b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as more synonyms than you can dream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Afbeelding 3" descr="thesaurus.JPG"/>
          <p:cNvPicPr/>
          <p:nvPr/>
        </p:nvPicPr>
        <p:blipFill>
          <a:blip r:embed="rId1"/>
          <a:stretch/>
        </p:blipFill>
        <p:spPr>
          <a:xfrm>
            <a:off x="0" y="1500120"/>
            <a:ext cx="8358120" cy="66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400" y="785520"/>
            <a:ext cx="3214440" cy="51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n English/ English Diction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kstvak 2"/>
          <p:cNvSpPr/>
          <p:nvPr/>
        </p:nvSpPr>
        <p:spPr>
          <a:xfrm>
            <a:off x="500040" y="285840"/>
            <a:ext cx="52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 to choose the right word you sometimes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Afbeelding 3" descr="ee.JPG"/>
          <p:cNvPicPr/>
          <p:nvPr/>
        </p:nvPicPr>
        <p:blipFill>
          <a:blip r:embed="rId1"/>
          <a:stretch/>
        </p:blipFill>
        <p:spPr>
          <a:xfrm>
            <a:off x="3714840" y="1428840"/>
            <a:ext cx="6429240" cy="131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84836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 dictionary will give you the following information about a word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520" y="2742840"/>
            <a:ext cx="861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How to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spell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the word and its special plural for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Whether or not the word is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capitalized or abbrevi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How to break the word into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sylla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How to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pronounce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the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part of speech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of a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ifferent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meanings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that the word h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A sentence or expression with the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word used correc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special uses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of the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Other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words derived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from the main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57120" y="457200"/>
            <a:ext cx="8253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G</a:t>
            </a: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uide words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 are used to help you locate a word quickly.</a:t>
            </a: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Guide words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 are found at the top of each page.  They tell you the </a:t>
            </a: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first 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and </a:t>
            </a: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last 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word that is found on that p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Afbeelding 2" descr="guide word.JPG"/>
          <p:cNvPicPr/>
          <p:nvPr/>
        </p:nvPicPr>
        <p:blipFill>
          <a:blip r:embed="rId1"/>
          <a:stretch/>
        </p:blipFill>
        <p:spPr>
          <a:xfrm>
            <a:off x="1000080" y="3929040"/>
            <a:ext cx="4286160" cy="534528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71"/>
          <p:cNvSpPr/>
          <p:nvPr/>
        </p:nvSpPr>
        <p:spPr>
          <a:xfrm>
            <a:off x="-142920" y="3286080"/>
            <a:ext cx="1643040" cy="71460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uide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1"/>
          <p:cNvSpPr/>
          <p:nvPr/>
        </p:nvSpPr>
        <p:spPr>
          <a:xfrm flipH="1" flipV="1">
            <a:off x="1214280" y="3643200"/>
            <a:ext cx="285840" cy="57168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Afbeelding 5" descr="guide2.JPG"/>
          <p:cNvPicPr/>
          <p:nvPr/>
        </p:nvPicPr>
        <p:blipFill>
          <a:blip r:embed="rId2"/>
          <a:stretch/>
        </p:blipFill>
        <p:spPr>
          <a:xfrm>
            <a:off x="5429160" y="4000680"/>
            <a:ext cx="3830760" cy="5429160"/>
          </a:xfrm>
          <a:prstGeom prst="rect">
            <a:avLst/>
          </a:prstGeom>
          <a:ln w="0">
            <a:noFill/>
          </a:ln>
        </p:spPr>
      </p:pic>
      <p:sp>
        <p:nvSpPr>
          <p:cNvPr id="60" name="Line 81"/>
          <p:cNvSpPr/>
          <p:nvPr/>
        </p:nvSpPr>
        <p:spPr>
          <a:xfrm flipH="1" flipV="1">
            <a:off x="1366920" y="3795480"/>
            <a:ext cx="6919920" cy="34740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solidFill>
            <a:srgbClr val="006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304920" y="228600"/>
            <a:ext cx="86104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Arial"/>
              </a:rPr>
              <a:t>Dictionary Defini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’re going to learn what each part of a definition mean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bd05629_"/>
          <p:cNvPicPr/>
          <p:nvPr/>
        </p:nvPicPr>
        <p:blipFill>
          <a:blip r:embed="rId1"/>
          <a:stretch/>
        </p:blipFill>
        <p:spPr>
          <a:xfrm>
            <a:off x="2438280" y="3117960"/>
            <a:ext cx="444528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006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solidFill>
            <a:srgbClr val="006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3"/>
          <p:cNvSpPr/>
          <p:nvPr/>
        </p:nvSpPr>
        <p:spPr>
          <a:xfrm>
            <a:off x="0" y="179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avigating an English-Dutch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2"/>
          <p:cNvSpPr/>
          <p:nvPr/>
        </p:nvSpPr>
        <p:spPr>
          <a:xfrm flipH="1" flipV="1">
            <a:off x="4723920" y="1371240"/>
            <a:ext cx="561960" cy="105732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4"/>
          <p:cNvSpPr/>
          <p:nvPr/>
        </p:nvSpPr>
        <p:spPr>
          <a:xfrm flipV="1">
            <a:off x="6500880" y="1571400"/>
            <a:ext cx="285840" cy="50004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9"/>
          <p:cNvSpPr/>
          <p:nvPr/>
        </p:nvSpPr>
        <p:spPr>
          <a:xfrm flipH="1">
            <a:off x="1214280" y="2286000"/>
            <a:ext cx="2143440" cy="6429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1"/>
          <p:cNvSpPr/>
          <p:nvPr/>
        </p:nvSpPr>
        <p:spPr>
          <a:xfrm flipV="1">
            <a:off x="7358040" y="1857240"/>
            <a:ext cx="285840" cy="2145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2"/>
          <p:cNvSpPr/>
          <p:nvPr/>
        </p:nvSpPr>
        <p:spPr>
          <a:xfrm flipH="1" flipV="1">
            <a:off x="1599840" y="5105160"/>
            <a:ext cx="2514600" cy="60948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9"/>
          <p:cNvSpPr/>
          <p:nvPr/>
        </p:nvSpPr>
        <p:spPr>
          <a:xfrm>
            <a:off x="4071960" y="1214280"/>
            <a:ext cx="1571760" cy="35748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er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0"/>
          <p:cNvSpPr/>
          <p:nvPr/>
        </p:nvSpPr>
        <p:spPr>
          <a:xfrm>
            <a:off x="5786280" y="928800"/>
            <a:ext cx="1785960" cy="64296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pressions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italic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3"/>
          <p:cNvSpPr/>
          <p:nvPr/>
        </p:nvSpPr>
        <p:spPr>
          <a:xfrm>
            <a:off x="7000920" y="1571760"/>
            <a:ext cx="1700280" cy="35712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~ =head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71"/>
          <p:cNvSpPr/>
          <p:nvPr/>
        </p:nvSpPr>
        <p:spPr>
          <a:xfrm>
            <a:off x="304920" y="2286000"/>
            <a:ext cx="2052360" cy="71424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nun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4"/>
          <p:cNvSpPr/>
          <p:nvPr/>
        </p:nvSpPr>
        <p:spPr>
          <a:xfrm>
            <a:off x="304920" y="4648320"/>
            <a:ext cx="1904760" cy="106668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der spelligs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rkd with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ste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5"/>
          <p:cNvSpPr/>
          <p:nvPr/>
        </p:nvSpPr>
        <p:spPr>
          <a:xfrm>
            <a:off x="2500200" y="1500120"/>
            <a:ext cx="1400400" cy="35712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u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6"/>
          <p:cNvSpPr/>
          <p:nvPr/>
        </p:nvSpPr>
        <p:spPr>
          <a:xfrm flipH="1" flipV="1">
            <a:off x="2857320" y="1785960"/>
            <a:ext cx="1214280" cy="28584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0"/>
          <p:cNvSpPr/>
          <p:nvPr/>
        </p:nvSpPr>
        <p:spPr>
          <a:xfrm>
            <a:off x="6286680" y="3714840"/>
            <a:ext cx="2057400" cy="32364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1"/>
          <p:cNvSpPr/>
          <p:nvPr/>
        </p:nvSpPr>
        <p:spPr>
          <a:xfrm flipH="1">
            <a:off x="6386040" y="2857680"/>
            <a:ext cx="328680" cy="94752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kstvak 27"/>
          <p:cNvSpPr/>
          <p:nvPr/>
        </p:nvSpPr>
        <p:spPr>
          <a:xfrm>
            <a:off x="2571840" y="1928880"/>
            <a:ext cx="5857920" cy="1283040"/>
          </a:xfrm>
          <a:prstGeom prst="rect">
            <a:avLst/>
          </a:prstGeom>
          <a:solidFill>
            <a:srgbClr val="d9d9d9">
              <a:alpha val="45000"/>
            </a:srgbClr>
          </a:solidFill>
          <a:ln w="9360">
            <a:solidFill>
              <a:srgbClr val="4f81bd">
                <a:alpha val="6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70c0"/>
                </a:solidFill>
                <a:latin typeface="Rockwell Extra Bold"/>
              </a:rPr>
              <a:t>fight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[fait] I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1" i="1" lang="nl-NL" sz="1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1 gevecht, strijd; 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make a brave ~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ranig vechten …2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chtlus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… II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ww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1 vechten,  strijden; strijden voor: ~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the cause of liberty; … ~</a:t>
            </a:r>
            <a:r>
              <a:rPr b="1" i="1" lang="nl-NL" sz="1800" spc="-1" strike="noStrike">
                <a:solidFill>
                  <a:srgbClr val="000000"/>
                </a:solidFill>
                <a:latin typeface="Calibri"/>
              </a:rPr>
              <a:t> back,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a)terugdringen; b) zich verweren ….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2 bevech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Afbeelding 24" descr="fight.JPG"/>
          <p:cNvPicPr/>
          <p:nvPr/>
        </p:nvPicPr>
        <p:blipFill>
          <a:blip r:embed="rId1"/>
          <a:stretch/>
        </p:blipFill>
        <p:spPr>
          <a:xfrm>
            <a:off x="214200" y="3500280"/>
            <a:ext cx="4945320" cy="314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457200" y="7174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w you know the definition of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definition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abcbook"/>
          <p:cNvPicPr/>
          <p:nvPr/>
        </p:nvPicPr>
        <p:blipFill>
          <a:blip r:embed="rId1"/>
          <a:stretch/>
        </p:blipFill>
        <p:spPr>
          <a:xfrm>
            <a:off x="2971800" y="320040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N-E – ongelukkige miss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00120" y="29624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he had an unhapp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An acquaintance so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He goes strange with her si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5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stellar"/>
              </a:rPr>
              <a:t>Some ba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at uitgangen we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ending: zoek “bend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unpredictably: zoek “predict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oek de juiste woordsoort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; zn. = noun, zelfstandig naamwo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b; ww. = verb, werkwoor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dj; bv. nw. = adjective, bijvoeglijk naamwo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dv; bw = adverb, bijwo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006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solidFill>
            <a:srgbClr val="006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0" y="179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avigating a Dutch-English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4"/>
          <p:cNvSpPr/>
          <p:nvPr/>
        </p:nvSpPr>
        <p:spPr>
          <a:xfrm flipV="1">
            <a:off x="4857840" y="1499760"/>
            <a:ext cx="142920" cy="71460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1"/>
          <p:cNvSpPr/>
          <p:nvPr/>
        </p:nvSpPr>
        <p:spPr>
          <a:xfrm flipH="1" flipV="1">
            <a:off x="6500880" y="1643040"/>
            <a:ext cx="428400" cy="6429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0"/>
          <p:cNvSpPr/>
          <p:nvPr/>
        </p:nvSpPr>
        <p:spPr>
          <a:xfrm>
            <a:off x="4357800" y="928800"/>
            <a:ext cx="1785960" cy="64296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ecified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italic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3"/>
          <p:cNvSpPr/>
          <p:nvPr/>
        </p:nvSpPr>
        <p:spPr>
          <a:xfrm>
            <a:off x="6286680" y="1285920"/>
            <a:ext cx="1699920" cy="35712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bined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1"/>
          <p:cNvSpPr/>
          <p:nvPr/>
        </p:nvSpPr>
        <p:spPr>
          <a:xfrm>
            <a:off x="142920" y="3500280"/>
            <a:ext cx="2052720" cy="71460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5"/>
          <p:cNvSpPr/>
          <p:nvPr/>
        </p:nvSpPr>
        <p:spPr>
          <a:xfrm>
            <a:off x="2500200" y="1500120"/>
            <a:ext cx="1400400" cy="35712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dj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6"/>
          <p:cNvSpPr/>
          <p:nvPr/>
        </p:nvSpPr>
        <p:spPr>
          <a:xfrm flipH="1" flipV="1">
            <a:off x="2857320" y="1785600"/>
            <a:ext cx="1214280" cy="50004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0"/>
          <p:cNvSpPr/>
          <p:nvPr/>
        </p:nvSpPr>
        <p:spPr>
          <a:xfrm>
            <a:off x="7143840" y="4643280"/>
            <a:ext cx="1414440" cy="32400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kstvak 27"/>
          <p:cNvSpPr/>
          <p:nvPr/>
        </p:nvSpPr>
        <p:spPr>
          <a:xfrm>
            <a:off x="2714760" y="2286000"/>
            <a:ext cx="6215040" cy="1739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70c0"/>
                </a:solidFill>
                <a:latin typeface="Rockwell Extra Bold"/>
              </a:rPr>
              <a:t>ongelijk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i="1" lang="nl-NL" sz="1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 1 (verschillend)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equal [portions], different, unlike, dissimilar;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dat is ~ (wisselt af)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that varies …. 2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(ongelijkmatig)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equal, [step, temper etc] … II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bw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1 unequally, unevenly 2 depending on [what, how much]… III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zn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wrong ;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iemand ~ aandoen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rong a p.; ~ </a:t>
            </a:r>
            <a:r>
              <a:rPr b="1" i="1" lang="nl-NL" sz="1800" spc="-1" strike="noStrike">
                <a:solidFill>
                  <a:srgbClr val="000000"/>
                </a:solidFill>
                <a:latin typeface="Calibri"/>
              </a:rPr>
              <a:t>bekennen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dmit o.s. to be wr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Afbeelding 20" descr="ongelijk.JPG"/>
          <p:cNvPicPr/>
          <p:nvPr/>
        </p:nvPicPr>
        <p:blipFill>
          <a:blip r:embed="rId1"/>
          <a:stretch/>
        </p:blipFill>
        <p:spPr>
          <a:xfrm>
            <a:off x="285840" y="4214880"/>
            <a:ext cx="4643280" cy="3821040"/>
          </a:xfrm>
          <a:prstGeom prst="rect">
            <a:avLst/>
          </a:prstGeom>
          <a:ln w="0">
            <a:noFill/>
          </a:ln>
        </p:spPr>
      </p:pic>
      <p:sp>
        <p:nvSpPr>
          <p:cNvPr id="102" name="Line 54"/>
          <p:cNvSpPr/>
          <p:nvPr/>
        </p:nvSpPr>
        <p:spPr>
          <a:xfrm flipV="1">
            <a:off x="3143160" y="1571760"/>
            <a:ext cx="1428840" cy="128592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1"/>
          <p:cNvSpPr/>
          <p:nvPr/>
        </p:nvSpPr>
        <p:spPr>
          <a:xfrm flipV="1">
            <a:off x="6143760" y="1499760"/>
            <a:ext cx="214200" cy="13575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9"/>
          <p:cNvSpPr/>
          <p:nvPr/>
        </p:nvSpPr>
        <p:spPr>
          <a:xfrm>
            <a:off x="5643720" y="4143240"/>
            <a:ext cx="2143080" cy="35748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dve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9"/>
          <p:cNvSpPr/>
          <p:nvPr/>
        </p:nvSpPr>
        <p:spPr>
          <a:xfrm flipH="1">
            <a:off x="2143080" y="3643200"/>
            <a:ext cx="3571920" cy="2145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1"/>
          <p:cNvSpPr/>
          <p:nvPr/>
        </p:nvSpPr>
        <p:spPr>
          <a:xfrm>
            <a:off x="7400880" y="3357720"/>
            <a:ext cx="171360" cy="12855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2"/>
          <p:cNvSpPr/>
          <p:nvPr/>
        </p:nvSpPr>
        <p:spPr>
          <a:xfrm>
            <a:off x="7286760" y="3143160"/>
            <a:ext cx="71280" cy="107172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8:37:11Z</dcterms:created>
  <dc:creator>Cor</dc:creator>
  <dc:description/>
  <dc:language>en-US</dc:language>
  <cp:lastModifiedBy>Cor</cp:lastModifiedBy>
  <dcterms:modified xsi:type="dcterms:W3CDTF">2008-03-24T09:00:09Z</dcterms:modified>
  <cp:revision>53</cp:revision>
  <dc:subject/>
  <dc:title>Dia 1</dc:title>
</cp:coreProperties>
</file>