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rrow.wav" ContentType="audio/x-wav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4810-0388-4E6A-A9AC-C3BE49B40FEF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8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E648-769C-4F19-8F47-07D19AC8B7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45A7-AF67-48FF-A618-1FBBA7F7A60E}" type="datetime3">
              <a:rPr b="0" lang="nl-NL" sz="1200" spc="-1" strike="noStrike">
                <a:solidFill>
                  <a:srgbClr val="000000"/>
                </a:solidFill>
                <a:latin typeface="Arial"/>
              </a:rPr>
              <a:t>28 juli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67AE-BD29-48EE-B0E5-5412FDD5A21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6D5-C958-4D58-9D53-2B2C0275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E74-46A0-45A5-8827-3DF57D63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C8C5-AF3D-45AF-9F58-91BE54B1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E81-6037-4A5D-9984-3D468B85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B90-43DD-4EBE-A11D-0E2A138A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A40-DAD3-4AA2-A435-C65398AC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F105-C255-417B-BC1D-8651657E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668-4AA4-4C47-ADA1-F5852213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36B4-746C-4862-AB43-86FA8299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9937-7EF5-468E-9B19-921AF4E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42B-450E-4B08-8389-54607D78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AFC5-35D3-495D-AF09-4A53C104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r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AC6D-CC11-479F-871F-81D12D59559B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eende Ana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Wat kun je er mee do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dere 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helft van de energie (Overige Koolhydraten) staat niet op de verpakking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 en/of Droge Stof gehalten staan niet verme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Anorganische Stof is niet gespecificeerd weergeg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chema van de Weender Analyse is dus nodig om meer te weten te k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ak nu zelf een analyse van het onderstaande etik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3203640" y="4005360"/>
            <a:ext cx="302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cc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4" name="Afbeelding 1" descr=""/>
          <p:cNvPicPr/>
          <p:nvPr/>
        </p:nvPicPr>
        <p:blipFill>
          <a:blip r:embed="rId3"/>
          <a:stretch/>
        </p:blipFill>
        <p:spPr>
          <a:xfrm>
            <a:off x="1763640" y="3562200"/>
            <a:ext cx="6197760" cy="23972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arrow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Organization Chart 1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7"/>
          <p:cNvSpPr/>
          <p:nvPr/>
        </p:nvSpPr>
        <p:spPr>
          <a:xfrm>
            <a:off x="611280" y="357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9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0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1"/>
          <p:cNvSpPr/>
          <p:nvPr/>
        </p:nvSpPr>
        <p:spPr>
          <a:xfrm>
            <a:off x="2610360" y="30160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2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3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4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5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6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37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8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9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0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1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3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4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5"/>
          <p:cNvSpPr/>
          <p:nvPr/>
        </p:nvSpPr>
        <p:spPr>
          <a:xfrm>
            <a:off x="6948360" y="242100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6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7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8"/>
          <p:cNvSpPr/>
          <p:nvPr/>
        </p:nvSpPr>
        <p:spPr>
          <a:xfrm>
            <a:off x="7596360" y="306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9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0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1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2"/>
          <p:cNvSpPr/>
          <p:nvPr/>
        </p:nvSpPr>
        <p:spPr>
          <a:xfrm>
            <a:off x="5148360" y="450864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3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5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6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44440"/>
            <a:ext cx="830268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gevens van vo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mso2E856"/>
          <p:cNvPicPr/>
          <p:nvPr/>
        </p:nvPicPr>
        <p:blipFill>
          <a:blip r:embed="rId1"/>
          <a:stretch/>
        </p:blipFill>
        <p:spPr>
          <a:xfrm>
            <a:off x="1476360" y="1341360"/>
            <a:ext cx="6624720" cy="52261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arrow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em gegevens over in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goed wat je kunt overne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a er van uit dat droge voedermiddelen zoals krokante brok ongeveer 90 % Droge Stof hebb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 met kleuren. De gegevens zetten we bijvoorbeeld </a:t>
            </a:r>
            <a:r>
              <a:rPr b="0" lang="nl-NL" sz="3200" spc="-1" strike="noStrike">
                <a:solidFill>
                  <a:srgbClr val="ffff00"/>
                </a:solidFill>
                <a:latin typeface="Calibri"/>
              </a:rPr>
              <a:t>gee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in het sch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gin bij het voedermiddel met 100 %. Dat is alles in het voedermidd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8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70036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508720" y="2781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300720" y="3645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7236000" y="4149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8"/>
          <p:cNvSpPr/>
          <p:nvPr/>
        </p:nvSpPr>
        <p:spPr>
          <a:xfrm>
            <a:off x="529272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ken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ek in elke volgende stap de getallen van elkaar af en kijk wat je kunt uitrek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 geven de berekende getallen hier in </a:t>
            </a:r>
            <a:r>
              <a:rPr b="0" lang="nl-NL" sz="3200" spc="-1" strike="noStrike">
                <a:solidFill>
                  <a:srgbClr val="00ffff"/>
                </a:solidFill>
                <a:latin typeface="Calibri"/>
              </a:rPr>
              <a:t>lichtblauw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t Sch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Organization Chart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22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11280" y="357336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eder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124000" y="3141720"/>
            <a:ext cx="576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124000" y="371628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610360" y="3016080"/>
            <a:ext cx="12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rog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9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2700360" y="407664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1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V="1">
            <a:off x="3780000" y="263700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>
            <a:off x="3780000" y="3213000"/>
            <a:ext cx="360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211640" y="2492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nische Stof </a:t>
            </a: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82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419640" y="4508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organische 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7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 flipV="1">
            <a:off x="4932360" y="1989000"/>
            <a:ext cx="57636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5651640" y="184464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houdende Stof = Ruw Eiwit  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2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>
            <a:off x="5003640" y="2852640"/>
            <a:ext cx="43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6064200" y="2655720"/>
            <a:ext cx="73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8"/>
          <p:cNvSpPr/>
          <p:nvPr/>
        </p:nvSpPr>
        <p:spPr>
          <a:xfrm>
            <a:off x="5508720" y="2781360"/>
            <a:ext cx="934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-vrij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9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6372360" y="263700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7359480" y="2297160"/>
            <a:ext cx="74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1"/>
          <p:cNvSpPr/>
          <p:nvPr/>
        </p:nvSpPr>
        <p:spPr>
          <a:xfrm>
            <a:off x="6948360" y="2421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 Vet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"/>
          <p:cNvSpPr/>
          <p:nvPr/>
        </p:nvSpPr>
        <p:spPr>
          <a:xfrm>
            <a:off x="6300720" y="364500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ffff"/>
                </a:solidFill>
                <a:latin typeface="Arial"/>
              </a:rPr>
              <a:t>51,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6084720" y="3357720"/>
            <a:ext cx="28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7596360" y="3068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Celstof </a:t>
            </a:r>
            <a:r>
              <a:rPr b="0" lang="nl-NL" sz="1800" spc="-1" strike="noStrike">
                <a:solidFill>
                  <a:srgbClr val="ffff00"/>
                </a:solidFill>
                <a:latin typeface="Arial"/>
              </a:rPr>
              <a:t>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 flipV="1">
            <a:off x="7164360" y="328464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7236000" y="4149720"/>
            <a:ext cx="165708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ige koolhyd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ffff"/>
                </a:solidFill>
                <a:latin typeface="Arial"/>
              </a:rPr>
              <a:t>48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>
            <a:off x="6948360" y="4005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219640" y="450864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we Anorganische 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5076720" y="551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932360" y="47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4788000" y="4797360"/>
            <a:ext cx="431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zic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566640" y="1766880"/>
          <a:ext cx="80107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640" y="1766880"/>
                    <a:ext cx="80107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3" name="arrow.wav"/>
      </p:stSnd>
    </p:sndAc>
  </p:transition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verb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 presetClass="entr" presetID="0">
                                          <p:stCondLst>
                                            <p:cond evt="begin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cmd type="call" cmd="">
                                      <p:cBhvr>
                                        <p:cTn id="157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c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 ziet, dat je nu veel meer gehalten in het voer we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Overige Koolhydraten worden niet genoemd. Die bestaan uit vooral zetmeel en suikers. Dat zijn snel omzetbare energiebronnen. Bijna de helft van de gehal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Arial"/>
              </a:rPr>
              <a:t>Weende Analy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  <p:sndAc>
      <p:stSnd>
        <p:snd r:embed="rId1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22:09:37Z</dcterms:created>
  <dc:creator>N. Verburg</dc:creator>
  <dc:description/>
  <dc:language>en-US</dc:language>
  <cp:lastModifiedBy>Nikki Pots</cp:lastModifiedBy>
  <dcterms:modified xsi:type="dcterms:W3CDTF">2016-08-30T12:06:18Z</dcterms:modified>
  <cp:revision>12</cp:revision>
  <dc:subject/>
  <dc:title>Analyse van Weende</dc:title>
</cp:coreProperties>
</file>