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arrow.wav" ContentType="audio/x-wav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6B9E-BB66-44CA-B6D8-4C1E66EF9AA5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31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6F1F-6224-4325-B40D-84BE631CA5B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5C87-5B64-44C5-9AE3-DF6C0ED07971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31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3E6F-CDAE-41C2-8CAC-807E24C7AD4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F825-1383-41A1-87E7-D7154F7F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CFD-9549-4349-B011-E0B4340B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4A8-0013-4E6C-A5B1-49011808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AE4-E776-45E8-8283-64015CBB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257-4B34-427C-AA6E-4E44E0C0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41B8-4535-4CE1-915F-FE1ACA32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FB7-E17D-4B7B-90A3-08597743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784-ED9F-46DC-9C1B-F286E08E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4AC-3202-408F-9411-E19BEF8E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505-FF6A-4EFD-8CA2-760D1B92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FA1-13F1-4ABE-B92E-F60E166D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161-3E52-472D-ABBD-0A3A7655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6337-49DA-478F-932F-0FB240E69C15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eende Ana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Wat kun je er mee do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dere 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helft van de energie (Overige Koolhydraten) staat niet op de verpakking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 en/of Droge Stof gehalten staan niet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Anorganische Stof is niet gespecificeerd weergege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schema van de Weender Analyse is dus nodig om meer te weten te k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k nu zelf een analyse van het onderstaande etik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3203640" y="4005360"/>
            <a:ext cx="302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cc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4" name="Afbeelding 1" descr=""/>
          <p:cNvPicPr/>
          <p:nvPr/>
        </p:nvPicPr>
        <p:blipFill>
          <a:blip r:embed="rId3"/>
          <a:stretch/>
        </p:blipFill>
        <p:spPr>
          <a:xfrm>
            <a:off x="1763640" y="3562200"/>
            <a:ext cx="6197760" cy="2397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arrow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Organization Chart 1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7"/>
          <p:cNvSpPr/>
          <p:nvPr/>
        </p:nvSpPr>
        <p:spPr>
          <a:xfrm>
            <a:off x="611280" y="357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9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0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1"/>
          <p:cNvSpPr/>
          <p:nvPr/>
        </p:nvSpPr>
        <p:spPr>
          <a:xfrm>
            <a:off x="2610360" y="30160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2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3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4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5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6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7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8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9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0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1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3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4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5"/>
          <p:cNvSpPr/>
          <p:nvPr/>
        </p:nvSpPr>
        <p:spPr>
          <a:xfrm>
            <a:off x="6948360" y="2421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6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7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8"/>
          <p:cNvSpPr/>
          <p:nvPr/>
        </p:nvSpPr>
        <p:spPr>
          <a:xfrm>
            <a:off x="7596360" y="3068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9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0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1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2"/>
          <p:cNvSpPr/>
          <p:nvPr/>
        </p:nvSpPr>
        <p:spPr>
          <a:xfrm>
            <a:off x="5148360" y="4508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3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5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6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gevens van vo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mso2E856"/>
          <p:cNvPicPr/>
          <p:nvPr/>
        </p:nvPicPr>
        <p:blipFill>
          <a:blip r:embed="rId1"/>
          <a:stretch/>
        </p:blipFill>
        <p:spPr>
          <a:xfrm>
            <a:off x="1476360" y="1341360"/>
            <a:ext cx="6624720" cy="5226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arrow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eem gegevens over in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jk goed wat je kunt overne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 er van uit dat droge voedermiddelen zoals krokante brok ongeveer 90 % Droge Stof hebb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 met kleuren. De gegevens zetten we bijvoorbeeld </a:t>
            </a:r>
            <a:r>
              <a:rPr b="0" lang="nl-NL" sz="3200" spc="-1" strike="noStrike">
                <a:solidFill>
                  <a:srgbClr val="ffff00"/>
                </a:solidFill>
                <a:latin typeface="Calibri"/>
              </a:rPr>
              <a:t>gee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in het sch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in bij het voedermiddel met 100 %. Dat is alles in het voedermid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529272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k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ek in elke volgende stap de getallen van elkaar af en kijk wat je kunt uitreken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 geven de berekende getallen hier in </a:t>
            </a:r>
            <a:r>
              <a:rPr b="0" lang="nl-NL" sz="3200" spc="-1" strike="noStrike">
                <a:solidFill>
                  <a:srgbClr val="00ffff"/>
                </a:solidFill>
                <a:latin typeface="Calibri"/>
              </a:rPr>
              <a:t>lichtblau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700360" y="4076640"/>
            <a:ext cx="86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1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 </a:t>
            </a: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82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5508720" y="2781360"/>
            <a:ext cx="934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9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6300720" y="3645000"/>
            <a:ext cx="16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1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7236000" y="4149720"/>
            <a:ext cx="1657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ffff"/>
                </a:solidFill>
                <a:latin typeface="Arial"/>
              </a:rPr>
              <a:t>48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21964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verzi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566640" y="1766880"/>
          <a:ext cx="80107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766880"/>
                    <a:ext cx="80107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3" name="arrow.wav"/>
      </p:stSnd>
    </p:sndAc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 presetClass="entr" presetID="0">
                                          <p:stCondLst>
                                            <p:cond evt="begin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cmd type="call" cmd="">
                                      <p:cBhvr>
                                        <p:cTn id="157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ziet, dat je nu veel meer gehalten in het voer w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Overige Koolhydraten worden niet genoemd. Die bestaan uit vooral zetmeel en suikers. Dat zijn snel omzetbare energiebronnen. Bijna de helft van de gehal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22:09:37Z</dcterms:created>
  <dc:creator>N. Verburg</dc:creator>
  <dc:description/>
  <dc:language>en-US</dc:language>
  <cp:lastModifiedBy>Nikki Pots</cp:lastModifiedBy>
  <dcterms:modified xsi:type="dcterms:W3CDTF">2016-08-30T12:06:18Z</dcterms:modified>
  <cp:revision>12</cp:revision>
  <dc:subject/>
  <dc:title>Analyse van Weende</dc:title>
</cp:coreProperties>
</file>