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arrow.wav" ContentType="audio/x-wav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F814-8963-4349-844D-061AE2F01E7E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4007-675F-4A5B-A622-D84252B8643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5692-9046-46B6-8122-3E11D9FF6942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457E-7D86-41FE-9871-4370F442BBF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05A-38E2-4CC4-942D-36724B70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689-77ED-4830-9DB6-731458E5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28D-F546-49D3-982A-D6E6D003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D54-2239-4B81-8C2A-593DCFB8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6F5-D02B-4363-B497-3604A678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7E6-87C0-4E71-B944-971204D3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A1D-9183-4FD2-8932-F2D2DF5D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48B-B09F-43BA-BA52-52F33F42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257-0AB0-4B10-98F5-B56C7325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C3A-4A15-4580-84F6-5F8C7ADE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4383-DACA-4096-ABDF-2BC66D7B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B13-9855-45A8-9C6F-BDC98DED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EE10-F581-47EA-A0D7-D7FD4AB82096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ende 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Wat kun je er mee do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dere 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helft van de energie (Overige Koolhydraten) staat niet op de verpakking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 en/of Droge Stof gehalten staan niet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Anorganische Stof is niet gespecificeerd weergeg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schema van de Weender Analyse is dus nodig om meer te weten te k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nu zelf een analyse van het onderstaande etik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3203640" y="4005360"/>
            <a:ext cx="302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cc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Afbeelding 1" descr=""/>
          <p:cNvPicPr/>
          <p:nvPr/>
        </p:nvPicPr>
        <p:blipFill>
          <a:blip r:embed="rId3"/>
          <a:stretch/>
        </p:blipFill>
        <p:spPr>
          <a:xfrm>
            <a:off x="1763640" y="3562200"/>
            <a:ext cx="619776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arrow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Organization Chart 1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7"/>
          <p:cNvSpPr/>
          <p:nvPr/>
        </p:nvSpPr>
        <p:spPr>
          <a:xfrm>
            <a:off x="61128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9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0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1"/>
          <p:cNvSpPr/>
          <p:nvPr/>
        </p:nvSpPr>
        <p:spPr>
          <a:xfrm>
            <a:off x="2610360" y="3016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2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3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4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5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6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7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8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9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0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1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3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4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5"/>
          <p:cNvSpPr/>
          <p:nvPr/>
        </p:nvSpPr>
        <p:spPr>
          <a:xfrm>
            <a:off x="6948360" y="2421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6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7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8"/>
          <p:cNvSpPr/>
          <p:nvPr/>
        </p:nvSpPr>
        <p:spPr>
          <a:xfrm>
            <a:off x="7596360" y="3068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9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0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1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2"/>
          <p:cNvSpPr/>
          <p:nvPr/>
        </p:nvSpPr>
        <p:spPr>
          <a:xfrm>
            <a:off x="5148360" y="4508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3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5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6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gevens van vo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mso2E856"/>
          <p:cNvPicPr/>
          <p:nvPr/>
        </p:nvPicPr>
        <p:blipFill>
          <a:blip r:embed="rId1"/>
          <a:stretch/>
        </p:blipFill>
        <p:spPr>
          <a:xfrm>
            <a:off x="1476360" y="1341360"/>
            <a:ext cx="662472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arrow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em gegevens over in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goed wat je kunt overne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 er van uit dat droge voedermiddelen zoals krokante brok ongeveer 90 % Droge Stof hebb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 met kleuren. De gegevens zetten we bijvoorbeeld </a:t>
            </a:r>
            <a:r>
              <a:rPr b="0" lang="nl-NL" sz="3200" spc="-1" strike="noStrike">
                <a:solidFill>
                  <a:srgbClr val="ffff00"/>
                </a:solidFill>
                <a:latin typeface="Calibri"/>
              </a:rPr>
              <a:t>gee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in het sch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in bij het voedermiddel met 100 %. Dat is alles in het voedermid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529272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k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k in elke volgende stap de getallen van elkaar af en kijk wat je kunt uitrek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 geven de berekende getallen hier in </a:t>
            </a:r>
            <a:r>
              <a:rPr b="0" lang="nl-NL" sz="3200" spc="-1" strike="noStrike">
                <a:solidFill>
                  <a:srgbClr val="00ffff"/>
                </a:solidFill>
                <a:latin typeface="Calibri"/>
              </a:rPr>
              <a:t>lichtbla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700360" y="4076640"/>
            <a:ext cx="8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 </a:t>
            </a: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82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5508720" y="2781360"/>
            <a:ext cx="934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9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6300720" y="364500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1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7236000" y="4149720"/>
            <a:ext cx="1657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ffff"/>
                </a:solidFill>
                <a:latin typeface="Arial"/>
              </a:rPr>
              <a:t>48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21964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566640" y="1766880"/>
          <a:ext cx="80107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766880"/>
                    <a:ext cx="8010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3" name="arrow.wav"/>
      </p:stSnd>
    </p:sndAc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 presetClass="entr" presetID="0">
                                          <p:stCondLst>
                                            <p:cond evt="begin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cmd type="call" cmd="">
                                      <p:cBhvr>
                                        <p:cTn id="157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ziet, dat je nu veel meer gehalten in het voer w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Overige Koolhydraten worden niet genoemd. Die bestaan uit vooral zetmeel en suikers. Dat zijn snel omzetbare energiebronnen. Bijna de helft van de gehal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22:09:37Z</dcterms:created>
  <dc:creator>N. Verburg</dc:creator>
  <dc:description/>
  <dc:language>en-US</dc:language>
  <cp:lastModifiedBy>Nikki Pots</cp:lastModifiedBy>
  <dcterms:modified xsi:type="dcterms:W3CDTF">2016-08-30T12:06:18Z</dcterms:modified>
  <cp:revision>12</cp:revision>
  <dc:subject/>
  <dc:title>Analyse van Weende</dc:title>
</cp:coreProperties>
</file>