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arrow.wav" ContentType="audio/x-wav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3F4A-923C-496C-8E72-33A46090AD35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31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891B-7A5E-405B-8F99-59B1BFC7C45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9C79-9BB5-4D4E-8137-542D2A9B806A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31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2B34-258E-485C-879A-B1399E6C192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A3F-D705-4F0A-8BC8-52F7F997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875-69F7-46F4-8009-BEC898E8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8856-9DF0-4620-A720-1CCD7DB5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DD8-FA61-4434-9021-7CFDCAB7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06D-F2FA-4C2D-BDB6-CE98A66C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3608-F1F3-46D1-86AE-3F3C019C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E1F-5DF8-43F5-BD63-D70ABA08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1D72-C7AC-4C4E-B482-F4DCFA3C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0D92-1A47-4D79-AF0E-BBD25BD6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4FF-26F9-4AA1-B627-5C0F19B7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181C-8D94-4000-8C92-779B1B01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A0C6-9243-45E8-91C7-2D9C747F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BCE0-B191-47EC-B93F-E3DA25C5A0CD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ende 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Wat kun je er mee do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dere 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helft van de energie (Overige Koolhydraten) staat niet op de verpakking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 en/of Droge Stof gehalten staan niet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Anorganische Stof is niet gespecificeerd weergege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schema van de Weender Analyse is dus nodig om meer te weten te k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k nu zelf een analyse van het onderstaande etik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3203640" y="4005360"/>
            <a:ext cx="302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cc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4" name="Afbeelding 1" descr=""/>
          <p:cNvPicPr/>
          <p:nvPr/>
        </p:nvPicPr>
        <p:blipFill>
          <a:blip r:embed="rId3"/>
          <a:stretch/>
        </p:blipFill>
        <p:spPr>
          <a:xfrm>
            <a:off x="1763640" y="3562200"/>
            <a:ext cx="619776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arrow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Organization Chart 1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7"/>
          <p:cNvSpPr/>
          <p:nvPr/>
        </p:nvSpPr>
        <p:spPr>
          <a:xfrm>
            <a:off x="611280" y="357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9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0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1"/>
          <p:cNvSpPr/>
          <p:nvPr/>
        </p:nvSpPr>
        <p:spPr>
          <a:xfrm>
            <a:off x="2610360" y="3016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2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3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4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5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6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7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8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9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0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1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3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4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5"/>
          <p:cNvSpPr/>
          <p:nvPr/>
        </p:nvSpPr>
        <p:spPr>
          <a:xfrm>
            <a:off x="6948360" y="2421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6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7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8"/>
          <p:cNvSpPr/>
          <p:nvPr/>
        </p:nvSpPr>
        <p:spPr>
          <a:xfrm>
            <a:off x="7596360" y="3068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9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0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1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2"/>
          <p:cNvSpPr/>
          <p:nvPr/>
        </p:nvSpPr>
        <p:spPr>
          <a:xfrm>
            <a:off x="5148360" y="4508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3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5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6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gevens van vo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mso2E856"/>
          <p:cNvPicPr/>
          <p:nvPr/>
        </p:nvPicPr>
        <p:blipFill>
          <a:blip r:embed="rId1"/>
          <a:stretch/>
        </p:blipFill>
        <p:spPr>
          <a:xfrm>
            <a:off x="1476360" y="1341360"/>
            <a:ext cx="6624720" cy="5226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arrow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em gegevens over in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goed wat je kunt overne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 er van uit dat droge voedermiddelen zoals krokante brok ongeveer 90 % Droge Stof hebb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 met kleuren. De gegevens zetten we bijvoorbeeld </a:t>
            </a:r>
            <a:r>
              <a:rPr b="0" lang="nl-NL" sz="3200" spc="-1" strike="noStrike">
                <a:solidFill>
                  <a:srgbClr val="ffff00"/>
                </a:solidFill>
                <a:latin typeface="Calibri"/>
              </a:rPr>
              <a:t>gee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in het sch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in bij het voedermiddel met 100 %. Dat is alles in het voedermid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529272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k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k in elke volgende stap de getallen van elkaar af en kijk wat je kunt uitreke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 geven de berekende getallen hier in </a:t>
            </a:r>
            <a:r>
              <a:rPr b="0" lang="nl-NL" sz="3200" spc="-1" strike="noStrike">
                <a:solidFill>
                  <a:srgbClr val="00ffff"/>
                </a:solidFill>
                <a:latin typeface="Calibri"/>
              </a:rPr>
              <a:t>lichtblau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700360" y="4076640"/>
            <a:ext cx="8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 </a:t>
            </a: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82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5508720" y="2781360"/>
            <a:ext cx="934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9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6300720" y="3645000"/>
            <a:ext cx="16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1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7236000" y="4149720"/>
            <a:ext cx="1657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ffff"/>
                </a:solidFill>
                <a:latin typeface="Arial"/>
              </a:rPr>
              <a:t>48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21964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566640" y="1766880"/>
          <a:ext cx="80107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766880"/>
                    <a:ext cx="80107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3" name="arrow.wav"/>
      </p:stSnd>
    </p:sndAc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 presetClass="entr" presetID="0">
                                          <p:stCondLst>
                                            <p:cond evt="begin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cmd type="call" cmd="">
                                      <p:cBhvr>
                                        <p:cTn id="157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ziet, dat je nu veel meer gehalten in het voer w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Overige Koolhydraten worden niet genoemd. Die bestaan uit vooral zetmeel en suikers. Dat zijn snel omzetbare energiebronnen. Bijna de helft van de gehal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22:09:37Z</dcterms:created>
  <dc:creator>N. Verburg</dc:creator>
  <dc:description/>
  <dc:language>en-US</dc:language>
  <cp:lastModifiedBy>Nikki Pots</cp:lastModifiedBy>
  <dcterms:modified xsi:type="dcterms:W3CDTF">2016-08-30T12:06:18Z</dcterms:modified>
  <cp:revision>12</cp:revision>
  <dc:subject/>
  <dc:title>Analyse van Weende</dc:title>
</cp:coreProperties>
</file>