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arrow.wav" ContentType="audio/x-wav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0043-8B1F-4D04-BEB0-C65D9FC7E0DA}" type="datetime3">
              <a:rPr b="0" lang="nl-NL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6C64-258B-4A24-B5F9-91FBBBD8CED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3FDF-FE25-439F-B029-833FFFF2ABCF}" type="datetime3">
              <a:rPr b="0" lang="nl-NL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F622-EC64-4C32-A228-36A9F213040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5DF0-93C3-4241-909E-3B9318FD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C3A2-717A-4BA4-A835-6E0D67CB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E4EE-E472-495A-974E-D576DC34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2C4E-1409-4935-8E87-B33A4EF7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44F3-EB13-4D61-8C54-1C9D5997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2A8B-43B5-4E9D-B770-DA93AD61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D99A-AC5C-4C3D-A306-CB4A4E60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12AF-BCE1-4CE2-BD2C-38A8FEF5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2E08-0A39-4090-9444-2B5008D1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9EDB-14C0-48B1-9913-16FF8D9F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1713-CC0A-4893-A1C2-56DC19EF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932-6DC6-4D54-B896-A20B50BF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C27F-417F-4467-ACD0-8C5DF249E4EC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eende Analy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Wat kun je er mee do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dere conc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helft van de energie (Overige Koolhydraten) staat niet op de verpakking verme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ter en/of Droge Stof gehalten staan niet verme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Anorganische Stof is niet gespecificeerd weergegev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schema van de Weender Analyse is dus nodig om meer te weten te ko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drac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k nu zelf een analyse van het onderstaande etike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3203640" y="4005360"/>
            <a:ext cx="302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cc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4" name="Afbeelding 1" descr=""/>
          <p:cNvPicPr/>
          <p:nvPr/>
        </p:nvPicPr>
        <p:blipFill>
          <a:blip r:embed="rId3"/>
          <a:stretch/>
        </p:blipFill>
        <p:spPr>
          <a:xfrm>
            <a:off x="1763640" y="3562200"/>
            <a:ext cx="6197760" cy="2397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4" name="arrow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Organization Chart 11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3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7"/>
          <p:cNvSpPr/>
          <p:nvPr/>
        </p:nvSpPr>
        <p:spPr>
          <a:xfrm>
            <a:off x="611280" y="357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29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0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1"/>
          <p:cNvSpPr/>
          <p:nvPr/>
        </p:nvSpPr>
        <p:spPr>
          <a:xfrm>
            <a:off x="2610360" y="30160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2"/>
          <p:cNvSpPr/>
          <p:nvPr/>
        </p:nvSpPr>
        <p:spPr>
          <a:xfrm>
            <a:off x="2700360" y="414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3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4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5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6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7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8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9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0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1"/>
          <p:cNvSpPr/>
          <p:nvPr/>
        </p:nvSpPr>
        <p:spPr>
          <a:xfrm>
            <a:off x="5508720" y="2781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3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4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5"/>
          <p:cNvSpPr/>
          <p:nvPr/>
        </p:nvSpPr>
        <p:spPr>
          <a:xfrm>
            <a:off x="6948360" y="2421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6"/>
          <p:cNvSpPr/>
          <p:nvPr/>
        </p:nvSpPr>
        <p:spPr>
          <a:xfrm>
            <a:off x="6300720" y="3645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7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8"/>
          <p:cNvSpPr/>
          <p:nvPr/>
        </p:nvSpPr>
        <p:spPr>
          <a:xfrm>
            <a:off x="7596360" y="3068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9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0"/>
          <p:cNvSpPr/>
          <p:nvPr/>
        </p:nvSpPr>
        <p:spPr>
          <a:xfrm>
            <a:off x="7236000" y="4149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1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2"/>
          <p:cNvSpPr/>
          <p:nvPr/>
        </p:nvSpPr>
        <p:spPr>
          <a:xfrm>
            <a:off x="5148360" y="4508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3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5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6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30268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gevens van vo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mso2E856"/>
          <p:cNvPicPr/>
          <p:nvPr/>
        </p:nvPicPr>
        <p:blipFill>
          <a:blip r:embed="rId1"/>
          <a:stretch/>
        </p:blipFill>
        <p:spPr>
          <a:xfrm>
            <a:off x="1476360" y="1341360"/>
            <a:ext cx="6624720" cy="5226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2" name="arrow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eem gegevens over in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ijk goed wat je kunt overnem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a er van uit dat droge voedermiddelen zoals krokante brok ongeveer 90 % Droge Stof hebb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 met kleuren. De gegevens zetten we bijvoorbeeld </a:t>
            </a:r>
            <a:r>
              <a:rPr b="0" lang="nl-NL" sz="3200" spc="-1" strike="noStrike">
                <a:solidFill>
                  <a:srgbClr val="ffff00"/>
                </a:solidFill>
                <a:latin typeface="Calibri"/>
              </a:rPr>
              <a:t>gee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in het sch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in bij het voedermiddel met 100 %. Dat is alles in het voedermidd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Organization Chart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8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11280" y="357336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610360" y="3016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9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700360" y="414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7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4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  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2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6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5508720" y="2781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9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6948360" y="2421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6300720" y="3645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3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7596360" y="306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7236000" y="4149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7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5292720" y="4508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0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1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eke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ek in elke volgende stap de getallen van elkaar af en kijk wat je kunt uitreken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 geven de berekende getallen hier in </a:t>
            </a:r>
            <a:r>
              <a:rPr b="0" lang="nl-NL" sz="3200" spc="-1" strike="noStrike">
                <a:solidFill>
                  <a:srgbClr val="00ffff"/>
                </a:solidFill>
                <a:latin typeface="Calibri"/>
              </a:rPr>
              <a:t>lichtblauw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Organization Chart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2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11280" y="357336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610360" y="3016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9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2700360" y="4076640"/>
            <a:ext cx="86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1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 </a:t>
            </a: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82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7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  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2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5508720" y="2781360"/>
            <a:ext cx="934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59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6948360" y="2421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6300720" y="3645000"/>
            <a:ext cx="16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51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7596360" y="306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5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7236000" y="4149720"/>
            <a:ext cx="1657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ffff"/>
                </a:solidFill>
                <a:latin typeface="Arial"/>
              </a:rPr>
              <a:t>48,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7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5219640" y="4508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verzic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Object 5"/>
          <p:cNvGraphicFramePr/>
          <p:nvPr/>
        </p:nvGraphicFramePr>
        <p:xfrm>
          <a:off x="566640" y="1766880"/>
          <a:ext cx="80107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766880"/>
                    <a:ext cx="80107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3" name="arrow.wav"/>
      </p:stSnd>
    </p:sndAc>
  </p:transition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 presetClass="entr" presetID="0">
                                          <p:stCondLst>
                                            <p:cond evt="begin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cmd type="call" cmd="">
                                      <p:cBhvr>
                                        <p:cTn id="157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onc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ziet, dat je nu veel meer gehalten in het voer w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Overige Koolhydraten worden niet genoemd. Die bestaan uit vooral zetmeel en suikers. Dat zijn snel omzetbare energiebronnen. Bijna de helft van de gehal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22:09:37Z</dcterms:created>
  <dc:creator>N. Verburg</dc:creator>
  <dc:description/>
  <dc:language>en-US</dc:language>
  <cp:lastModifiedBy>Nikki Pots</cp:lastModifiedBy>
  <dcterms:modified xsi:type="dcterms:W3CDTF">2016-08-30T12:06:18Z</dcterms:modified>
  <cp:revision>12</cp:revision>
  <dc:subject/>
  <dc:title>Analyse van Weende</dc:title>
</cp:coreProperties>
</file>