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14.jpeg" ContentType="image/jpe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3.jpeg" ContentType="image/jpeg"/>
  <Override PartName="/ppt/media/image9.png" ContentType="image/png"/>
  <Override PartName="/ppt/media/image5.png" ContentType="image/png"/>
  <Override PartName="/ppt/media/image8.jpeg" ContentType="image/jpeg"/>
  <Override PartName="/ppt/media/image10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5C3E7-FCB3-4523-8CC8-5169D01E9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5C352-14A6-4B18-BBA1-B847BCC4D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B7630-086B-4A42-BB9B-C3FD63B8A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450BA-FDC8-46EA-A845-117C23670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35A03-9567-4552-9879-64BCE155E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B6BBB-804D-407F-848C-15CE29FF7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14863-E2B6-4472-AF9C-C7425E39A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E20A6-F51D-4E3D-BF8B-58602F394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0CF5A-61E2-4CE7-B5A6-1F2A8F996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91267-5170-4D0E-A62B-15FDFA439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6EFA0-F8D6-4FF1-B2F4-72CCC50C1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425B4-8A1C-4C70-A524-4BCDE1C8C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60DBF-7B3A-4376-8CA3-2C6857DAE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2F6B9-2D19-4EFE-BF8D-280C48E2B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64660-715E-402B-B953-40791FCB9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775B2-967A-45C2-969C-220C4FBCD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89443-2DA3-473B-8FFD-E3F76859F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DF56A7-91F9-4C48-8091-260CFC411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5FDBAF-479D-4A3F-AE8D-09B42B273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047EC7-A7E8-400C-8A8A-E11E90DE2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B2E827-9E91-42E0-9F2A-8D3F68F8C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A156C5-3FC0-4B4D-9BC6-258867D14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BCB16-8EE9-4CD7-80FE-CE459C45F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2BB6D4-2668-4C22-888F-594BBDA6E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9EBD00-0C1F-4DAB-A7DC-110568692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14B18A-9B95-4647-80A1-7CCD7AB24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4DD575-3122-4230-A3F9-E77CCFEFC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FACE26-029F-4FD1-8254-98F24AE89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F7CAD6-4909-43C6-9B93-71F83AD68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F64DBF-4500-41C4-A86C-15884BAA0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8EB5B8-EBFE-420D-BFD9-FFFB1E93B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27C80E-A166-4B21-9B10-FC3FB0170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B8FCE8-FE2D-41E9-8C2C-37375219D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6E117-880C-41BD-9C2D-2061C7607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23732A-CD62-4E09-9D32-ABCA7A970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21E0E9-3A17-4E4E-A526-B39F79B39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0E051A-A613-4D1C-9C6D-086951461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5308F6-ADAC-4DAA-AAD7-9EFB1B9A1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3E9C76-9449-42C3-A5CE-BFA8E02A0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58DE62-2617-40FB-9E1A-31CD7D325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F12ED1-1AC3-4120-99EE-4038977A0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2AB9E5-F19D-4774-931D-55C36739F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82B783-0D09-4C46-9D03-DB294F280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8B254-3A03-43D3-8C06-408897A2C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35248-0B31-4CAF-B514-6CFA3F17F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A96D9-789C-4CC8-B67C-8A48D5F9C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29892-C40B-4F95-B576-6E392A1C5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FBEC2-01FB-4060-8895-1245302AD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Vrije v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" name="Vrije v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Gill Sans MT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35E61-43A2-4C45-A41C-E1121271A3FA}" type="slidenum">
              <a:rPr b="0" lang="nl-NL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e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Vrije v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Vrije v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  <p:grpSp>
          <p:nvGrpSpPr>
            <p:cNvPr id="11" name="Vrije v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Vrije v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Vrije v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" name="Vrije v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2" name="Groe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Vrije v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Vrije v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  <p:grpSp>
          <p:nvGrpSpPr>
            <p:cNvPr id="56" name="Vrije v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Vrije v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Gill Sans MT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98FAB-C28F-49A0-B248-8AF22DFCF460}" type="slidenum">
              <a:rPr b="0" lang="nl-NL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Vrije v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Vrije v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02" name="Groe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Vrije v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Vrije v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  <p:grpSp>
          <p:nvGrpSpPr>
            <p:cNvPr id="106" name="Vrije v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Vrije v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Gill Sans MT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Gill Sans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8E4A1-B35D-4EC0-98E7-143B9927A3CE}" type="slidenum">
              <a:rPr b="0" lang="nl-NL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hthoek met één afgeknipte en afgeronde hoek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1" name="Rechthoekige driehoek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" name="Vrije v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Vrije v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Gill Sans MT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A2A30-BD9C-4BCD-844D-B58B2AAD226E}" type="slidenum">
              <a:rPr b="0" lang="nl-NL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el 1" descr=""/>
          <p:cNvPicPr/>
          <p:nvPr/>
        </p:nvPicPr>
        <p:blipFill>
          <a:blip r:embed="rId1"/>
          <a:stretch/>
        </p:blipFill>
        <p:spPr>
          <a:xfrm>
            <a:off x="0" y="401760"/>
            <a:ext cx="7223040" cy="196992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394920" y="4365720"/>
            <a:ext cx="2592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600" spc="-1" strike="noStrike">
              <a:solidFill>
                <a:srgbClr val="ffffff"/>
              </a:solidFill>
              <a:latin typeface="Gill Sans MT"/>
            </a:endParaRPr>
          </a:p>
        </p:txBody>
      </p:sp>
      <p:pic>
        <p:nvPicPr>
          <p:cNvPr id="197" name="Afbeelding 4" descr="fokke en sukke diarree.jpg"/>
          <p:cNvPicPr/>
          <p:nvPr/>
        </p:nvPicPr>
        <p:blipFill>
          <a:blip r:embed="rId2"/>
          <a:stretch/>
        </p:blipFill>
        <p:spPr>
          <a:xfrm>
            <a:off x="4500720" y="2060640"/>
            <a:ext cx="3854160" cy="40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Acties bij dehydratie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oorkomen beter dan genez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aak kleine beetjes dan heel glas in een keer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Aanvullen bij tekort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ouillo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ORS (oral rehydration salts) bij braken/diarre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5" dur="5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0" dur="500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5" dur="500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0" dur="500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5" dur="500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Plaatsen oedeem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Enkel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uik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Long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Soms og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20" name="Afbeelding 3" descr="oedeem 2.jpg"/>
          <p:cNvPicPr/>
          <p:nvPr/>
        </p:nvPicPr>
        <p:blipFill>
          <a:blip r:embed="rId1"/>
          <a:stretch/>
        </p:blipFill>
        <p:spPr>
          <a:xfrm>
            <a:off x="3995640" y="2317680"/>
            <a:ext cx="4638600" cy="39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2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Andere oorzaak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Lymfe-oedeem (ledemaat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Gebruik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Predniso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(hele lichaam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23" name="Afbeelding 4" descr="oedeem.jpg"/>
          <p:cNvPicPr/>
          <p:nvPr/>
        </p:nvPicPr>
        <p:blipFill>
          <a:blip r:embed="rId1"/>
          <a:stretch/>
        </p:blipFill>
        <p:spPr>
          <a:xfrm>
            <a:off x="3419640" y="2924280"/>
            <a:ext cx="5040000" cy="31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9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erschijnselen oedeem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Gespannen glanzende huid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Putje in drukk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Gewichtstoename 1-2 kg in paar dag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Kortademigheid bij inspanning/ plat ligg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edlegerige zv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ouwen in huid van stuit en rug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Acties bij oedeem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1988640"/>
            <a:ext cx="84340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Ga na wat de oorzaak i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Minderen met zout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ewegen: stimuleert doorbloeding/spierfuncti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enen hoog als zi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Hartfalen: 3 x per week wegen (ma, woe, vrij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Steunkouse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Zwachtel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28" name="Afbeelding 3" descr="wegenschaal.jpg"/>
          <p:cNvPicPr/>
          <p:nvPr/>
        </p:nvPicPr>
        <p:blipFill>
          <a:blip r:embed="rId1"/>
          <a:stretch/>
        </p:blipFill>
        <p:spPr>
          <a:xfrm>
            <a:off x="6732720" y="4724280"/>
            <a:ext cx="1923840" cy="19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2" dur="5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7" dur="50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2" dur="500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7" dur="500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32" dur="500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7" dur="500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2" dur="500"/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Functie van zouten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elangrijke zouten: natrium, kalium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Uitscheiden bij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raken/ diarre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Plasmedicatie (diuretica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Aanvullen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ORS, bouillon, medicatie (Kalium tabletten)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31" name="Afbeelding 3" descr="braken.jpg"/>
          <p:cNvPicPr/>
          <p:nvPr/>
        </p:nvPicPr>
        <p:blipFill>
          <a:blip r:embed="rId1"/>
          <a:stretch/>
        </p:blipFill>
        <p:spPr>
          <a:xfrm>
            <a:off x="6875640" y="2421000"/>
            <a:ext cx="171432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9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4" dur="500"/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7" dur="500"/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ragen?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pic>
        <p:nvPicPr>
          <p:cNvPr id="233" name="Tijdelijke aanduiding voor inhoud 3" descr="griep1.jpg"/>
          <p:cNvPicPr/>
          <p:nvPr/>
        </p:nvPicPr>
        <p:blipFill>
          <a:blip r:embed="rId1"/>
          <a:stretch/>
        </p:blipFill>
        <p:spPr>
          <a:xfrm>
            <a:off x="2484360" y="2421000"/>
            <a:ext cx="4183200" cy="25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ocht nodig voor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Transpor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Oplossen van voedingsstoffe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Oplossen van afvalstoff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Stofwisselingsstelsels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Metabolisme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ocht intake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Normaal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Drinke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1000 – 1600 m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Ete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800 – 1000 m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erbrandingsprocesse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200 – 400 m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ocht output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Normaal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Nieren 1100 – 1800 m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Longen 400 – 500 m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Huid 400 – 500 m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Darmen 100 – 200 m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ochtbalans 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 u="sng">
                <a:solidFill>
                  <a:srgbClr val="000000"/>
                </a:solidFill>
                <a:uFillTx/>
                <a:latin typeface="Gill Sans MT"/>
              </a:rPr>
              <a:t>Duur: 24 uur (8 uur tot volgende ochtend 8 uur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Negatieve vochtbalans =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ocht opname minder dan vochtverli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Gevolg: uitdroging (dehydratie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Positieve vochtbalans =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ocht opname groter dan vocht verli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Gevolg: vocht vasthouden (oedeem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erschijnselen dehydratie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1 – 3% vocht tekort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Dorstgevo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Droge mond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Transpiratie en up dal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Hoofdpij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erschijnselen dehydratie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4 – 6 % vocht tekor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Lusteloo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ermoeidheid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Misselijk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Hoofdpij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Snelle/ zwakke pol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Tintelende lichaamsuiteind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erschijnselen dehydratie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anaf 7 % vocht tekor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Draaierig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Ademnood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Lage bloeddruk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erminder zich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Huidplooi blijft staa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Up houdt op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Diep liggende holle og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anaf 15-20% overlijd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12" name="Afbeelding 3" descr="vocht 3.jpg"/>
          <p:cNvPicPr/>
          <p:nvPr/>
        </p:nvPicPr>
        <p:blipFill>
          <a:blip r:embed="rId1"/>
          <a:stretch/>
        </p:blipFill>
        <p:spPr>
          <a:xfrm>
            <a:off x="4427640" y="3933720"/>
            <a:ext cx="4411440" cy="13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9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2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2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Oorzaken dehydratie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Te weinig drink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Diarre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rak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Hitt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Koorts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loedverli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Transpirati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randwond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Medicijne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15" name="Afbeelding 4" descr="vocht 1.bmp"/>
          <p:cNvPicPr/>
          <p:nvPr/>
        </p:nvPicPr>
        <p:blipFill>
          <a:blip r:embed="rId1"/>
          <a:stretch/>
        </p:blipFill>
        <p:spPr>
          <a:xfrm>
            <a:off x="5003640" y="1989000"/>
            <a:ext cx="273708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2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5" dur="5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8" dur="50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1" dur="500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4" dur="500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9" dur="500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2" dur="500"/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5" dur="500"/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8" dur="500"/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inda</dc:creator>
  <dc:description/>
  <dc:language>en-US</dc:language>
  <cp:lastModifiedBy>E. Scheltens-Flink</cp:lastModifiedBy>
  <dcterms:modified xsi:type="dcterms:W3CDTF">2015-08-23T14:35:03Z</dcterms:modified>
  <cp:revision>15</cp:revision>
  <dc:subject/>
  <dc:title>Vocht huishouding</dc:title>
</cp:coreProperties>
</file>