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CDA-DDED-4C2D-ABB6-416F5003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6B1-3B3B-43C6-B1F0-61B491A6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CC6-F8A0-4412-B65F-5ED0CF50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1FC-FC6F-4963-B5EA-72F91AD3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20CA-FB44-4CA8-B3F6-8C24C9C9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EEAF-BBD1-4314-8CB0-0E4A2DC1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8D5F-532D-48DA-AD96-10BC71C0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1AA-9890-4493-93AE-41DB28A7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17DD-9E05-4086-BCB8-F14728BA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02E8-C1C8-4F94-8D47-9A598C93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A9DC-C1A0-4C92-A3A6-18A4B8B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D0A2-8107-4E90-8D81-D9DC94F4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3106-CD6B-4E07-B2AE-929226A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30F6-36E5-4365-B11B-DDC355D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5B84-935D-4992-9E0A-60E090B0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742-28F3-4DDA-97BC-4B78D85C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3F9-DABB-4E4C-B110-B7CAE9CA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D44-D428-40F5-A36B-143B80AC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573-987A-475F-BE16-2B0B6B6F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AD9-AC91-420A-9307-86C29FB2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372-B0B6-4C68-ADF9-34B63F6C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B23-ADFF-49EB-96CA-D6667619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5A9-7CCF-4282-A20D-778301EF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0D8-580F-4347-9CCF-F3FB9F3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53670-BA3F-4AD6-867B-C808B9C311B6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2B5EA9-F5DB-4660-BE96-8E866E9DF58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E6BA9-BFF9-475A-B02A-AFF495897F08}" type="datetime">
              <a:rPr b="0" lang="nl-NL" sz="1400" spc="-1" strike="noStrike">
                <a:solidFill>
                  <a:srgbClr val="000000"/>
                </a:solidFill>
                <a:latin typeface="Tahoma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A672A-5C40-4741-8B73-D2D05ABB043A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www.nieuwegein.nl/files/6896/photo/6896.jpg"/>
          <p:cNvPicPr/>
          <p:nvPr/>
        </p:nvPicPr>
        <p:blipFill>
          <a:blip r:embed="rId1"/>
          <a:stretch/>
        </p:blipFill>
        <p:spPr>
          <a:xfrm>
            <a:off x="1332000" y="1278000"/>
            <a:ext cx="6634080" cy="4968720"/>
          </a:xfrm>
          <a:prstGeom prst="rect">
            <a:avLst/>
          </a:prstGeom>
          <a:ln w="0">
            <a:noFill/>
          </a:ln>
        </p:spPr>
      </p:pic>
      <p:sp>
        <p:nvSpPr>
          <p:cNvPr id="101" name="Tekstvak 3"/>
          <p:cNvSpPr/>
          <p:nvPr/>
        </p:nvSpPr>
        <p:spPr>
          <a:xfrm>
            <a:off x="1403280" y="91116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laat gebiedsvreemd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1332000" y="62467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http://www.google.nl/imgres?q=waterinlaat&amp;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2" descr="http://t1.gstatic.com/images?q=tbn:ANd9GcQ5rQ4F4-UNirGexoywVKOJHRi1m4TFptn4_QxGWXZZgfRYHvKD"/>
          <p:cNvPicPr/>
          <p:nvPr/>
        </p:nvPicPr>
        <p:blipFill>
          <a:blip r:embed="rId1"/>
          <a:stretch/>
        </p:blipFill>
        <p:spPr>
          <a:xfrm>
            <a:off x="711360" y="1981080"/>
            <a:ext cx="7414920" cy="4691160"/>
          </a:xfrm>
          <a:prstGeom prst="rect">
            <a:avLst/>
          </a:prstGeom>
          <a:ln w="0">
            <a:noFill/>
          </a:ln>
        </p:spPr>
      </p:pic>
      <p:sp>
        <p:nvSpPr>
          <p:cNvPr id="106" name="Tekstvak 3"/>
          <p:cNvSpPr/>
          <p:nvPr/>
        </p:nvSpPr>
        <p:spPr>
          <a:xfrm>
            <a:off x="684360" y="1619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jkdoorbraak Wilnis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hthoek 4"/>
          <p:cNvSpPr/>
          <p:nvPr/>
        </p:nvSpPr>
        <p:spPr>
          <a:xfrm>
            <a:off x="574560" y="6302520"/>
            <a:ext cx="59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google.nl/imgres?q=dijkdoorbraak+wil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t3.gstatic.com/images?q=tbn:ANd9GcTbLZiSXtR0ezqEVQQkSNNk_FHNK2xcLe3ecPJlJMGg6GJIVgqWfA"/>
          <p:cNvPicPr/>
          <p:nvPr/>
        </p:nvPicPr>
        <p:blipFill>
          <a:blip r:embed="rId2"/>
          <a:stretch/>
        </p:blipFill>
        <p:spPr>
          <a:xfrm>
            <a:off x="755640" y="1595520"/>
            <a:ext cx="7375680" cy="5127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kstvak 3"/>
          <p:cNvSpPr/>
          <p:nvPr/>
        </p:nvSpPr>
        <p:spPr>
          <a:xfrm>
            <a:off x="971640" y="17524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analisatie na ruilverkav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t0.gstatic.com/images?q=tbn:ANd9GcQHAkR29aGmWI1PgHY4Nbmy2EKEph2tqsDQLY6HPXL_bH3upqTC"/>
          <p:cNvPicPr/>
          <p:nvPr/>
        </p:nvPicPr>
        <p:blipFill>
          <a:blip r:embed="rId2"/>
          <a:stretch/>
        </p:blipFill>
        <p:spPr>
          <a:xfrm>
            <a:off x="179280" y="1709640"/>
            <a:ext cx="8820360" cy="49546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kstvak 3"/>
          <p:cNvSpPr/>
          <p:nvPr/>
        </p:nvSpPr>
        <p:spPr>
          <a:xfrm>
            <a:off x="395280" y="1752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ndwateronttrekking voor bereg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332000" y="624672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http://www.google.nl/imgres?q=beregeningsinstall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ote delen NL gevoelig voor verdroging (zandgrond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ondwateronttrek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deringen peilbeheer en waterafvo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Kanalisatie ruilverkaveling na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wereldoor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iepe grondwaterbemaling bruinkoolwinning Duitsland (gevolgen merkbaar in Limbur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Drinkwaterproducti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Industr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name biodiversiteit door Verdro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fname kwel-gebonden soor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bijv. veldrus, holpijp, waterviol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fname aantal soorten laagveenmoer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amenstelling gebiedsvreemd water kan van invloed zijn op huidige natuurwaa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chteruitgang biodiversiteit duinen, bijv Parnassia, diverse orchidee soor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fname biodiversiteit, Verdro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in waterbeheer om  biodiversiteit te vergro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76440" y="5157720"/>
          <a:ext cx="7772400" cy="117648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48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ideterre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g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0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ls bufferen (bekalken mergel, gips of le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l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n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76440" y="3645000"/>
          <a:ext cx="7772400" cy="149040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kda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 en afvoeren, 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hogen waterp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meandering (vasthouden gebiedseigen wa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ententiebekkens / overstromingsgebieden aanleggen (vasthouden gebiedseigen wa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trappen opheffen van stuw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284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eren riooloversor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nkoppelen oude mean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perken inlaat gebiedsvreemd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92280" y="1905120"/>
          <a:ext cx="7772400" cy="165888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vi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, maaien, afvo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wikkeling ooiboss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iveren afvalwater bovenstroo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gg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ententiebekkens / overstromingsgebieden aanleggen (vasthouden gebiedseigen water), ruimte voor de riv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trappen opheffen van stuw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32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meandering (vasthouden gebiedseigen wate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nkoppelen oude mean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ankoppelen nevengeu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84360" y="1905120"/>
          <a:ext cx="7772400" cy="185076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agv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gengaan peilverlaging directe omge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stand ter hoogte van maaiveld in wi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ilverhoging (tegengaan inklink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plaggen, afgr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thouden gebiedseigen wat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eppelen verzuurde terre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gg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 en afvo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brasemen (wegvang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aat gebiedsvreemd water tegengaan of ondoen van fosfaat en stik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684360" y="4076640"/>
          <a:ext cx="7799400" cy="1608120"/>
        </p:xfrm>
        <a:graphic>
          <a:graphicData uri="http://schemas.openxmlformats.org/drawingml/2006/table">
            <a:tbl>
              <a:tblPr/>
              <a:tblGrid>
                <a:gridCol w="1822320"/>
                <a:gridCol w="5977080"/>
              </a:tblGrid>
              <a:tr h="1609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ogv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gengaan peilverlaging directe omge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atsen van dammen en damwanden om de ontwatering te beper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ilverhoging (tegengaan inklink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sthouden gebiedseigen 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pen sloten en vaarten omge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 en afvoer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laat gebiedsvreemd water tegenga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9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vang /vasthouden regenwater in het geb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in waterbeheer om  biodiversiteit te vergro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685800" y="1936800"/>
          <a:ext cx="7772400" cy="117792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12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i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minderen grondwaterwin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plaggen verruigde  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ifzandherstel (deels ontboss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raz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els bekalken (mergel, gi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63480" y="3500280"/>
          <a:ext cx="7772400" cy="2355840"/>
        </p:xfrm>
        <a:graphic>
          <a:graphicData uri="http://schemas.openxmlformats.org/drawingml/2006/table">
            <a:tbl>
              <a:tblPr/>
              <a:tblGrid>
                <a:gridCol w="1817640"/>
                <a:gridCol w="5954760"/>
              </a:tblGrid>
              <a:tr h="168480">
                <a:tc gridSpan="2"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heersmaatregelen tov verdroging, verzuring &amp; vermesting en aanvullende maatreg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ur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doseerd bekalk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wak tot sterk gebufferd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slibla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oedselar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mesting omgeving landbouw stopze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oever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wak gebufferd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slibla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mesting omgeving landbouw stopze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oever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doseerd inlaten kalkhoudend oppvlakte- of grond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eer zwak gebufferde ven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sliblaag met behoud van zaadba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mesting omgeving landbouw stopzet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ijderen oevervegetat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doseerd inlaten kalkhoudend oppvlakte- of grondwa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itel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in waterbeheer om  biodiversiteit te vergro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1197000"/>
            <a:ext cx="79581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000" spc="-1" strike="noStrike">
                <a:solidFill>
                  <a:srgbClr val="278f01"/>
                </a:solidFill>
                <a:latin typeface="Tahoma"/>
                <a:ea typeface="ＭＳ Ｐゴシック"/>
              </a:rPr>
              <a:t>Waterbehe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Verdroging, Kanalisatie, grondwateronttrekking, gebiedsvreemd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eheersvormen voor vergroten biodiversite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lk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Doelstellinge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7524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Oorzaken omschrijven m.b.t. afname biodiversiteit en kennis vergaren omtrent: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6 V’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Verdrog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Kanalisatie, inlaat gebiedsvreemd water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diepe grondwateronttrek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Beheersvormen waterbeheer om biodiversiteit te vergrot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Hoge biodiversite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Nederlandse natuur van oudsher heel gevariee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Voedselrijke ecosystemen: beekdalen &amp; rivier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Matig voedselrijk ecosystemen: laagveenmoerass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Zeer voedselarme ecosystemen: hoogvenen, duinen, natte-droge heideterreinen en div. boss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Gebieden herbergen van nature eigen waterbehe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Afgelopen Eeuw sterk veranderd waterbeheer door menselijk handel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3 V’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Vermest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Verzu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Tahoma"/>
              </a:rPr>
              <a:t>Verdrog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Versnippering (opdelen leefgebieden door bv aanleg snelwegen, spoorlijn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(Verwarmen aarde) Klimaatverandering / broeikaseff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(Verontreiniging) Milieuverontreinigende stoffen / zware metalen, pcb’s, pak’s, Oz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(Verzilting)Zo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t2.gstatic.com/images?q=tbn:ANd9GcRS-6DrBo7d3jtwWNqBVh_0Ipt2wElHchRZvZMbg29xRudyLvTW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D:\Synchronisatie H schijf\AOC De Groene Welle\_sv4.2 vakdag natuurbeheer\_sv 42 blok 4 2011 - 2012\Eigen werk in voorbereiding\Scannen0003 verdroging.jpg"/>
          <p:cNvPicPr/>
          <p:nvPr/>
        </p:nvPicPr>
        <p:blipFill>
          <a:blip r:embed="rId2"/>
          <a:srcRect l="40437" t="13488" r="7025" b="23863"/>
          <a:stretch/>
        </p:blipFill>
        <p:spPr>
          <a:xfrm>
            <a:off x="900000" y="619200"/>
            <a:ext cx="7056720" cy="6119640"/>
          </a:xfrm>
          <a:prstGeom prst="rect">
            <a:avLst/>
          </a:prstGeom>
          <a:ln w="0">
            <a:noFill/>
          </a:ln>
        </p:spPr>
      </p:pic>
      <p:sp>
        <p:nvSpPr>
          <p:cNvPr id="95" name="Tekstvak 4"/>
          <p:cNvSpPr/>
          <p:nvPr/>
        </p:nvSpPr>
        <p:spPr>
          <a:xfrm>
            <a:off x="250920" y="645336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milieu van de natuur, stichting natuur en mil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standdaling - Watertek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dering grondwaterstand en chemische samenste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(gevolgen) inlaat gebiedsvreemd w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fname kw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hoogde mineralisatie bv veen (O</a:t>
            </a:r>
            <a:r>
              <a:rPr b="0" lang="nl-NL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omzetten plantenresten en humus tot voedingsstoffen en C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Tahoma"/>
              </a:rPr>
              <a:t>Afname biodiversiteit, Verdrog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www.veltenvecht.nl/contents/pages/4322/nieuwlande.jpg"/>
          <p:cNvPicPr/>
          <p:nvPr/>
        </p:nvPicPr>
        <p:blipFill>
          <a:blip r:embed="rId1"/>
          <a:stretch/>
        </p:blipFill>
        <p:spPr>
          <a:xfrm>
            <a:off x="900000" y="907920"/>
            <a:ext cx="7201080" cy="5400720"/>
          </a:xfrm>
          <a:prstGeom prst="rect">
            <a:avLst/>
          </a:prstGeom>
          <a:ln w="0">
            <a:noFill/>
          </a:ln>
        </p:spPr>
      </p:pic>
      <p:sp>
        <p:nvSpPr>
          <p:cNvPr id="99" name="Tekstvak 4"/>
          <p:cNvSpPr/>
          <p:nvPr/>
        </p:nvSpPr>
        <p:spPr>
          <a:xfrm>
            <a:off x="539640" y="630864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n: http://www.google.nl/imgres?q=peilbeheerveltenve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2:23:04Z</dcterms:created>
  <dc:creator>Mathieu Offenberg</dc:creator>
  <dc:description/>
  <dc:language>en-US</dc:language>
  <cp:lastModifiedBy>laptop</cp:lastModifiedBy>
  <dcterms:modified xsi:type="dcterms:W3CDTF">2017-09-11T05:34:42Z</dcterms:modified>
  <cp:revision>42</cp:revision>
  <dc:subject/>
  <dc:title>Dia 1</dc:title>
</cp:coreProperties>
</file>