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DED9-0806-4618-B43B-590EC715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6FD-FB8B-4CC0-83F5-652B1E5D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232-1421-45DB-B41F-EC939D6A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8F7-AE71-42B6-968C-DC582A14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17BF-70C3-45B2-B7A3-FEF9442A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B77F-95C4-4106-BB42-942834DA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D7A5-D6C9-4075-A634-D14F4E98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F75C-53AE-49AC-8425-4C94D999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B605-BE72-4715-BB78-B2790F80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5977-28C9-4B03-AF4B-61182BDA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343C-2811-4D5C-8B9D-FCCC07A4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FAE-620D-47DA-9B55-096309F0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2949-F9E1-4632-80FE-8CDCC709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EDAE-504D-4451-A7D5-0A3A0EA7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A2F2-16F1-4F4E-8C71-B4C1E9DA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B51E-F12C-41BC-909A-318A77A9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2398-BAD5-4F97-9CC7-44A8CF96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182-BB62-4B0A-8F1A-1D869186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48C-DE48-43A3-B148-71B3FD09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E2B-0D0D-41FF-817D-7FAC1BC6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CBF5-1906-4B09-8101-8851D14E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AB9-FAE3-4C09-AD9C-9BDE2F7E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D53-0C58-4D16-8F6E-F3ED234A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B0E-58E6-4B04-AFB6-19CF8E1F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9E2B2-4B7F-4FBA-97A2-EE69A1E7F0AA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C62815-94AF-4A44-BC8A-CB340E7970A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A3125-24A1-4D94-B1EF-7791BEA5C7B8}" type="datetime">
              <a:rPr b="0" lang="nl-NL" sz="1400" spc="-1" strike="noStrike">
                <a:solidFill>
                  <a:srgbClr val="000000"/>
                </a:solidFill>
                <a:latin typeface="Tahoma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C963A-358F-4B12-9045-ABD0E0F79D67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www.nieuwegein.nl/files/6896/photo/6896.jpg"/>
          <p:cNvPicPr/>
          <p:nvPr/>
        </p:nvPicPr>
        <p:blipFill>
          <a:blip r:embed="rId1"/>
          <a:stretch/>
        </p:blipFill>
        <p:spPr>
          <a:xfrm>
            <a:off x="1332000" y="1278000"/>
            <a:ext cx="6634080" cy="4968720"/>
          </a:xfrm>
          <a:prstGeom prst="rect">
            <a:avLst/>
          </a:prstGeom>
          <a:ln w="0">
            <a:noFill/>
          </a:ln>
        </p:spPr>
      </p:pic>
      <p:sp>
        <p:nvSpPr>
          <p:cNvPr id="101" name="Tekstvak 3"/>
          <p:cNvSpPr/>
          <p:nvPr/>
        </p:nvSpPr>
        <p:spPr>
          <a:xfrm>
            <a:off x="1403280" y="91116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laat gebiedsvreemd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kstvak 4"/>
          <p:cNvSpPr/>
          <p:nvPr/>
        </p:nvSpPr>
        <p:spPr>
          <a:xfrm>
            <a:off x="1332000" y="624672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n: http://www.google.nl/imgres?q=waterinlaat&amp;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</a:rPr>
              <a:t>Verdrog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2" descr="http://t1.gstatic.com/images?q=tbn:ANd9GcQ5rQ4F4-UNirGexoywVKOJHRi1m4TFptn4_QxGWXZZgfRYHvKD"/>
          <p:cNvPicPr/>
          <p:nvPr/>
        </p:nvPicPr>
        <p:blipFill>
          <a:blip r:embed="rId1"/>
          <a:stretch/>
        </p:blipFill>
        <p:spPr>
          <a:xfrm>
            <a:off x="711360" y="1981080"/>
            <a:ext cx="7414920" cy="4691160"/>
          </a:xfrm>
          <a:prstGeom prst="rect">
            <a:avLst/>
          </a:prstGeom>
          <a:ln w="0">
            <a:noFill/>
          </a:ln>
        </p:spPr>
      </p:pic>
      <p:sp>
        <p:nvSpPr>
          <p:cNvPr id="106" name="Tekstvak 3"/>
          <p:cNvSpPr/>
          <p:nvPr/>
        </p:nvSpPr>
        <p:spPr>
          <a:xfrm>
            <a:off x="684360" y="161928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jkdoorbraak Wilnis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hthoek 4"/>
          <p:cNvSpPr/>
          <p:nvPr/>
        </p:nvSpPr>
        <p:spPr>
          <a:xfrm>
            <a:off x="574560" y="6302520"/>
            <a:ext cx="59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google.nl/imgres?q=dijkdoorbraak+wil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t3.gstatic.com/images?q=tbn:ANd9GcTbLZiSXtR0ezqEVQQkSNNk_FHNK2xcLe3ecPJlJMGg6GJIVgqWfA"/>
          <p:cNvPicPr/>
          <p:nvPr/>
        </p:nvPicPr>
        <p:blipFill>
          <a:blip r:embed="rId2"/>
          <a:stretch/>
        </p:blipFill>
        <p:spPr>
          <a:xfrm>
            <a:off x="755640" y="1595520"/>
            <a:ext cx="7375680" cy="51274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</a:rPr>
              <a:t>Verdrog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kstvak 3"/>
          <p:cNvSpPr/>
          <p:nvPr/>
        </p:nvSpPr>
        <p:spPr>
          <a:xfrm>
            <a:off x="971640" y="17524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analisatie na ruilverkav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t0.gstatic.com/images?q=tbn:ANd9GcQHAkR29aGmWI1PgHY4Nbmy2EKEph2tqsDQLY6HPXL_bH3upqTC"/>
          <p:cNvPicPr/>
          <p:nvPr/>
        </p:nvPicPr>
        <p:blipFill>
          <a:blip r:embed="rId2"/>
          <a:stretch/>
        </p:blipFill>
        <p:spPr>
          <a:xfrm>
            <a:off x="179280" y="1709640"/>
            <a:ext cx="8820360" cy="4954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</a:rPr>
              <a:t>Verdrog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kstvak 3"/>
          <p:cNvSpPr/>
          <p:nvPr/>
        </p:nvSpPr>
        <p:spPr>
          <a:xfrm>
            <a:off x="395280" y="1752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ndwateronttrekking voor bereg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4"/>
          <p:cNvSpPr/>
          <p:nvPr/>
        </p:nvSpPr>
        <p:spPr>
          <a:xfrm>
            <a:off x="1332000" y="624672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n: http://www.google.nl/imgres?q=beregeningsinstall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rote delen NL gevoelig voor verdroging (zandgrond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rondwateronttrek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anderingen peilbeheer en waterafvo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Kanalisatie ruilverkaveling na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wereldoor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epe grondwaterbemaling bruinkoolwinning Duitsland (gevolgen merkbaar in Limbur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rinkwaterproduct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Industr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itel 1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fname biodiversiteit door Verdro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fname kwel-gebonden soor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ijv. veldrus, holpijp, waterviol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fname aantal soorten laagveenmoerass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amenstelling gebiedsvreemd water kan van invloed zijn op huidige natuurwaa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chteruitgang biodiversiteit duinen, bijv Parnassia, diverse orchidee soor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itel 1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fname biodiversiteit, Verdro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el 1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heersvormen in waterbeheer om  biodiversiteit te vergro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76440" y="5157720"/>
          <a:ext cx="7772400" cy="1176480"/>
        </p:xfrm>
        <a:graphic>
          <a:graphicData uri="http://schemas.openxmlformats.org/drawingml/2006/table">
            <a:tbl>
              <a:tblPr/>
              <a:tblGrid>
                <a:gridCol w="1817640"/>
                <a:gridCol w="5954760"/>
              </a:tblGrid>
              <a:tr h="16848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eersmaatregelen tov verdroging, verzuring &amp; vermesting en aanvullende maatreg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deterrei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g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0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raz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els bufferen (bekalken mergel, gips of lee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ole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n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76440" y="3645000"/>
          <a:ext cx="7772400" cy="1490400"/>
        </p:xfrm>
        <a:graphic>
          <a:graphicData uri="http://schemas.openxmlformats.org/drawingml/2006/table">
            <a:tbl>
              <a:tblPr/>
              <a:tblGrid>
                <a:gridCol w="1817640"/>
                <a:gridCol w="5954760"/>
              </a:tblGrid>
              <a:tr h="16812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eersmaatregelen tov verdroging, verzuring &amp; vermesting en aanvullende maatreg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kda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aien en afvoeren, begraz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hogen waterp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meandering (vasthouden gebiedseigen wat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ententiebekkens / overstromingsgebieden aanleggen (vasthouden gebiedseigen wat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trappen opheffen van stuw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eren riooloversor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nkoppelen oude mean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perken inlaat gebiedsvreemd wa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92280" y="1905120"/>
          <a:ext cx="7772400" cy="1658880"/>
        </p:xfrm>
        <a:graphic>
          <a:graphicData uri="http://schemas.openxmlformats.org/drawingml/2006/table">
            <a:tbl>
              <a:tblPr/>
              <a:tblGrid>
                <a:gridCol w="1817640"/>
                <a:gridCol w="5954760"/>
              </a:tblGrid>
              <a:tr h="16812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eersmaatregelen tov verdroging, verzuring &amp; vermesting en aanvullende maatreg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vie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razen, maaien, afvoe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wikkeling ooiboss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iveren afvalwater bovenstroo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gge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ententiebekkens / overstromingsgebieden aanleggen (vasthouden gebiedseigen water), ruimte voor de riv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trappen opheffen van stuw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32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meandering (vasthouden gebiedseigen wat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nkoppelen oude mean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nkoppelen nevengeu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684360" y="1905120"/>
          <a:ext cx="7772400" cy="1850760"/>
        </p:xfrm>
        <a:graphic>
          <a:graphicData uri="http://schemas.openxmlformats.org/drawingml/2006/table">
            <a:tbl>
              <a:tblPr/>
              <a:tblGrid>
                <a:gridCol w="1817640"/>
                <a:gridCol w="5954760"/>
              </a:tblGrid>
              <a:tr h="16812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eersmaatregelen tov verdroging, verzuring &amp; vermesting en aanvullende maatreg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agv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gengaan peilverlaging directe omge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stand ter hoogte van maaiveld in 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ilverhoging (tegengaan inklink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plaggen, afgra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sthouden gebiedseigen wat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reppelen verzuurde terrei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gge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aien en afvoe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brasemen (wegvang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laat gebiedsvreemd water tegengaan of ondoen van fosfaat en stik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84360" y="4076640"/>
          <a:ext cx="7799400" cy="1608120"/>
        </p:xfrm>
        <a:graphic>
          <a:graphicData uri="http://schemas.openxmlformats.org/drawingml/2006/table">
            <a:tbl>
              <a:tblPr/>
              <a:tblGrid>
                <a:gridCol w="1822320"/>
                <a:gridCol w="5977080"/>
              </a:tblGrid>
              <a:tr h="16092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eersmaatregelen tov verdroging, verzuring &amp; vermesting en aanvullende maatreg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ogv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gengaan peilverlaging directe omge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atsen van dammen en damwanden om de ontwatering te beperk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ilverhoging (tegengaan inklink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raz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sthouden gebiedseigen wa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pen sloten en vaarten omge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aien en afvoe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laat gebiedsvreemd water tegenga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vang /vasthouden regenwater in het geb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itel 1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heersvormen in waterbeheer om  biodiversiteit te vergro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685800" y="1936800"/>
          <a:ext cx="7772400" cy="1177920"/>
        </p:xfrm>
        <a:graphic>
          <a:graphicData uri="http://schemas.openxmlformats.org/drawingml/2006/table">
            <a:tbl>
              <a:tblPr/>
              <a:tblGrid>
                <a:gridCol w="1817640"/>
                <a:gridCol w="5954760"/>
              </a:tblGrid>
              <a:tr h="16812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eersmaatregelen tov verdroging, verzuring &amp; vermesting en aanvullende maatreg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i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minderen grondwaterwin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plaggen verruigde  vegetat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ifzandherstel (deels ontboss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raz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els bekalken (mergel, gip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63480" y="3500280"/>
          <a:ext cx="7772400" cy="2355840"/>
        </p:xfrm>
        <a:graphic>
          <a:graphicData uri="http://schemas.openxmlformats.org/drawingml/2006/table">
            <a:tbl>
              <a:tblPr/>
              <a:tblGrid>
                <a:gridCol w="1817640"/>
                <a:gridCol w="5954760"/>
              </a:tblGrid>
              <a:tr h="16848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eersmaatregelen tov verdroging, verzuring &amp; vermesting en aanvullende maatreg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ure ven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doseerd bekalk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wak tot sterk gebufferde ven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ijderen slibla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edselar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mesting omgeving landbouw stopzet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ijderen oevervegetat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wak gebufferde ven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ijderen slibla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mesting omgeving landbouw stopzet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ijderen oevervegetat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doseerd inlaten kalkhoudend oppvlakte- of grondwa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eer zwak gebufferde ven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ijderen sliblaag met behoud van zaadba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mesting omgeving landbouw stopzet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ijderen oevervegetat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doseerd inlaten kalkhoudend oppvlakte- of grondwa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itel 1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heersvormen in waterbeheer om  biodiversiteit te vergro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4360" y="1197000"/>
            <a:ext cx="79581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278f01"/>
                </a:solidFill>
                <a:latin typeface="Tahoma"/>
                <a:ea typeface="ＭＳ Ｐゴシック"/>
              </a:rPr>
              <a:t>Waterbehe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Verdroging, Kanalisatie, grondwateronttrekking, gebiedsvreemd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heersvormen voor vergroten biodiversite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elk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</a:rPr>
              <a:t>Doelstellinge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7524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Oorzaken omschrijven m.b.t. afname biodiversiteit en kennis vergaren omtrent: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6 V’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Verdrog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Kanalisatie, inlaat gebiedsvreemd water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diepe grondwateronttrek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Beheersvormen waterbeheer om biodiversiteit te vergrot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</a:rPr>
              <a:t>Hoge biodiversitei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Tahoma"/>
              </a:rPr>
              <a:t>Nederlandse natuur van oudsher heel gevariee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Voedselrijke ecosystemen: beekdalen &amp; rivier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Matig voedselrijk ecosystemen: laagveenmoerass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Zeer voedselarme ecosystemen: hoogvenen, duinen, natte-droge heideterreinen en div. boss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Gebieden herbergen van nature eigen waterbehe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Afgelopen Eeuw sterk veranderd waterbeheer door menselijk handel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</a:rPr>
              <a:t>3 V’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Tahoma"/>
              </a:rPr>
              <a:t>Vermes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Tahoma"/>
              </a:rPr>
              <a:t>Verzu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Tahoma"/>
              </a:rPr>
              <a:t>Verdrog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Versnippering (opdelen leefgebieden door bv aanleg snelwegen, spoorlijne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(Verwarmen aarde) Klimaatverandering / broeikaseff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(Verontreiniging) Milieuverontreinigende stoffen / zware metalen, pcb’s, pak’s, Oz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(Verzilting)Zo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t2.gstatic.com/images?q=tbn:ANd9GcRS-6DrBo7d3jtwWNqBVh_0Ipt2wElHchRZvZMbg29xRudyLvTW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D:\Synchronisatie H schijf\AOC De Groene Welle\_sv4.2 vakdag natuurbeheer\_sv 42 blok 4 2011 - 2012\Eigen werk in voorbereiding\Scannen0003 verdroging.jpg"/>
          <p:cNvPicPr/>
          <p:nvPr/>
        </p:nvPicPr>
        <p:blipFill>
          <a:blip r:embed="rId2"/>
          <a:srcRect l="40437" t="13488" r="7025" b="23863"/>
          <a:stretch/>
        </p:blipFill>
        <p:spPr>
          <a:xfrm>
            <a:off x="900000" y="619200"/>
            <a:ext cx="7056720" cy="6119640"/>
          </a:xfrm>
          <a:prstGeom prst="rect">
            <a:avLst/>
          </a:prstGeom>
          <a:ln w="0">
            <a:noFill/>
          </a:ln>
        </p:spPr>
      </p:pic>
      <p:sp>
        <p:nvSpPr>
          <p:cNvPr id="95" name="Tekstvak 4"/>
          <p:cNvSpPr/>
          <p:nvPr/>
        </p:nvSpPr>
        <p:spPr>
          <a:xfrm>
            <a:off x="250920" y="645336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n: milieu van de natuur, stichting natuur en mili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terstanddaling - Watertek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andering grondwaterstand en chemische samenst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(gevolgen) inlaat gebiedsvreemd w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fname kw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hoogde mineralisatie bv veen (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omzetten plantenresten en humus tot voedingsstoffen en C0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</a:rPr>
              <a:t>Afname biodiversiteit, Verdrog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www.veltenvecht.nl/contents/pages/4322/nieuwlande.jpg"/>
          <p:cNvPicPr/>
          <p:nvPr/>
        </p:nvPicPr>
        <p:blipFill>
          <a:blip r:embed="rId1"/>
          <a:stretch/>
        </p:blipFill>
        <p:spPr>
          <a:xfrm>
            <a:off x="900000" y="90792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99" name="Tekstvak 4"/>
          <p:cNvSpPr/>
          <p:nvPr/>
        </p:nvSpPr>
        <p:spPr>
          <a:xfrm>
            <a:off x="539640" y="6308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n: http://www.google.nl/imgres?q=peilbeheerveltenve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2:23:04Z</dcterms:created>
  <dc:creator>Mathieu Offenberg</dc:creator>
  <dc:description/>
  <dc:language>en-US</dc:language>
  <cp:lastModifiedBy>laptop</cp:lastModifiedBy>
  <dcterms:modified xsi:type="dcterms:W3CDTF">2017-09-11T05:34:42Z</dcterms:modified>
  <cp:revision>42</cp:revision>
  <dc:subject/>
  <dc:title>Dia 1</dc:title>
</cp:coreProperties>
</file>