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542-7714-4689-911B-F3D6A6C8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840-C979-43D6-AF03-EA6AB988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E03-98F7-4EA0-8EC3-5B00336B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A45-21D5-49FC-A5D9-1944DD3E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2B63-B396-44C3-8EC6-566569B2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A309-FFCD-4CB1-966D-3B319416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108A-8D8B-4055-BC3F-5C9A45CD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B1E6-1C0A-43A3-9405-50BDDD12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B888-50C9-4030-AF9F-7354D596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C497-0DE8-42CB-B486-25951600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E32C-F3D4-4137-ACAC-4C956920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CD1-1D6C-4ABD-970B-3BD01E73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7ECF-C639-4336-BB02-35A0C3B4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9994-D2D8-49F2-BD72-254D4054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4209-A8D3-4BBD-B7A0-D11CAD26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D19D-1E05-429A-9977-95CE8E56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3628-CF1B-418D-B8AD-6C68D823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9A1-C25D-4ED4-8BE7-F06DE6EB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200-A453-466E-A9F5-86C42F1C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227-4E3D-48F1-9344-974E09DF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0BB-2175-44A2-8710-D6FE024C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5172-8797-4CDF-B627-F5D12704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D49-BC3F-40E3-8071-12ABE2C5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F506-D353-4374-AC56-27ADC0D1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5D44-C0A7-422A-9FE8-0C7D51E4E545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EA70-078E-41F9-9821-DB58DE77BD7B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Voorlichting  Keuzemiddag 3 ha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8670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Bedrijfseconomie, ondernemerschap en financiële zelfredzaamhe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Economie is een handig vak als je in de toekomst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gistiek en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ernational business &amp; managemen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Management, economie en Rech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Commerciële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rketing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 nog veel meer…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Michel Boer / Linda van Har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Ronald Spekschoor / Bas Jacobs / Robbie Ju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20" name="il_fi" descr="http://geldverdienenmetinternet.info/wp-content/uploads/2011/10/geld2.jpg"/>
          <p:cNvPicPr/>
          <p:nvPr/>
        </p:nvPicPr>
        <p:blipFill>
          <a:blip r:embed="rId2"/>
          <a:stretch/>
        </p:blipFill>
        <p:spPr>
          <a:xfrm>
            <a:off x="6227640" y="836640"/>
            <a:ext cx="25210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Bedrijfseconomie, ondernemerschap en financieel zelfredzaamheid = Bedrijfseconomisch rekenen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Profielvak (geen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Keuzevak (EM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4 toetsen + Casuss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5 = 2,5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Bedrijfseconomie, groot gedeelte bedrijfseconomisch reken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Excursie_cover"/>
          <p:cNvPicPr/>
          <p:nvPr/>
        </p:nvPicPr>
        <p:blipFill>
          <a:blip r:embed="rId1"/>
          <a:stretch/>
        </p:blipFill>
        <p:spPr>
          <a:xfrm>
            <a:off x="6012000" y="2492280"/>
            <a:ext cx="26272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2" descr=""/>
          <p:cNvPicPr/>
          <p:nvPr/>
        </p:nvPicPr>
        <p:blipFill>
          <a:blip r:embed="rId2"/>
          <a:stretch/>
        </p:blipFill>
        <p:spPr>
          <a:xfrm>
            <a:off x="-203040" y="-237960"/>
            <a:ext cx="9359640" cy="314136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1" descr=""/>
          <p:cNvPicPr/>
          <p:nvPr/>
        </p:nvPicPr>
        <p:blipFill>
          <a:blip r:embed="rId3"/>
          <a:stretch/>
        </p:blipFill>
        <p:spPr>
          <a:xfrm>
            <a:off x="0" y="2841480"/>
            <a:ext cx="91566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dat all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nemen een financiële kijk in de keuken bij verschillende soorten bedrijven en organisat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eenmansza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vereniging &amp; stic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B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N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2630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balans en resultatenrek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ypothe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Renteberek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Andere soorten l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iezen uit de beste investering voor een bedrij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winst van een bedrijf ve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Balans"/>
          <p:cNvPicPr/>
          <p:nvPr/>
        </p:nvPicPr>
        <p:blipFill>
          <a:blip r:embed="rId1"/>
          <a:stretch/>
        </p:blipFill>
        <p:spPr>
          <a:xfrm>
            <a:off x="5373720" y="0"/>
            <a:ext cx="3770280" cy="1960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3" descr="ANd9GcR-kWxRZO2Cdiv9C-IVdbclNSZX366a_cpzMS2NXaya6BOVHj-T"/>
          <p:cNvPicPr/>
          <p:nvPr/>
        </p:nvPicPr>
        <p:blipFill>
          <a:blip r:embed="rId2"/>
          <a:stretch/>
        </p:blipFill>
        <p:spPr>
          <a:xfrm>
            <a:off x="6407280" y="4516560"/>
            <a:ext cx="2736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oorraadwaard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reak-evenanaly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ostprijs bereken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erekenen verkoopprij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erschillende rechtsvorm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melk"/>
          <p:cNvPicPr/>
          <p:nvPr/>
        </p:nvPicPr>
        <p:blipFill>
          <a:blip r:embed="rId1"/>
          <a:stretch/>
        </p:blipFill>
        <p:spPr>
          <a:xfrm>
            <a:off x="5940360" y="2421000"/>
            <a:ext cx="291312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9" descr="break-even-analysis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Uitgifte van aandelen en obliga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engeta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fboomwerking bij financiering van ondernem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6" descr="aandeel"/>
          <p:cNvPicPr/>
          <p:nvPr/>
        </p:nvPicPr>
        <p:blipFill>
          <a:blip r:embed="rId1"/>
          <a:stretch/>
        </p:blipFill>
        <p:spPr>
          <a:xfrm>
            <a:off x="4716360" y="2382840"/>
            <a:ext cx="3888000" cy="25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8a2bc29ec79f7cbe96459499ec90f0e0"/>
          <p:cNvPicPr/>
          <p:nvPr/>
        </p:nvPicPr>
        <p:blipFill>
          <a:blip r:embed="rId2"/>
          <a:stretch/>
        </p:blipFill>
        <p:spPr>
          <a:xfrm>
            <a:off x="1476360" y="5300640"/>
            <a:ext cx="71532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85 – 95 % (reken)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elf op onderzoek uitga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verslag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el veel maakwerk!, huiswerk is cruciaal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het een moeilijk va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a/Nee, als je het vak goed bijhoudt moet je een (ruim)voldoende kunnen ha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onder het maken van huiswerk, ga je het niet redden!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 = heel belangrij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6666"/>
                </a:solidFill>
                <a:latin typeface="Arial"/>
              </a:rPr>
              <a:t>Economie = Analyseren van de economie en ontwikkelingen in het land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kijken naar de ontwikkelingen in de economie, de samenleving, bedrijven, banken, overheid en het buitenl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rofielvak (E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Keuzevak (andere profie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4 toetsen + 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5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Afbeelding 4" descr="C:\Users\Laptop\Pictures\fokke-en-sukke-geld.gif"/>
          <p:cNvPicPr/>
          <p:nvPr/>
        </p:nvPicPr>
        <p:blipFill>
          <a:blip r:embed="rId1"/>
          <a:stretch/>
        </p:blipFill>
        <p:spPr>
          <a:xfrm>
            <a:off x="5508720" y="3573360"/>
            <a:ext cx="3311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Toekom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edrijfseconomie is een handig vak als je in de toekoms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bedrijf wil beg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e persoonlijke financiën goed wilt reg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Michel Boer / Linda van Haren / Bas Jaco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la de krant maar eens open, kijk eens naar het journaal of kijk gewoon goed om je heen, bijna alles om je heen heeft met economie te make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prijs van een fles col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t loon wat je krijgt voor je krantenwij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belasting die je ouders moeten betal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AOW leeftijd gaat van 65 naar 67 jaa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grote economische crisis in Griekenlan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AutoShape 2" descr=""/>
          <p:cNvPicPr/>
          <p:nvPr/>
        </p:nvPicPr>
        <p:blipFill>
          <a:blip r:embed="rId1"/>
          <a:stretch/>
        </p:blipFill>
        <p:spPr>
          <a:xfrm>
            <a:off x="676440" y="762120"/>
            <a:ext cx="80103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il_fi" descr="http://upload.wikimedia.org/wikipedia/commons/4/40/Vraagenaanbod.png"/>
          <p:cNvPicPr/>
          <p:nvPr/>
        </p:nvPicPr>
        <p:blipFill>
          <a:blip r:embed="rId2"/>
          <a:stretch/>
        </p:blipFill>
        <p:spPr>
          <a:xfrm>
            <a:off x="1332000" y="2637000"/>
            <a:ext cx="4752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utoShape 2" descr=""/>
          <p:cNvPicPr/>
          <p:nvPr/>
        </p:nvPicPr>
        <p:blipFill>
          <a:blip r:embed="rId1"/>
          <a:stretch/>
        </p:blipFill>
        <p:spPr>
          <a:xfrm>
            <a:off x="109692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06" name="il_fi" descr="http://www.tjoys.eu/images/contentimages/diensten/socialezekerheid.jpg"/>
          <p:cNvPicPr/>
          <p:nvPr/>
        </p:nvPicPr>
        <p:blipFill>
          <a:blip r:embed="rId2"/>
          <a:stretch/>
        </p:blipFill>
        <p:spPr>
          <a:xfrm>
            <a:off x="1619280" y="2708280"/>
            <a:ext cx="55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pic>
        <p:nvPicPr>
          <p:cNvPr id="108" name="il_fi" descr="http://www.gewoon-nieuws.nl/wp-content/uploads/2011/08/Euro-packman.jpg"/>
          <p:cNvPicPr/>
          <p:nvPr/>
        </p:nvPicPr>
        <p:blipFill>
          <a:blip r:embed="rId2"/>
          <a:stretch/>
        </p:blipFill>
        <p:spPr>
          <a:xfrm>
            <a:off x="1541520" y="2421000"/>
            <a:ext cx="5759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26920" y="2421000"/>
            <a:ext cx="791064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ment, producent, werknemer, werkgever, belastingen, sociale premies, lorenz-curve, investeren, export, import, arbeidsproductiviteit, loonmatiging, schaarste, productiefactoren, evenwichtsprijs…………………………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8000" y="6086520"/>
            <a:ext cx="1429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75 – 80 % 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Reke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ronnen uitpluiz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ctualiteit leren begrij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k ongeveer 60% rekenvaardigheid, 40% theor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nissen leer je ook niet uit een boek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, trainen en bijhouden is erg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banden tussen verschillende begrippen kunnen leg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rippen in verschillende contexten kunnen toepas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kenvaardigheden zijn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0:12:57Z</dcterms:created>
  <dc:creator>Arentheem College</dc:creator>
  <dc:description/>
  <dc:language>en-US</dc:language>
  <cp:lastModifiedBy>Bas Jacobs</cp:lastModifiedBy>
  <dcterms:modified xsi:type="dcterms:W3CDTF">2018-02-22T07:35:36Z</dcterms:modified>
  <cp:revision>18</cp:revision>
  <dc:subject/>
  <dc:title>Voorlichting  Keuzemiddag 3 vwo/3 havo</dc:title>
</cp:coreProperties>
</file>