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3.png" ContentType="image/png"/>
  <Override PartName="/ppt/media/image6.jpeg" ContentType="image/jpeg"/>
  <Override PartName="/ppt/media/image10.png" ContentType="image/png"/>
  <Override PartName="/ppt/media/image23.png" ContentType="image/png"/>
  <Override PartName="/ppt/media/image21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2.png" ContentType="image/png"/>
  <Override PartName="/ppt/media/image24.png" ContentType="image/png"/>
  <Override PartName="/ppt/media/image1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312B-4844-4F60-AE38-184FA5B40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EE1E-7819-49A1-AB47-88A3879D8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A518-96C4-4F29-966B-B89726EEE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94A9-F609-42E3-9689-625E10759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2417B-A750-4BB8-9974-93C57C58B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C2ED2-D680-403D-929A-01E9841C2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BB5C7-34B0-4AE3-80B4-CDDAEE6AE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84E4E-BD0A-400B-A08C-03B741748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D227C-3448-4DA3-9784-7BB8D8B94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8F22B-1112-44A5-8808-DFDD80C14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6C5DC-579E-4AEA-8F78-6B2B1265F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E3F4-1742-423A-A4F4-62743CC80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2B91F-6546-4EDB-9780-1044AA68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C5A43-41F7-4FA4-9B8E-CD69CB6F6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35F1C-EE06-4A0A-B0BC-19A3D695A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50425-F1B9-421C-8C6E-38C72E8CF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48555-E46F-4DC7-9649-1B79F1DC7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2134-4A29-42E5-9FCF-B10239966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E54F-7B7B-42A8-B62C-F734FB0CC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BAE2-4454-425A-A781-AAAB68619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3E35-232A-41D2-93E2-C3FAD7380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16E3-A606-47F0-8613-DAD86D130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65A7-D83A-499E-9741-8EEC590DF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D7E7-E47E-4FB5-B7D3-E1AFFFB4C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65F9E-3B09-4D86-800A-2095D1A38283}" type="slidenum">
              <a:rPr b="1" lang="nl-NL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E3EB6-95BD-4669-81E5-0E21882F7A1D}" type="slidenum">
              <a:rPr b="1" lang="nl-NL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Arial"/>
              </a:rPr>
              <a:t>Voorlichting  Keuzemiddag 3 hav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43280" y="286704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6666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6666"/>
                </a:solidFill>
                <a:latin typeface="Arial"/>
              </a:rPr>
              <a:t>Bedrijfseconomie, ondernemerschap en financiële zelfredzaamhei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6666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6666"/>
                </a:solidFill>
                <a:latin typeface="Arial"/>
              </a:rPr>
              <a:t>Econom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3366"/>
                </a:solidFill>
                <a:latin typeface="Arial"/>
              </a:rPr>
              <a:t>Economie is een handig vak als je in de toekomst: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3366"/>
                </a:solidFill>
                <a:latin typeface="Arial"/>
              </a:rPr>
              <a:t>Studie economie/bedrijfseconomie (HBO/WO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3366"/>
                </a:solidFill>
                <a:latin typeface="Arial"/>
              </a:rPr>
              <a:t>Studie bedrijfskunde (HBO/WO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Logistiek en Economie (HBO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International business &amp; management (HBO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3366"/>
                </a:solidFill>
                <a:latin typeface="Arial"/>
              </a:rPr>
              <a:t>Management, economie en Recht (HBO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3366"/>
                </a:solidFill>
                <a:latin typeface="Arial"/>
              </a:rPr>
              <a:t>Commerciële economie (HBO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Marketing (HBO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En nog veel meer………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AutoShape 2" descr=""/>
          <p:cNvPicPr/>
          <p:nvPr/>
        </p:nvPicPr>
        <p:blipFill>
          <a:blip r:embed="rId1"/>
          <a:stretch/>
        </p:blipFill>
        <p:spPr>
          <a:xfrm>
            <a:off x="646200" y="762120"/>
            <a:ext cx="8040600" cy="13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e docenten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Michel Boer / Linda van Har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ominique Vos / Ronald Spekschoor / Bas Jacobs / Robbie Jutte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We helpen je graag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Lokaal 121/132/13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AutoShape 2" descr=""/>
          <p:cNvPicPr/>
          <p:nvPr/>
        </p:nvPicPr>
        <p:blipFill>
          <a:blip r:embed="rId1"/>
          <a:stretch/>
        </p:blipFill>
        <p:spPr>
          <a:xfrm>
            <a:off x="646200" y="762120"/>
            <a:ext cx="8040600" cy="1304640"/>
          </a:xfrm>
          <a:prstGeom prst="rect">
            <a:avLst/>
          </a:prstGeom>
          <a:ln w="0">
            <a:noFill/>
          </a:ln>
        </p:spPr>
      </p:pic>
      <p:pic>
        <p:nvPicPr>
          <p:cNvPr id="120" name="il_fi" descr="http://geldverdienenmetinternet.info/wp-content/uploads/2011/10/geld2.jpg"/>
          <p:cNvPicPr/>
          <p:nvPr/>
        </p:nvPicPr>
        <p:blipFill>
          <a:blip r:embed="rId2"/>
          <a:stretch/>
        </p:blipFill>
        <p:spPr>
          <a:xfrm>
            <a:off x="6227640" y="836640"/>
            <a:ext cx="2521080" cy="19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6666"/>
                </a:solidFill>
                <a:latin typeface="Arial"/>
              </a:rPr>
              <a:t>Bedrijfseconomie, ondernemerschap en financieel zelfredzaamheid = Bedrijfseconomisch rekenen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4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3366"/>
                </a:solidFill>
                <a:latin typeface="Arial"/>
              </a:rPr>
              <a:t>Profielvak (geen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3366"/>
                </a:solidFill>
                <a:latin typeface="Arial"/>
              </a:rPr>
              <a:t>Keuzevak (EM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3366"/>
                </a:solidFill>
                <a:latin typeface="Arial"/>
              </a:rPr>
              <a:t>Havo 4 = 3 uur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3366"/>
                </a:solidFill>
                <a:latin typeface="Arial"/>
              </a:rPr>
              <a:t>4 toetsen + Casussen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3366"/>
                </a:solidFill>
                <a:latin typeface="Arial"/>
              </a:rPr>
              <a:t>Havo 5 = 2,5 uur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3366"/>
                </a:solidFill>
                <a:latin typeface="Arial"/>
              </a:rPr>
              <a:t>3 toetsen + Centraal Examen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3366"/>
                </a:solidFill>
                <a:latin typeface="Arial"/>
              </a:rPr>
              <a:t>Bedrijfseconomie, groot gedeelte bedrijfseconomisch rekenen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Picture 7" descr="Excursie_cover"/>
          <p:cNvPicPr/>
          <p:nvPr/>
        </p:nvPicPr>
        <p:blipFill>
          <a:blip r:embed="rId1"/>
          <a:stretch/>
        </p:blipFill>
        <p:spPr>
          <a:xfrm>
            <a:off x="6012000" y="2492280"/>
            <a:ext cx="2627280" cy="20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  <p:pic>
        <p:nvPicPr>
          <p:cNvPr id="126" name="Afbeelding 2" descr=""/>
          <p:cNvPicPr/>
          <p:nvPr/>
        </p:nvPicPr>
        <p:blipFill>
          <a:blip r:embed="rId2"/>
          <a:stretch/>
        </p:blipFill>
        <p:spPr>
          <a:xfrm>
            <a:off x="-203040" y="-237960"/>
            <a:ext cx="9359640" cy="3141360"/>
          </a:xfrm>
          <a:prstGeom prst="rect">
            <a:avLst/>
          </a:prstGeom>
          <a:ln w="0">
            <a:noFill/>
          </a:ln>
        </p:spPr>
      </p:pic>
      <p:pic>
        <p:nvPicPr>
          <p:cNvPr id="127" name="Afbeelding 1" descr=""/>
          <p:cNvPicPr/>
          <p:nvPr/>
        </p:nvPicPr>
        <p:blipFill>
          <a:blip r:embed="rId3"/>
          <a:stretch/>
        </p:blipFill>
        <p:spPr>
          <a:xfrm>
            <a:off x="0" y="2841480"/>
            <a:ext cx="915660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Is dat alle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81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We nemen een financiële kijk in de keuken bij verschillende soorten bedrijven en organisatie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e eenmanszaa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e vereniging &amp; stich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e BV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e NV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Wat leren we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7263000" cy="28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De balans en resultatenreken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Hypothek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Renteberekening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Andere soorten lening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Kiezen uit de beste investering voor een bedrij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De winst van een bedrijf verdel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Picture 6" descr="Balans"/>
          <p:cNvPicPr/>
          <p:nvPr/>
        </p:nvPicPr>
        <p:blipFill>
          <a:blip r:embed="rId1"/>
          <a:stretch/>
        </p:blipFill>
        <p:spPr>
          <a:xfrm>
            <a:off x="5373720" y="0"/>
            <a:ext cx="3770280" cy="196056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AutoShape 11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5" name="Picture 13" descr="ANd9GcR-kWxRZO2Cdiv9C-IVdbclNSZX366a_cpzMS2NXaya6BOVHj-T"/>
          <p:cNvPicPr/>
          <p:nvPr/>
        </p:nvPicPr>
        <p:blipFill>
          <a:blip r:embed="rId2"/>
          <a:stretch/>
        </p:blipFill>
        <p:spPr>
          <a:xfrm>
            <a:off x="6407280" y="4516560"/>
            <a:ext cx="2736720" cy="23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Wat leren we? (vervolg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Voorraadwaarder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reak-evenanaly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Kostprijs bereken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erekenen verkoopprij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Verschillende rechtsvorme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8" name="Picture 7" descr="melk"/>
          <p:cNvPicPr/>
          <p:nvPr/>
        </p:nvPicPr>
        <p:blipFill>
          <a:blip r:embed="rId1"/>
          <a:stretch/>
        </p:blipFill>
        <p:spPr>
          <a:xfrm>
            <a:off x="5940360" y="2421000"/>
            <a:ext cx="2913120" cy="388764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6"/>
          <p:cNvSpPr/>
          <p:nvPr/>
        </p:nvSpPr>
        <p:spPr>
          <a:xfrm>
            <a:off x="63360" y="-25560"/>
            <a:ext cx="1847880" cy="24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0" name="Picture 9" descr="break-even-analysis"/>
          <p:cNvPicPr/>
          <p:nvPr/>
        </p:nvPicPr>
        <p:blipFill>
          <a:blip r:embed="rId2"/>
          <a:stretch/>
        </p:blipFill>
        <p:spPr>
          <a:xfrm>
            <a:off x="6084720" y="0"/>
            <a:ext cx="30592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Wat leren we? (vervolg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Uitgifte van aandelen en obligat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Kengetall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Hefboomwerking bij financiering van onderneming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3" name="Picture 6" descr="aandeel"/>
          <p:cNvPicPr/>
          <p:nvPr/>
        </p:nvPicPr>
        <p:blipFill>
          <a:blip r:embed="rId1"/>
          <a:stretch/>
        </p:blipFill>
        <p:spPr>
          <a:xfrm>
            <a:off x="4716360" y="2382840"/>
            <a:ext cx="3888000" cy="2585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8a2bc29ec79f7cbe96459499ec90f0e0"/>
          <p:cNvPicPr/>
          <p:nvPr/>
        </p:nvPicPr>
        <p:blipFill>
          <a:blip r:embed="rId2"/>
          <a:stretch/>
        </p:blipFill>
        <p:spPr>
          <a:xfrm>
            <a:off x="1476360" y="5300640"/>
            <a:ext cx="71532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Hoe leren we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85 – 95 % (reken)opgaven mak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Zelf op onderzoek uitga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Een verslag mak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Heel veel maakwerk!, huiswerk is cruciaal!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Is het een moeilijk vak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Ja/Nee, als je het vak goed bijhoudt moet je een (ruim)voldoende kunnen hal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Zonder het maken van huiswerk, ga je het niet redden!!!!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Oefenen = heel belangrijk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6666"/>
                </a:solidFill>
                <a:latin typeface="Arial"/>
              </a:rPr>
              <a:t>Economie = Analyseren van de economie en ontwikkelingen in het land</a:t>
            </a:r>
            <a:endParaRPr b="1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4640" cy="33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We kijken naar de ontwikkelingen in de economie, de samenleving, bedrijven, banken, overheid en het buitenlan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Profielvak (EM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Keuzevak (andere profielen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Havo 4 = 3 uu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4 toetsen + P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Havo 5 = 3 uu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3 toetsen + Centraal Exam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Afbeelding 4" descr="C:\Users\Laptop\Pictures\fokke-en-sukke-geld.gif"/>
          <p:cNvPicPr/>
          <p:nvPr/>
        </p:nvPicPr>
        <p:blipFill>
          <a:blip r:embed="rId1"/>
          <a:stretch/>
        </p:blipFill>
        <p:spPr>
          <a:xfrm>
            <a:off x="5508720" y="3573360"/>
            <a:ext cx="331128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Toekoms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bedrijfseconomie is een handig vak als je in de toekomst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Studie economie/bedrijfseconomie (HBO/WO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Studie bedrijfskunde (HBO/WO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Een bedrijf wil beginn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Je persoonlijke financiën goed wilt regel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Vragen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e docenten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ominique Vos / Michel Boer / Linda van Haren / Bas Jacob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We helpen je graag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Lokaal 121/132/13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Sla de krant maar eens open, kijk eens naar het journaal of kijk gewoon goed om je heen, bijna alles om je heen heeft met economie te maken: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De prijs van een fles cola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Het loon wat je krijgt voor je krantenwijk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De belasting die je ouders moeten betalen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De AOW leeftijd gaat van 65 naar 67 jaar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De grote economische crisis in Griekenland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En……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" name="AutoShape 2" descr=""/>
          <p:cNvPicPr/>
          <p:nvPr/>
        </p:nvPicPr>
        <p:blipFill>
          <a:blip r:embed="rId1"/>
          <a:stretch/>
        </p:blipFill>
        <p:spPr>
          <a:xfrm>
            <a:off x="676440" y="762120"/>
            <a:ext cx="8010360" cy="12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AutoShape 2" descr=""/>
          <p:cNvPicPr/>
          <p:nvPr/>
        </p:nvPicPr>
        <p:blipFill>
          <a:blip r:embed="rId1"/>
          <a:stretch/>
        </p:blipFill>
        <p:spPr>
          <a:xfrm>
            <a:off x="676440" y="281160"/>
            <a:ext cx="7931160" cy="128556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6"/>
          <p:cNvSpPr/>
          <p:nvPr/>
        </p:nvSpPr>
        <p:spPr>
          <a:xfrm>
            <a:off x="63360" y="-25560"/>
            <a:ext cx="1847880" cy="24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il_fi" descr="http://upload.wikimedia.org/wikipedia/commons/4/40/Vraagenaanbod.png"/>
          <p:cNvPicPr/>
          <p:nvPr/>
        </p:nvPicPr>
        <p:blipFill>
          <a:blip r:embed="rId2"/>
          <a:stretch/>
        </p:blipFill>
        <p:spPr>
          <a:xfrm>
            <a:off x="1332000" y="2637000"/>
            <a:ext cx="47527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AutoShape 2" descr=""/>
          <p:cNvPicPr/>
          <p:nvPr/>
        </p:nvPicPr>
        <p:blipFill>
          <a:blip r:embed="rId1"/>
          <a:stretch/>
        </p:blipFill>
        <p:spPr>
          <a:xfrm>
            <a:off x="1096920" y="762120"/>
            <a:ext cx="8040600" cy="1304640"/>
          </a:xfrm>
          <a:prstGeom prst="rect">
            <a:avLst/>
          </a:prstGeom>
          <a:ln w="0">
            <a:noFill/>
          </a:ln>
        </p:spPr>
      </p:pic>
      <p:pic>
        <p:nvPicPr>
          <p:cNvPr id="106" name="il_fi" descr="http://www.tjoys.eu/images/contentimages/diensten/socialezekerheid.jpg"/>
          <p:cNvPicPr/>
          <p:nvPr/>
        </p:nvPicPr>
        <p:blipFill>
          <a:blip r:embed="rId2"/>
          <a:stretch/>
        </p:blipFill>
        <p:spPr>
          <a:xfrm>
            <a:off x="1619280" y="2708280"/>
            <a:ext cx="554508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AutoShape 2" descr=""/>
          <p:cNvPicPr/>
          <p:nvPr/>
        </p:nvPicPr>
        <p:blipFill>
          <a:blip r:embed="rId1"/>
          <a:stretch/>
        </p:blipFill>
        <p:spPr>
          <a:xfrm>
            <a:off x="676440" y="281160"/>
            <a:ext cx="7931160" cy="1285560"/>
          </a:xfrm>
          <a:prstGeom prst="rect">
            <a:avLst/>
          </a:prstGeom>
          <a:ln w="0">
            <a:noFill/>
          </a:ln>
        </p:spPr>
      </p:pic>
      <p:pic>
        <p:nvPicPr>
          <p:cNvPr id="108" name="il_fi" descr="http://www.gewoon-nieuws.nl/wp-content/uploads/2011/08/Euro-packman.jpg"/>
          <p:cNvPicPr/>
          <p:nvPr/>
        </p:nvPicPr>
        <p:blipFill>
          <a:blip r:embed="rId2"/>
          <a:stretch/>
        </p:blipFill>
        <p:spPr>
          <a:xfrm>
            <a:off x="1541520" y="2421000"/>
            <a:ext cx="5759280" cy="41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Titel 1" descr=""/>
          <p:cNvPicPr/>
          <p:nvPr/>
        </p:nvPicPr>
        <p:blipFill>
          <a:blip r:embed="rId1"/>
          <a:stretch/>
        </p:blipFill>
        <p:spPr>
          <a:xfrm>
            <a:off x="646200" y="762120"/>
            <a:ext cx="8040600" cy="13046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826920" y="2421000"/>
            <a:ext cx="7910640" cy="41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sument, producent, werknemer, werkgever, belastingen, sociale premies, lorenz-curve, investeren, export, import, arbeidsproductiviteit, loonmatiging, schaarste, productiefactoren, evenwichtsprijs………………………….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8000" y="6086520"/>
            <a:ext cx="142920" cy="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720" bIns="-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75 – 80 % opgaven mak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Reken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Bronnen uitpluiz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Actualiteit leren begrijp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Vak ongeveer 60% rekenvaardigheid, 40% theori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" name="AutoShape 2" descr=""/>
          <p:cNvPicPr/>
          <p:nvPr/>
        </p:nvPicPr>
        <p:blipFill>
          <a:blip r:embed="rId1"/>
          <a:stretch/>
        </p:blipFill>
        <p:spPr>
          <a:xfrm>
            <a:off x="646200" y="762120"/>
            <a:ext cx="8040600" cy="13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nnissen leer je ook niet uit een boekj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Oefenen, trainen en bijhouden is erg belangrij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erbanden tussen verschillende begrippen kunnen legg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grippen in verschillende contexten kunnen toepass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kenvaardigheden zijn belangrij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AutoShape 2" descr=""/>
          <p:cNvPicPr/>
          <p:nvPr/>
        </p:nvPicPr>
        <p:blipFill>
          <a:blip r:embed="rId1"/>
          <a:stretch/>
        </p:blipFill>
        <p:spPr>
          <a:xfrm>
            <a:off x="646200" y="762120"/>
            <a:ext cx="8040600" cy="13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5T10:12:57Z</dcterms:created>
  <dc:creator>Arentheem College</dc:creator>
  <dc:description/>
  <dc:language>en-US</dc:language>
  <cp:lastModifiedBy>Bas Jacobs</cp:lastModifiedBy>
  <dcterms:modified xsi:type="dcterms:W3CDTF">2018-02-22T07:35:36Z</dcterms:modified>
  <cp:revision>18</cp:revision>
  <dc:subject/>
  <dc:title>Voorlichting  Keuzemiddag 3 vwo/3 havo</dc:title>
</cp:coreProperties>
</file>