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1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BBC-ECC9-4435-B860-B64A5935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9498-82A1-47E7-9C6F-DE74E8FF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4330-B24F-4C72-B745-9610B8A3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0123-4E55-4C25-8203-E6463B0D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0826-4445-43EF-BB06-A59F6BBE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07C1-0A84-468E-AB40-05E77C28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F0BD-D874-4ADB-A023-1335B420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4292-DDCC-46BB-A8B1-6D119236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1904-36BD-4509-A02C-270ED331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8D6C-38A1-4C32-90B1-562D695C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BF94-35D5-4F25-8C12-1DA210AA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A6C-B982-47D7-8A4C-497847BD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7081-3648-41AB-A934-799ADD99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33F9-0092-408B-9483-853133A8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BDEF-3A82-446F-8B0C-76D8D8A6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6875-D17E-4AD8-B045-B4E8C7F3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9C47-F409-4938-ABC4-CB5BB76C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BB1-F518-4F8F-BA01-4D09D9EF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E07-21BF-4B90-A99A-C6643CE5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F8D6-328A-4B28-B436-7F65426D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041-8A44-4B84-A20B-1EA7F51A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1E3-85A8-4676-A21D-299D6CF7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CC1-61E0-428E-867E-B1A96919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CC5E-0807-40F6-B61C-289C5BE0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E373-C6FF-4B83-A433-4D42071A2997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BE60-0EAD-45C3-BBCF-198E3B4AEF89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"/>
              </a:rPr>
              <a:t>Voorlichting  Keuzemiddag 3 ha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43280" y="286704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Bedrijfseconomie, ondernemerschap en financiële zelfredzaamhei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Econom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Economie is een handig vak als je in de toekomst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Studie economie/bedrijfseconomie (HBO/W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Studie bedrijfskunde (HBO/W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Logistiek en Economie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nternational business &amp; management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Management, economie en Recht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Commerciële economie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rketing (HBO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n nog veel meer………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docent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Michel Boer / Linda van Har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ominique Vos / Ronald Spekschoor / Bas Jacobs / Robbie Ju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helpen je graa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okaal 121/132/1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  <p:pic>
        <p:nvPicPr>
          <p:cNvPr id="120" name="il_fi" descr="http://geldverdienenmetinternet.info/wp-content/uploads/2011/10/geld2.jpg"/>
          <p:cNvPicPr/>
          <p:nvPr/>
        </p:nvPicPr>
        <p:blipFill>
          <a:blip r:embed="rId2"/>
          <a:stretch/>
        </p:blipFill>
        <p:spPr>
          <a:xfrm>
            <a:off x="6227640" y="836640"/>
            <a:ext cx="252108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Bedrijfseconomie, ondernemerschap en financieel zelfredzaamheid = Bedrijfseconomisch rekenen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4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Profielvak (geen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Keuzevak (EM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Havo 4 = 3 uu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4 toetsen + Casuss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Havo 5 = 2,5 uu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3 toetsen + Centraal Exam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3366"/>
                </a:solidFill>
                <a:latin typeface="Arial"/>
              </a:rPr>
              <a:t>Bedrijfseconomie, groot gedeelte bedrijfseconomisch reken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Excursie_cover"/>
          <p:cNvPicPr/>
          <p:nvPr/>
        </p:nvPicPr>
        <p:blipFill>
          <a:blip r:embed="rId1"/>
          <a:stretch/>
        </p:blipFill>
        <p:spPr>
          <a:xfrm>
            <a:off x="6012000" y="2492280"/>
            <a:ext cx="26272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126" name="Afbeelding 2" descr=""/>
          <p:cNvPicPr/>
          <p:nvPr/>
        </p:nvPicPr>
        <p:blipFill>
          <a:blip r:embed="rId2"/>
          <a:stretch/>
        </p:blipFill>
        <p:spPr>
          <a:xfrm>
            <a:off x="-203040" y="-237960"/>
            <a:ext cx="9359640" cy="3141360"/>
          </a:xfrm>
          <a:prstGeom prst="rect">
            <a:avLst/>
          </a:prstGeom>
          <a:ln w="0">
            <a:noFill/>
          </a:ln>
        </p:spPr>
      </p:pic>
      <p:pic>
        <p:nvPicPr>
          <p:cNvPr id="127" name="Afbeelding 1" descr=""/>
          <p:cNvPicPr/>
          <p:nvPr/>
        </p:nvPicPr>
        <p:blipFill>
          <a:blip r:embed="rId3"/>
          <a:stretch/>
        </p:blipFill>
        <p:spPr>
          <a:xfrm>
            <a:off x="0" y="2841480"/>
            <a:ext cx="91566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s dat all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nemen een financiële kijk in de keuken bij verschillende soorten bedrijven en organisati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eenmanszaa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vereniging &amp; stich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B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N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26300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De balans en resultatenrek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ypothe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Rentebereken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Andere soorten len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iezen uit de beste investering voor een bedrij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De winst van een bedrijf ve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Balans"/>
          <p:cNvPicPr/>
          <p:nvPr/>
        </p:nvPicPr>
        <p:blipFill>
          <a:blip r:embed="rId1"/>
          <a:stretch/>
        </p:blipFill>
        <p:spPr>
          <a:xfrm>
            <a:off x="5373720" y="0"/>
            <a:ext cx="3770280" cy="196056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13" descr="ANd9GcR-kWxRZO2Cdiv9C-IVdbclNSZX366a_cpzMS2NXaya6BOVHj-T"/>
          <p:cNvPicPr/>
          <p:nvPr/>
        </p:nvPicPr>
        <p:blipFill>
          <a:blip r:embed="rId2"/>
          <a:stretch/>
        </p:blipFill>
        <p:spPr>
          <a:xfrm>
            <a:off x="6407280" y="4516560"/>
            <a:ext cx="27367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 (vervolg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Voorraadwaarde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reak-evenanaly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ostprijs bereken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erekenen verkoopprij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Verschillende rechtsvorm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melk"/>
          <p:cNvPicPr/>
          <p:nvPr/>
        </p:nvPicPr>
        <p:blipFill>
          <a:blip r:embed="rId1"/>
          <a:stretch/>
        </p:blipFill>
        <p:spPr>
          <a:xfrm>
            <a:off x="5940360" y="2421000"/>
            <a:ext cx="2913120" cy="388764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6"/>
          <p:cNvSpPr/>
          <p:nvPr/>
        </p:nvSpPr>
        <p:spPr>
          <a:xfrm>
            <a:off x="63360" y="-25560"/>
            <a:ext cx="18478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9" descr="break-even-analysis"/>
          <p:cNvPicPr/>
          <p:nvPr/>
        </p:nvPicPr>
        <p:blipFill>
          <a:blip r:embed="rId2"/>
          <a:stretch/>
        </p:blipFill>
        <p:spPr>
          <a:xfrm>
            <a:off x="6084720" y="0"/>
            <a:ext cx="30592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leren we? (vervolg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Uitgifte van aandelen en obliga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Kengetal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fboomwerking bij financiering van ondernemin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6" descr="aandeel"/>
          <p:cNvPicPr/>
          <p:nvPr/>
        </p:nvPicPr>
        <p:blipFill>
          <a:blip r:embed="rId1"/>
          <a:stretch/>
        </p:blipFill>
        <p:spPr>
          <a:xfrm>
            <a:off x="4716360" y="2382840"/>
            <a:ext cx="3888000" cy="258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8a2bc29ec79f7cbe96459499ec90f0e0"/>
          <p:cNvPicPr/>
          <p:nvPr/>
        </p:nvPicPr>
        <p:blipFill>
          <a:blip r:embed="rId2"/>
          <a:stretch/>
        </p:blipFill>
        <p:spPr>
          <a:xfrm>
            <a:off x="1476360" y="5300640"/>
            <a:ext cx="71532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leren w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85 – 95 % (reken)opgaven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elf op onderzoek uitga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verslag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eel veel maakwerk!, huiswerk is cruciaal!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s het een moeilijk va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a/Nee, als je het vak goed bijhoudt moet je een (ruim)voldoende kunnen ha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onder het maken van huiswerk, ga je het niet redden!!!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efenen = heel belangrij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6666"/>
                </a:solidFill>
                <a:latin typeface="Arial"/>
              </a:rPr>
              <a:t>Economie = Analyseren van de economie en ontwikkelingen in het land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4640" cy="33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kijken naar de ontwikkelingen in de economie, de samenleving, bedrijven, banken, overheid en het buitenla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rofielvak (E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Keuzevak (andere profiel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avo 4 = 3 u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4 toetsen + 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avo 5 = 3 u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3 toetsen + Centraal Exa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Afbeelding 4" descr="C:\Users\Laptop\Pictures\fokke-en-sukke-geld.gif"/>
          <p:cNvPicPr/>
          <p:nvPr/>
        </p:nvPicPr>
        <p:blipFill>
          <a:blip r:embed="rId1"/>
          <a:stretch/>
        </p:blipFill>
        <p:spPr>
          <a:xfrm>
            <a:off x="5508720" y="3573360"/>
            <a:ext cx="3311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Toekom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edrijfseconomie is een handig vak als je in de toekoms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udie economie/bedrijfseconomie (HBO/W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udie bedrijfskunde (HBO/W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bedrijf wil beg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e persoonlijke financiën goed wilt rege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docent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ominique Vos / Michel Boer / Linda van Haren / Bas Jacob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helpen je graa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okaal 121/132/1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Sla de krant maar eens open, kijk eens naar het journaal of kijk gewoon goed om je heen, bijna alles om je heen heeft met economie te maken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prijs van een fles col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et loon wat je krijgt voor je krantenwijk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belasting die je ouders moeten betale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AOW leeftijd gaat van 65 naar 67 jaar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De grote economische crisis in Griekenlan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En……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AutoShape 2" descr=""/>
          <p:cNvPicPr/>
          <p:nvPr/>
        </p:nvPicPr>
        <p:blipFill>
          <a:blip r:embed="rId1"/>
          <a:stretch/>
        </p:blipFill>
        <p:spPr>
          <a:xfrm>
            <a:off x="676440" y="762120"/>
            <a:ext cx="80103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utoShape 2" descr=""/>
          <p:cNvPicPr/>
          <p:nvPr/>
        </p:nvPicPr>
        <p:blipFill>
          <a:blip r:embed="rId1"/>
          <a:stretch/>
        </p:blipFill>
        <p:spPr>
          <a:xfrm>
            <a:off x="676440" y="281160"/>
            <a:ext cx="7931160" cy="12855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63360" y="-25560"/>
            <a:ext cx="184788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il_fi" descr="http://upload.wikimedia.org/wikipedia/commons/4/40/Vraagenaanbod.png"/>
          <p:cNvPicPr/>
          <p:nvPr/>
        </p:nvPicPr>
        <p:blipFill>
          <a:blip r:embed="rId2"/>
          <a:stretch/>
        </p:blipFill>
        <p:spPr>
          <a:xfrm>
            <a:off x="1332000" y="2637000"/>
            <a:ext cx="4752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utoShape 2" descr=""/>
          <p:cNvPicPr/>
          <p:nvPr/>
        </p:nvPicPr>
        <p:blipFill>
          <a:blip r:embed="rId1"/>
          <a:stretch/>
        </p:blipFill>
        <p:spPr>
          <a:xfrm>
            <a:off x="1096920" y="762120"/>
            <a:ext cx="8040600" cy="1304640"/>
          </a:xfrm>
          <a:prstGeom prst="rect">
            <a:avLst/>
          </a:prstGeom>
          <a:ln w="0">
            <a:noFill/>
          </a:ln>
        </p:spPr>
      </p:pic>
      <p:pic>
        <p:nvPicPr>
          <p:cNvPr id="106" name="il_fi" descr="http://www.tjoys.eu/images/contentimages/diensten/socialezekerheid.jpg"/>
          <p:cNvPicPr/>
          <p:nvPr/>
        </p:nvPicPr>
        <p:blipFill>
          <a:blip r:embed="rId2"/>
          <a:stretch/>
        </p:blipFill>
        <p:spPr>
          <a:xfrm>
            <a:off x="1619280" y="2708280"/>
            <a:ext cx="55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AutoShape 2" descr=""/>
          <p:cNvPicPr/>
          <p:nvPr/>
        </p:nvPicPr>
        <p:blipFill>
          <a:blip r:embed="rId1"/>
          <a:stretch/>
        </p:blipFill>
        <p:spPr>
          <a:xfrm>
            <a:off x="676440" y="281160"/>
            <a:ext cx="7931160" cy="1285560"/>
          </a:xfrm>
          <a:prstGeom prst="rect">
            <a:avLst/>
          </a:prstGeom>
          <a:ln w="0">
            <a:noFill/>
          </a:ln>
        </p:spPr>
      </p:pic>
      <p:pic>
        <p:nvPicPr>
          <p:cNvPr id="108" name="il_fi" descr="http://www.gewoon-nieuws.nl/wp-content/uploads/2011/08/Euro-packman.jpg"/>
          <p:cNvPicPr/>
          <p:nvPr/>
        </p:nvPicPr>
        <p:blipFill>
          <a:blip r:embed="rId2"/>
          <a:stretch/>
        </p:blipFill>
        <p:spPr>
          <a:xfrm>
            <a:off x="1541520" y="2421000"/>
            <a:ext cx="57592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el 1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826920" y="2421000"/>
            <a:ext cx="791064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ument, producent, werknemer, werkgever, belastingen, sociale premies, lorenz-curve, investeren, export, import, arbeidsproductiviteit, loonmatiging, schaarste, productiefactoren, evenwichtsprijs…………………………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8000" y="6086520"/>
            <a:ext cx="1429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75 – 80 % opgaven ma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Reke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ronnen uitpluiz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ctualiteit leren begrijp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k ongeveer 60% rekenvaardigheid, 40% theori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nnissen leer je ook niet uit een boek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efenen, trainen en bijhouden is erg belangrij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banden tussen verschillende begrippen kunnen leg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grippen in verschillende contexten kunnen toepass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kenvaardigheden zijn belangrij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AutoShape 2" descr=""/>
          <p:cNvPicPr/>
          <p:nvPr/>
        </p:nvPicPr>
        <p:blipFill>
          <a:blip r:embed="rId1"/>
          <a:stretch/>
        </p:blipFill>
        <p:spPr>
          <a:xfrm>
            <a:off x="646200" y="762120"/>
            <a:ext cx="80406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0:12:57Z</dcterms:created>
  <dc:creator>Arentheem College</dc:creator>
  <dc:description/>
  <dc:language>en-US</dc:language>
  <cp:lastModifiedBy>Bas Jacobs</cp:lastModifiedBy>
  <dcterms:modified xsi:type="dcterms:W3CDTF">2018-02-22T07:35:36Z</dcterms:modified>
  <cp:revision>18</cp:revision>
  <dc:subject/>
  <dc:title>Voorlichting  Keuzemiddag 3 vwo/3 havo</dc:title>
</cp:coreProperties>
</file>