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1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D340-B882-46EE-8787-548A32F2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89F-DAC8-4FF4-8A4C-AABC11CB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F73F-CDD6-483A-9A38-057E3F1A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E608-C953-4436-9B2D-B7CB8829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216F-47FD-4070-9A9F-F79AE1EC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4F4B-808D-407F-AB94-55B5D1A3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47CC-5816-45FC-A7D8-E91BB12A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25C5-9447-455D-9F35-E8D797CB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4311-71C8-4960-8D24-D292428F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463D-4D78-4059-AA0F-A55D52A3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5AC7-78A5-41AF-8262-DA10C840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7594-F370-41FC-9F9B-B89B158D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A93E-43BB-46BA-A0C0-10C98833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E6A0-581D-41C2-9F3C-49C45792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F506-3659-4754-9561-062699E7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621E-00FF-4BB1-BE0C-A2D1B3B3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876F-978D-40D1-88AE-B58070D5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6732-699A-440F-9D26-EBEE24C8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F1D-83FA-4782-A1CC-D39EF91F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20E9-66E4-408E-880E-43F9DC75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B541-25DA-4E44-AA48-6E4DFB85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F93-094A-453F-B521-5C783109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0EB-FB3E-4E3F-948D-0A30A427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B8A-4574-4523-A423-0BAAB4D5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09D2-FFEF-493A-B9A7-ED3F95616470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1AB6-0368-4415-BBFD-BF04082FF6D3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"/>
              </a:rPr>
              <a:t>Voorlichting  Keuzemiddag 3 ha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43280" y="286704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Bedrijfseconomie, ondernemerschap en financiële zelfredzaamhei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Econom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Economie is een handig vak als je in de toekomst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Studie economie/bedrijfseconomie (HBO/W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Studie bedrijfskunde (HBO/W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Logistiek en Economie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ternational business &amp; management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Management, economie en Recht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Commerciële economie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rketing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n nog veel meer………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docent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Michel Boer / Linda van Har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ominique Vos / Ronald Spekschoor / Bas Jacobs / Robbie Ju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helpen je graa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okaal 121/132/1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  <p:pic>
        <p:nvPicPr>
          <p:cNvPr id="120" name="il_fi" descr="http://geldverdienenmetinternet.info/wp-content/uploads/2011/10/geld2.jpg"/>
          <p:cNvPicPr/>
          <p:nvPr/>
        </p:nvPicPr>
        <p:blipFill>
          <a:blip r:embed="rId2"/>
          <a:stretch/>
        </p:blipFill>
        <p:spPr>
          <a:xfrm>
            <a:off x="6227640" y="836640"/>
            <a:ext cx="252108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Bedrijfseconomie, ondernemerschap en financieel zelfredzaamheid = Bedrijfseconomisch rekenen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4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Profielvak (geen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Keuzevak (EM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Havo 4 = 3 uu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4 toetsen + Casuss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Havo 5 = 2,5 uu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3 toetsen + Centraal Exam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Bedrijfseconomie, groot gedeelte bedrijfseconomisch reken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Excursie_cover"/>
          <p:cNvPicPr/>
          <p:nvPr/>
        </p:nvPicPr>
        <p:blipFill>
          <a:blip r:embed="rId1"/>
          <a:stretch/>
        </p:blipFill>
        <p:spPr>
          <a:xfrm>
            <a:off x="6012000" y="2492280"/>
            <a:ext cx="26272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126" name="Afbeelding 2" descr=""/>
          <p:cNvPicPr/>
          <p:nvPr/>
        </p:nvPicPr>
        <p:blipFill>
          <a:blip r:embed="rId2"/>
          <a:stretch/>
        </p:blipFill>
        <p:spPr>
          <a:xfrm>
            <a:off x="-203040" y="-237960"/>
            <a:ext cx="9359640" cy="3141360"/>
          </a:xfrm>
          <a:prstGeom prst="rect">
            <a:avLst/>
          </a:prstGeom>
          <a:ln w="0">
            <a:noFill/>
          </a:ln>
        </p:spPr>
      </p:pic>
      <p:pic>
        <p:nvPicPr>
          <p:cNvPr id="127" name="Afbeelding 1" descr=""/>
          <p:cNvPicPr/>
          <p:nvPr/>
        </p:nvPicPr>
        <p:blipFill>
          <a:blip r:embed="rId3"/>
          <a:stretch/>
        </p:blipFill>
        <p:spPr>
          <a:xfrm>
            <a:off x="0" y="2841480"/>
            <a:ext cx="91566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s dat all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nemen een financiële kijk in de keuken bij verschillende soorten bedrijven en organisati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eenmanszaa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vereniging &amp; stich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B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N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26300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De balans en resultatenrek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ypothe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Rentebereken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Andere soorten len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iezen uit de beste investering voor een bedrij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De winst van een bedrijf ve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Balans"/>
          <p:cNvPicPr/>
          <p:nvPr/>
        </p:nvPicPr>
        <p:blipFill>
          <a:blip r:embed="rId1"/>
          <a:stretch/>
        </p:blipFill>
        <p:spPr>
          <a:xfrm>
            <a:off x="5373720" y="0"/>
            <a:ext cx="3770280" cy="19605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13" descr="ANd9GcR-kWxRZO2Cdiv9C-IVdbclNSZX366a_cpzMS2NXaya6BOVHj-T"/>
          <p:cNvPicPr/>
          <p:nvPr/>
        </p:nvPicPr>
        <p:blipFill>
          <a:blip r:embed="rId2"/>
          <a:stretch/>
        </p:blipFill>
        <p:spPr>
          <a:xfrm>
            <a:off x="6407280" y="4516560"/>
            <a:ext cx="27367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 (vervolg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Voorraadwaarde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reak-evenanaly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ostprijs bereken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erekenen verkoopprij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Verschillende rechtsvorm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melk"/>
          <p:cNvPicPr/>
          <p:nvPr/>
        </p:nvPicPr>
        <p:blipFill>
          <a:blip r:embed="rId1"/>
          <a:stretch/>
        </p:blipFill>
        <p:spPr>
          <a:xfrm>
            <a:off x="5940360" y="2421000"/>
            <a:ext cx="2913120" cy="388764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6"/>
          <p:cNvSpPr/>
          <p:nvPr/>
        </p:nvSpPr>
        <p:spPr>
          <a:xfrm>
            <a:off x="63360" y="-25560"/>
            <a:ext cx="18478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9" descr="break-even-analysis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 (vervolg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Uitgifte van aandelen en obliga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engetal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fboomwerking bij financiering van ondernem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6" descr="aandeel"/>
          <p:cNvPicPr/>
          <p:nvPr/>
        </p:nvPicPr>
        <p:blipFill>
          <a:blip r:embed="rId1"/>
          <a:stretch/>
        </p:blipFill>
        <p:spPr>
          <a:xfrm>
            <a:off x="4716360" y="2382840"/>
            <a:ext cx="3888000" cy="25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8a2bc29ec79f7cbe96459499ec90f0e0"/>
          <p:cNvPicPr/>
          <p:nvPr/>
        </p:nvPicPr>
        <p:blipFill>
          <a:blip r:embed="rId2"/>
          <a:stretch/>
        </p:blipFill>
        <p:spPr>
          <a:xfrm>
            <a:off x="1476360" y="5300640"/>
            <a:ext cx="71532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leren w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85 – 95 % (reken)opgaven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elf op onderzoek uitga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verslag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eel veel maakwerk!, huiswerk is cruciaal!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s het een moeilijk va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a/Nee, als je het vak goed bijhoudt moet je een (ruim)voldoende kunnen ha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onder het maken van huiswerk, ga je het niet redden!!!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efenen = heel belangrij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6666"/>
                </a:solidFill>
                <a:latin typeface="Arial"/>
              </a:rPr>
              <a:t>Economie = Analyseren van de economie en ontwikkelingen in het land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4640" cy="33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kijken naar de ontwikkelingen in de economie, de samenleving, bedrijven, banken, overheid en het buitenla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rofielvak (E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Keuzevak (andere profiel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avo 4 = 3 u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4 toetsen + 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avo 5 = 3 u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3 toetsen + Centraal Exa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Afbeelding 4" descr="C:\Users\Laptop\Pictures\fokke-en-sukke-geld.gif"/>
          <p:cNvPicPr/>
          <p:nvPr/>
        </p:nvPicPr>
        <p:blipFill>
          <a:blip r:embed="rId1"/>
          <a:stretch/>
        </p:blipFill>
        <p:spPr>
          <a:xfrm>
            <a:off x="5508720" y="3573360"/>
            <a:ext cx="3311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Toekom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edrijfseconomie is een handig vak als je in de toekoms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udie economie/bedrijfseconomie (HBO/W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udie bedrijfskunde (HBO/W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bedrijf wil beg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e persoonlijke financiën goed wilt rege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docent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ominique Vos / Michel Boer / Linda van Haren / Bas Jaco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helpen je graa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okaal 121/132/1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la de krant maar eens open, kijk eens naar het journaal of kijk gewoon goed om je heen, bijna alles om je heen heeft met economie te make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prijs van een fles col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et loon wat je krijgt voor je krantenwijk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belasting die je ouders moeten betal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AOW leeftijd gaat van 65 naar 67 jaa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grote economische crisis in Griekenlan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n……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AutoShape 2" descr=""/>
          <p:cNvPicPr/>
          <p:nvPr/>
        </p:nvPicPr>
        <p:blipFill>
          <a:blip r:embed="rId1"/>
          <a:stretch/>
        </p:blipFill>
        <p:spPr>
          <a:xfrm>
            <a:off x="676440" y="762120"/>
            <a:ext cx="80103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utoShape 2" descr=""/>
          <p:cNvPicPr/>
          <p:nvPr/>
        </p:nvPicPr>
        <p:blipFill>
          <a:blip r:embed="rId1"/>
          <a:stretch/>
        </p:blipFill>
        <p:spPr>
          <a:xfrm>
            <a:off x="676440" y="281160"/>
            <a:ext cx="7931160" cy="12855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63360" y="-25560"/>
            <a:ext cx="18478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il_fi" descr="http://upload.wikimedia.org/wikipedia/commons/4/40/Vraagenaanbod.png"/>
          <p:cNvPicPr/>
          <p:nvPr/>
        </p:nvPicPr>
        <p:blipFill>
          <a:blip r:embed="rId2"/>
          <a:stretch/>
        </p:blipFill>
        <p:spPr>
          <a:xfrm>
            <a:off x="1332000" y="2637000"/>
            <a:ext cx="4752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utoShape 2" descr=""/>
          <p:cNvPicPr/>
          <p:nvPr/>
        </p:nvPicPr>
        <p:blipFill>
          <a:blip r:embed="rId1"/>
          <a:stretch/>
        </p:blipFill>
        <p:spPr>
          <a:xfrm>
            <a:off x="1096920" y="762120"/>
            <a:ext cx="8040600" cy="1304640"/>
          </a:xfrm>
          <a:prstGeom prst="rect">
            <a:avLst/>
          </a:prstGeom>
          <a:ln w="0">
            <a:noFill/>
          </a:ln>
        </p:spPr>
      </p:pic>
      <p:pic>
        <p:nvPicPr>
          <p:cNvPr id="106" name="il_fi" descr="http://www.tjoys.eu/images/contentimages/diensten/socialezekerheid.jpg"/>
          <p:cNvPicPr/>
          <p:nvPr/>
        </p:nvPicPr>
        <p:blipFill>
          <a:blip r:embed="rId2"/>
          <a:stretch/>
        </p:blipFill>
        <p:spPr>
          <a:xfrm>
            <a:off x="1619280" y="2708280"/>
            <a:ext cx="55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AutoShape 2" descr=""/>
          <p:cNvPicPr/>
          <p:nvPr/>
        </p:nvPicPr>
        <p:blipFill>
          <a:blip r:embed="rId1"/>
          <a:stretch/>
        </p:blipFill>
        <p:spPr>
          <a:xfrm>
            <a:off x="676440" y="281160"/>
            <a:ext cx="7931160" cy="1285560"/>
          </a:xfrm>
          <a:prstGeom prst="rect">
            <a:avLst/>
          </a:prstGeom>
          <a:ln w="0">
            <a:noFill/>
          </a:ln>
        </p:spPr>
      </p:pic>
      <p:pic>
        <p:nvPicPr>
          <p:cNvPr id="108" name="il_fi" descr="http://www.gewoon-nieuws.nl/wp-content/uploads/2011/08/Euro-packman.jpg"/>
          <p:cNvPicPr/>
          <p:nvPr/>
        </p:nvPicPr>
        <p:blipFill>
          <a:blip r:embed="rId2"/>
          <a:stretch/>
        </p:blipFill>
        <p:spPr>
          <a:xfrm>
            <a:off x="1541520" y="2421000"/>
            <a:ext cx="57592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el 1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826920" y="2421000"/>
            <a:ext cx="791064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ument, producent, werknemer, werkgever, belastingen, sociale premies, lorenz-curve, investeren, export, import, arbeidsproductiviteit, loonmatiging, schaarste, productiefactoren, evenwichtsprijs…………………………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8000" y="6086520"/>
            <a:ext cx="1429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75 – 80 % opgaven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Reke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ronnen uitpluiz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ctualiteit leren begrijp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k ongeveer 60% rekenvaardigheid, 40% theor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nissen leer je ook niet uit een boek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efenen, trainen en bijhouden is erg belangrij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banden tussen verschillende begrippen kunnen leg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grippen in verschillende contexten kunnen toepass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kenvaardigheden zijn belangrij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0:12:57Z</dcterms:created>
  <dc:creator>Arentheem College</dc:creator>
  <dc:description/>
  <dc:language>en-US</dc:language>
  <cp:lastModifiedBy>Bas Jacobs</cp:lastModifiedBy>
  <dcterms:modified xsi:type="dcterms:W3CDTF">2018-02-22T07:35:36Z</dcterms:modified>
  <cp:revision>18</cp:revision>
  <dc:subject/>
  <dc:title>Voorlichting  Keuzemiddag 3 vwo/3 havo</dc:title>
</cp:coreProperties>
</file>