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FF3-04D7-4695-B016-99B1A2EC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9BB-372C-4AC4-8AF0-CE68763C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F9D-1D2E-42D3-B277-AC46EF6F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1D2-1E84-43ED-AB59-4D8965BF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639F-862D-48F1-A0E4-A10B4C6C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8953-F488-4B4D-84F7-C5C03507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3444-C850-4946-9C28-D7414041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67E5-B4FE-463E-9007-335FDF71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94A1-FD3E-4893-A527-C4B2C047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A85B-1520-45D0-8B30-09D4D781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AE8F-BC9A-4651-992F-1F932CA8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E97-74A5-440E-8EAC-132A0C93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CD72-4C6C-4D88-B65B-AAD42E33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1193-0566-4F12-BC77-3DB6EA1E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1069-4BB2-42BC-9795-F17547EE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F8DF-D26E-47EC-9761-EC9D3BBE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B148-9A94-4ADA-991A-CB2ACE98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F5C-BC1E-412D-AF18-7EA6F479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DAD-5874-4779-8668-29893433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940-A84E-4B85-8FD7-0DB545CB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F16-A64E-4C76-A4B5-C2A45675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FF9-8F7A-49C3-9650-3A104A30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D34F-3B35-4ED7-9491-5B362C3F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FF0-76E8-47FF-8543-3B1D2450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1A46-2D5D-4E92-AF03-67470343E463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9431-B39C-4D56-82CE-90C23198C24D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Voorlichting  Keuzemiddag 3 ha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286704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Bedrijfseconomie, ondernemerschap en financiële zelfredzaamhei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Econom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Economie is een handig vak als je in de toekomst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gistiek en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ernational business &amp; managemen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Management, economie en Rech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Commerciële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rketing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 nog veel meer…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Michel Boer / Linda van Har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Ronald Spekschoor / Bas Jacobs / Robbie Ju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20" name="il_fi" descr="http://geldverdienenmetinternet.info/wp-content/uploads/2011/10/geld2.jpg"/>
          <p:cNvPicPr/>
          <p:nvPr/>
        </p:nvPicPr>
        <p:blipFill>
          <a:blip r:embed="rId2"/>
          <a:stretch/>
        </p:blipFill>
        <p:spPr>
          <a:xfrm>
            <a:off x="6227640" y="836640"/>
            <a:ext cx="25210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Bedrijfseconomie, ondernemerschap en financieel zelfredzaamheid = Bedrijfseconomisch rekenen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Profielvak (geen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Keuzevak (EM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4 toetsen + Casuss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5 = 2,5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Bedrijfseconomie, groot gedeelte bedrijfseconomisch reken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Excursie_cover"/>
          <p:cNvPicPr/>
          <p:nvPr/>
        </p:nvPicPr>
        <p:blipFill>
          <a:blip r:embed="rId1"/>
          <a:stretch/>
        </p:blipFill>
        <p:spPr>
          <a:xfrm>
            <a:off x="6012000" y="2492280"/>
            <a:ext cx="26272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2" descr=""/>
          <p:cNvPicPr/>
          <p:nvPr/>
        </p:nvPicPr>
        <p:blipFill>
          <a:blip r:embed="rId2"/>
          <a:stretch/>
        </p:blipFill>
        <p:spPr>
          <a:xfrm>
            <a:off x="-203040" y="-237960"/>
            <a:ext cx="9359640" cy="3141360"/>
          </a:xfrm>
          <a:prstGeom prst="rect">
            <a:avLst/>
          </a:prstGeom>
          <a:ln w="0">
            <a:noFill/>
          </a:ln>
        </p:spPr>
      </p:pic>
      <p:pic>
        <p:nvPicPr>
          <p:cNvPr id="127" name="Afbeelding 1" descr=""/>
          <p:cNvPicPr/>
          <p:nvPr/>
        </p:nvPicPr>
        <p:blipFill>
          <a:blip r:embed="rId3"/>
          <a:stretch/>
        </p:blipFill>
        <p:spPr>
          <a:xfrm>
            <a:off x="0" y="2841480"/>
            <a:ext cx="91566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dat all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nemen een financiële kijk in de keuken bij verschillende soorten bedrijven en organisati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eenmansza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vereniging &amp; stich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B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N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2630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balans en resultatenrek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ypothe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Renteberek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Andere soorten l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iezen uit de beste investering voor een bedrij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winst van een bedrijf ve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Balans"/>
          <p:cNvPicPr/>
          <p:nvPr/>
        </p:nvPicPr>
        <p:blipFill>
          <a:blip r:embed="rId1"/>
          <a:stretch/>
        </p:blipFill>
        <p:spPr>
          <a:xfrm>
            <a:off x="5373720" y="0"/>
            <a:ext cx="3770280" cy="19605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13" descr="ANd9GcR-kWxRZO2Cdiv9C-IVdbclNSZX366a_cpzMS2NXaya6BOVHj-T"/>
          <p:cNvPicPr/>
          <p:nvPr/>
        </p:nvPicPr>
        <p:blipFill>
          <a:blip r:embed="rId2"/>
          <a:stretch/>
        </p:blipFill>
        <p:spPr>
          <a:xfrm>
            <a:off x="6407280" y="4516560"/>
            <a:ext cx="2736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oorraadwaard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reak-evenanaly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ostprijs bereken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erekenen verkoopprij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erschillende rechtsvorm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melk"/>
          <p:cNvPicPr/>
          <p:nvPr/>
        </p:nvPicPr>
        <p:blipFill>
          <a:blip r:embed="rId1"/>
          <a:stretch/>
        </p:blipFill>
        <p:spPr>
          <a:xfrm>
            <a:off x="5940360" y="2421000"/>
            <a:ext cx="2913120" cy="38876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9" descr="break-even-analysis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Uitgifte van aandelen en obliga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engeta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fboomwerking bij financiering van ondernem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6" descr="aandeel"/>
          <p:cNvPicPr/>
          <p:nvPr/>
        </p:nvPicPr>
        <p:blipFill>
          <a:blip r:embed="rId1"/>
          <a:stretch/>
        </p:blipFill>
        <p:spPr>
          <a:xfrm>
            <a:off x="4716360" y="2382840"/>
            <a:ext cx="3888000" cy="25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8a2bc29ec79f7cbe96459499ec90f0e0"/>
          <p:cNvPicPr/>
          <p:nvPr/>
        </p:nvPicPr>
        <p:blipFill>
          <a:blip r:embed="rId2"/>
          <a:stretch/>
        </p:blipFill>
        <p:spPr>
          <a:xfrm>
            <a:off x="1476360" y="5300640"/>
            <a:ext cx="71532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85 – 95 % (reken)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elf op onderzoek uitga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verslag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el veel maakwerk!, huiswerk is cruciaal!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het een moeilijk va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a/Nee, als je het vak goed bijhoudt moet je een (ruim)voldoende kunnen ha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onder het maken van huiswerk, ga je het niet redden!!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 = heel belangrij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6666"/>
                </a:solidFill>
                <a:latin typeface="Arial"/>
              </a:rPr>
              <a:t>Economie = Analyseren van de economie en ontwikkelingen in het land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kijken naar de ontwikkelingen in de economie, de samenleving, bedrijven, banken, overheid en het buitenl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rofielvak (E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Keuzevak (andere profiel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4 toetsen + 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5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Afbeelding 4" descr="C:\Users\Laptop\Pictures\fokke-en-sukke-geld.gif"/>
          <p:cNvPicPr/>
          <p:nvPr/>
        </p:nvPicPr>
        <p:blipFill>
          <a:blip r:embed="rId1"/>
          <a:stretch/>
        </p:blipFill>
        <p:spPr>
          <a:xfrm>
            <a:off x="5508720" y="3573360"/>
            <a:ext cx="3311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Toekom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edrijfseconomie is een handig vak als je in de toekoms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bedrijf wil beg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e persoonlijke financiën goed wilt reg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Michel Boer / Linda van Haren / Bas Jaco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la de krant maar eens open, kijk eens naar het journaal of kijk gewoon goed om je heen, bijna alles om je heen heeft met economie te make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prijs van een fles col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t loon wat je krijgt voor je krantenwijk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belasting die je ouders moeten betal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AOW leeftijd gaat van 65 naar 67 jaa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grote economische crisis in Griekenlan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AutoShape 2" descr=""/>
          <p:cNvPicPr/>
          <p:nvPr/>
        </p:nvPicPr>
        <p:blipFill>
          <a:blip r:embed="rId1"/>
          <a:stretch/>
        </p:blipFill>
        <p:spPr>
          <a:xfrm>
            <a:off x="676440" y="762120"/>
            <a:ext cx="80103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il_fi" descr="http://upload.wikimedia.org/wikipedia/commons/4/40/Vraagenaanbod.png"/>
          <p:cNvPicPr/>
          <p:nvPr/>
        </p:nvPicPr>
        <p:blipFill>
          <a:blip r:embed="rId2"/>
          <a:stretch/>
        </p:blipFill>
        <p:spPr>
          <a:xfrm>
            <a:off x="1332000" y="2637000"/>
            <a:ext cx="4752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utoShape 2" descr=""/>
          <p:cNvPicPr/>
          <p:nvPr/>
        </p:nvPicPr>
        <p:blipFill>
          <a:blip r:embed="rId1"/>
          <a:stretch/>
        </p:blipFill>
        <p:spPr>
          <a:xfrm>
            <a:off x="109692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06" name="il_fi" descr="http://www.tjoys.eu/images/contentimages/diensten/socialezekerheid.jpg"/>
          <p:cNvPicPr/>
          <p:nvPr/>
        </p:nvPicPr>
        <p:blipFill>
          <a:blip r:embed="rId2"/>
          <a:stretch/>
        </p:blipFill>
        <p:spPr>
          <a:xfrm>
            <a:off x="1619280" y="2708280"/>
            <a:ext cx="55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pic>
        <p:nvPicPr>
          <p:cNvPr id="108" name="il_fi" descr="http://www.gewoon-nieuws.nl/wp-content/uploads/2011/08/Euro-packman.jpg"/>
          <p:cNvPicPr/>
          <p:nvPr/>
        </p:nvPicPr>
        <p:blipFill>
          <a:blip r:embed="rId2"/>
          <a:stretch/>
        </p:blipFill>
        <p:spPr>
          <a:xfrm>
            <a:off x="1541520" y="2421000"/>
            <a:ext cx="57592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26920" y="2421000"/>
            <a:ext cx="791064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ment, producent, werknemer, werkgever, belastingen, sociale premies, lorenz-curve, investeren, export, import, arbeidsproductiviteit, loonmatiging, schaarste, productiefactoren, evenwichtsprijs…………………………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8000" y="6086520"/>
            <a:ext cx="1429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75 – 80 % 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Reke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ronnen uitpluiz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ctualiteit leren begrij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k ongeveer 60% rekenvaardigheid, 40% theor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nissen leer je ook niet uit een boek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, trainen en bijhouden is erg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banden tussen verschillende begrippen kunnen leg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rippen in verschillende contexten kunnen toepas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kenvaardigheden zijn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0:12:57Z</dcterms:created>
  <dc:creator>Arentheem College</dc:creator>
  <dc:description/>
  <dc:language>en-US</dc:language>
  <cp:lastModifiedBy>Bas Jacobs</cp:lastModifiedBy>
  <dcterms:modified xsi:type="dcterms:W3CDTF">2018-02-22T07:35:36Z</dcterms:modified>
  <cp:revision>18</cp:revision>
  <dc:subject/>
  <dc:title>Voorlichting  Keuzemiddag 3 vwo/3 havo</dc:title>
</cp:coreProperties>
</file>