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23.png" ContentType="image/png"/>
  <Override PartName="/ppt/media/image21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2.png" ContentType="image/png"/>
  <Override PartName="/ppt/media/image24.png" ContentType="image/png"/>
  <Override PartName="/ppt/media/image1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23F3-EC41-45A1-8D4E-1B79F6A08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964F-B9A9-4EDE-B132-D5CDA9F6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7CC0-C806-4534-8BC7-9A521316F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00B7-CB76-4413-802E-FF74C3AC6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0211-A4E9-47A8-A10F-84D3E44E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9E0D-3CA8-4A57-8A8B-533A6421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1AD7-B9B1-4D52-83BB-3D1D6675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641C-969A-4065-AF73-C208785A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229A-32F2-4A17-A0C1-57548E6C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687C-DD39-4A7A-BC8F-FE4AFFBF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F3B9-47C2-4148-AF4F-08F864FA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AFD4-7B0A-40DE-A07A-21846377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9F83-F8CE-4F23-8A82-373FCD13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93AE-1A40-46ED-924A-70534D43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BE1D-0EEE-49C9-A430-6AE20A32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1856-2C2B-43C7-8963-4081A2CE2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2A1B-934D-4173-977B-5544C971B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3461-0AC0-4EAD-AF5E-905EF6C2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3AB0-2AEE-401E-8F78-42099EF7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D796-AC75-4211-98E3-A765A999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27FF-5ABD-4CDD-8E1D-DA85DB16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10F1-792E-40E1-B9E5-E2204C75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929A-AB46-4D96-90B2-12871549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4DD5-61F6-4A69-98F2-68506790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D979-E75E-48CA-A17F-43132962E395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23AC-BB54-49E9-A639-DD8E5855D458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Arial"/>
              </a:rPr>
              <a:t>Voorlichting  Keuzemiddag 3 hav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43280" y="286704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Bedrijfseconomie, ondernemerschap en financiële zelfredzaamhei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Econom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Economie is een handig vak als je in de toekomst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Studie economie/bedrijfseconomie (HBO/W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Studie bedrijfskunde (HBO/W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Logistiek en Economie (HB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International business &amp; management (HB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Management, economie en Recht (HB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Commerciële economie (HB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Marketing (HB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En nog veel meer………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AutoShape 2" descr=""/>
          <p:cNvPicPr/>
          <p:nvPr/>
        </p:nvPicPr>
        <p:blipFill>
          <a:blip r:embed="rId1"/>
          <a:stretch/>
        </p:blipFill>
        <p:spPr>
          <a:xfrm>
            <a:off x="646200" y="762120"/>
            <a:ext cx="804060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docenten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Michel Boer / Linda van Har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ominique Vos / Ronald Spekschoor / Bas Jacobs / Robbie Jutt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e helpen je graag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Lokaal 121/132/13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AutoShape 2" descr=""/>
          <p:cNvPicPr/>
          <p:nvPr/>
        </p:nvPicPr>
        <p:blipFill>
          <a:blip r:embed="rId1"/>
          <a:stretch/>
        </p:blipFill>
        <p:spPr>
          <a:xfrm>
            <a:off x="646200" y="762120"/>
            <a:ext cx="8040600" cy="1304640"/>
          </a:xfrm>
          <a:prstGeom prst="rect">
            <a:avLst/>
          </a:prstGeom>
          <a:ln w="0">
            <a:noFill/>
          </a:ln>
        </p:spPr>
      </p:pic>
      <p:pic>
        <p:nvPicPr>
          <p:cNvPr id="120" name="il_fi" descr="http://geldverdienenmetinternet.info/wp-content/uploads/2011/10/geld2.jpg"/>
          <p:cNvPicPr/>
          <p:nvPr/>
        </p:nvPicPr>
        <p:blipFill>
          <a:blip r:embed="rId2"/>
          <a:stretch/>
        </p:blipFill>
        <p:spPr>
          <a:xfrm>
            <a:off x="6227640" y="836640"/>
            <a:ext cx="252108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Bedrijfseconomie, ondernemerschap en financieel zelfredzaamheid = Bedrijfseconomisch rekenen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4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Profielvak (geen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Keuzevak (EM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Havo 4 = 3 uur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4 toetsen + Casusse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Havo 5 = 2,5 uur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3 toetsen + Centraal Exame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Bedrijfseconomie, groot gedeelte bedrijfseconomisch rekene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7" descr="Excursie_cover"/>
          <p:cNvPicPr/>
          <p:nvPr/>
        </p:nvPicPr>
        <p:blipFill>
          <a:blip r:embed="rId1"/>
          <a:stretch/>
        </p:blipFill>
        <p:spPr>
          <a:xfrm>
            <a:off x="6012000" y="2492280"/>
            <a:ext cx="262728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  <p:pic>
        <p:nvPicPr>
          <p:cNvPr id="126" name="Afbeelding 2" descr=""/>
          <p:cNvPicPr/>
          <p:nvPr/>
        </p:nvPicPr>
        <p:blipFill>
          <a:blip r:embed="rId2"/>
          <a:stretch/>
        </p:blipFill>
        <p:spPr>
          <a:xfrm>
            <a:off x="-203040" y="-237960"/>
            <a:ext cx="9359640" cy="3141360"/>
          </a:xfrm>
          <a:prstGeom prst="rect">
            <a:avLst/>
          </a:prstGeom>
          <a:ln w="0">
            <a:noFill/>
          </a:ln>
        </p:spPr>
      </p:pic>
      <p:pic>
        <p:nvPicPr>
          <p:cNvPr id="127" name="Afbeelding 1" descr=""/>
          <p:cNvPicPr/>
          <p:nvPr/>
        </p:nvPicPr>
        <p:blipFill>
          <a:blip r:embed="rId3"/>
          <a:stretch/>
        </p:blipFill>
        <p:spPr>
          <a:xfrm>
            <a:off x="0" y="2841480"/>
            <a:ext cx="915660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Is dat alle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81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e nemen een financiële kijk in de keuken bij verschillende soorten bedrijven en organisati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eenmanszaa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vereniging &amp; stich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B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N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Wat leren w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263000" cy="28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De balans en resultatenreke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Hypothe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Renteberekenin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Andere soorten lenin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Kiezen uit de beste investering voor een bedrij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De winst van een bedrijf ve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6" descr="Balans"/>
          <p:cNvPicPr/>
          <p:nvPr/>
        </p:nvPicPr>
        <p:blipFill>
          <a:blip r:embed="rId1"/>
          <a:stretch/>
        </p:blipFill>
        <p:spPr>
          <a:xfrm>
            <a:off x="5373720" y="0"/>
            <a:ext cx="3770280" cy="196056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13" descr="ANd9GcR-kWxRZO2Cdiv9C-IVdbclNSZX366a_cpzMS2NXaya6BOVHj-T"/>
          <p:cNvPicPr/>
          <p:nvPr/>
        </p:nvPicPr>
        <p:blipFill>
          <a:blip r:embed="rId2"/>
          <a:stretch/>
        </p:blipFill>
        <p:spPr>
          <a:xfrm>
            <a:off x="6407280" y="4516560"/>
            <a:ext cx="273672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Wat leren we? (vervolg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Voorraadwaarder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reak-evenanaly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Kostprijs bereken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erekenen verkoopprij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Verschillende rechtsvorm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7" descr="melk"/>
          <p:cNvPicPr/>
          <p:nvPr/>
        </p:nvPicPr>
        <p:blipFill>
          <a:blip r:embed="rId1"/>
          <a:stretch/>
        </p:blipFill>
        <p:spPr>
          <a:xfrm>
            <a:off x="5940360" y="2421000"/>
            <a:ext cx="2913120" cy="388764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6"/>
          <p:cNvSpPr/>
          <p:nvPr/>
        </p:nvSpPr>
        <p:spPr>
          <a:xfrm>
            <a:off x="63360" y="-25560"/>
            <a:ext cx="1847880" cy="24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Picture 9" descr="break-even-analysis"/>
          <p:cNvPicPr/>
          <p:nvPr/>
        </p:nvPicPr>
        <p:blipFill>
          <a:blip r:embed="rId2"/>
          <a:stretch/>
        </p:blipFill>
        <p:spPr>
          <a:xfrm>
            <a:off x="6084720" y="0"/>
            <a:ext cx="30592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Wat leren we? (vervolg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Uitgifte van aandelen en obliga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Kengetal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Hefboomwerking bij financiering van ondernemin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Picture 6" descr="aandeel"/>
          <p:cNvPicPr/>
          <p:nvPr/>
        </p:nvPicPr>
        <p:blipFill>
          <a:blip r:embed="rId1"/>
          <a:stretch/>
        </p:blipFill>
        <p:spPr>
          <a:xfrm>
            <a:off x="4716360" y="2382840"/>
            <a:ext cx="3888000" cy="2585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8a2bc29ec79f7cbe96459499ec90f0e0"/>
          <p:cNvPicPr/>
          <p:nvPr/>
        </p:nvPicPr>
        <p:blipFill>
          <a:blip r:embed="rId2"/>
          <a:stretch/>
        </p:blipFill>
        <p:spPr>
          <a:xfrm>
            <a:off x="1476360" y="5300640"/>
            <a:ext cx="71532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Hoe leren w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85 – 95 % (reken)opgaven ma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Zelf op onderzoek uitga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en verslag ma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Heel veel maakwerk!, huiswerk is cruciaal!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Is het een moeilijk vak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Ja/Nee, als je het vak goed bijhoudt moet je een (ruim)voldoende kunnen hal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Zonder het maken van huiswerk, ga je het niet redden!!!!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efenen = heel belangrijk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6666"/>
                </a:solidFill>
                <a:latin typeface="Arial"/>
              </a:rPr>
              <a:t>Economie = Analyseren van de economie en ontwikkelingen in het land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4640" cy="33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e kijken naar de ontwikkelingen in de economie, de samenleving, bedrijven, banken, overheid en het buitenlan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Profielvak (E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Keuzevak (andere profiele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Havo 4 = 3 uu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4 toetsen + P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Havo 5 = 3 uu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3 toetsen + Centraal Exa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Afbeelding 4" descr="C:\Users\Laptop\Pictures\fokke-en-sukke-geld.gif"/>
          <p:cNvPicPr/>
          <p:nvPr/>
        </p:nvPicPr>
        <p:blipFill>
          <a:blip r:embed="rId1"/>
          <a:stretch/>
        </p:blipFill>
        <p:spPr>
          <a:xfrm>
            <a:off x="5508720" y="3573360"/>
            <a:ext cx="33112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Toekom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edrijfseconomie is een handig vak als je in de toekoms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udie economie/bedrijfseconomie (HBO/W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udie bedrijfskunde (HBO/W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en bedrijf wil beginn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Je persoonlijke financiën goed wilt regel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Vrage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docenten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ominique Vos / Michel Boer / Linda van Haren / Bas Jacob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e helpen je graag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Lokaal 121/132/13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la de krant maar eens open, kijk eens naar het journaal of kijk gewoon goed om je heen, bijna alles om je heen heeft met economie te maken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e prijs van een fles cola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Het loon wat je krijgt voor je krantenwijk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e belasting die je ouders moeten betale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e AOW leeftijd gaat van 65 naar 67 jaar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e grote economische crisis in Griekenland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En……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AutoShape 2" descr=""/>
          <p:cNvPicPr/>
          <p:nvPr/>
        </p:nvPicPr>
        <p:blipFill>
          <a:blip r:embed="rId1"/>
          <a:stretch/>
        </p:blipFill>
        <p:spPr>
          <a:xfrm>
            <a:off x="676440" y="762120"/>
            <a:ext cx="801036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AutoShape 2" descr=""/>
          <p:cNvPicPr/>
          <p:nvPr/>
        </p:nvPicPr>
        <p:blipFill>
          <a:blip r:embed="rId1"/>
          <a:stretch/>
        </p:blipFill>
        <p:spPr>
          <a:xfrm>
            <a:off x="676440" y="281160"/>
            <a:ext cx="7931160" cy="128556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6"/>
          <p:cNvSpPr/>
          <p:nvPr/>
        </p:nvSpPr>
        <p:spPr>
          <a:xfrm>
            <a:off x="63360" y="-25560"/>
            <a:ext cx="1847880" cy="24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il_fi" descr="http://upload.wikimedia.org/wikipedia/commons/4/40/Vraagenaanbod.png"/>
          <p:cNvPicPr/>
          <p:nvPr/>
        </p:nvPicPr>
        <p:blipFill>
          <a:blip r:embed="rId2"/>
          <a:stretch/>
        </p:blipFill>
        <p:spPr>
          <a:xfrm>
            <a:off x="1332000" y="2637000"/>
            <a:ext cx="4752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AutoShape 2" descr=""/>
          <p:cNvPicPr/>
          <p:nvPr/>
        </p:nvPicPr>
        <p:blipFill>
          <a:blip r:embed="rId1"/>
          <a:stretch/>
        </p:blipFill>
        <p:spPr>
          <a:xfrm>
            <a:off x="1096920" y="762120"/>
            <a:ext cx="8040600" cy="1304640"/>
          </a:xfrm>
          <a:prstGeom prst="rect">
            <a:avLst/>
          </a:prstGeom>
          <a:ln w="0">
            <a:noFill/>
          </a:ln>
        </p:spPr>
      </p:pic>
      <p:pic>
        <p:nvPicPr>
          <p:cNvPr id="106" name="il_fi" descr="http://www.tjoys.eu/images/contentimages/diensten/socialezekerheid.jpg"/>
          <p:cNvPicPr/>
          <p:nvPr/>
        </p:nvPicPr>
        <p:blipFill>
          <a:blip r:embed="rId2"/>
          <a:stretch/>
        </p:blipFill>
        <p:spPr>
          <a:xfrm>
            <a:off x="1619280" y="2708280"/>
            <a:ext cx="5545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AutoShape 2" descr=""/>
          <p:cNvPicPr/>
          <p:nvPr/>
        </p:nvPicPr>
        <p:blipFill>
          <a:blip r:embed="rId1"/>
          <a:stretch/>
        </p:blipFill>
        <p:spPr>
          <a:xfrm>
            <a:off x="676440" y="281160"/>
            <a:ext cx="7931160" cy="1285560"/>
          </a:xfrm>
          <a:prstGeom prst="rect">
            <a:avLst/>
          </a:prstGeom>
          <a:ln w="0">
            <a:noFill/>
          </a:ln>
        </p:spPr>
      </p:pic>
      <p:pic>
        <p:nvPicPr>
          <p:cNvPr id="108" name="il_fi" descr="http://www.gewoon-nieuws.nl/wp-content/uploads/2011/08/Euro-packman.jpg"/>
          <p:cNvPicPr/>
          <p:nvPr/>
        </p:nvPicPr>
        <p:blipFill>
          <a:blip r:embed="rId2"/>
          <a:stretch/>
        </p:blipFill>
        <p:spPr>
          <a:xfrm>
            <a:off x="1541520" y="2421000"/>
            <a:ext cx="575928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el 1" descr=""/>
          <p:cNvPicPr/>
          <p:nvPr/>
        </p:nvPicPr>
        <p:blipFill>
          <a:blip r:embed="rId1"/>
          <a:stretch/>
        </p:blipFill>
        <p:spPr>
          <a:xfrm>
            <a:off x="646200" y="762120"/>
            <a:ext cx="8040600" cy="1304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826920" y="2421000"/>
            <a:ext cx="7910640" cy="41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ument, producent, werknemer, werkgever, belastingen, sociale premies, lorenz-curve, investeren, export, import, arbeidsproductiviteit, loonmatiging, schaarste, productiefactoren, evenwichtsprijs…………………………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8000" y="6086520"/>
            <a:ext cx="14292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75 – 80 % opgaven ma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Reken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ronnen uitpluiz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Actualiteit leren begrijp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Vak ongeveer 60% rekenvaardigheid, 40% theori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AutoShape 2" descr=""/>
          <p:cNvPicPr/>
          <p:nvPr/>
        </p:nvPicPr>
        <p:blipFill>
          <a:blip r:embed="rId1"/>
          <a:stretch/>
        </p:blipFill>
        <p:spPr>
          <a:xfrm>
            <a:off x="646200" y="762120"/>
            <a:ext cx="804060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nnissen leer je ook niet uit een boek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efenen, trainen en bijhouden is erg belangrij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rbanden tussen verschillende begrippen kunnen legg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grippen in verschillende contexten kunnen toepass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kenvaardigheden zijn belangrij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AutoShape 2" descr=""/>
          <p:cNvPicPr/>
          <p:nvPr/>
        </p:nvPicPr>
        <p:blipFill>
          <a:blip r:embed="rId1"/>
          <a:stretch/>
        </p:blipFill>
        <p:spPr>
          <a:xfrm>
            <a:off x="646200" y="762120"/>
            <a:ext cx="804060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5T10:12:57Z</dcterms:created>
  <dc:creator>Arentheem College</dc:creator>
  <dc:description/>
  <dc:language>en-US</dc:language>
  <cp:lastModifiedBy>Bas Jacobs</cp:lastModifiedBy>
  <dcterms:modified xsi:type="dcterms:W3CDTF">2018-02-22T07:35:36Z</dcterms:modified>
  <cp:revision>18</cp:revision>
  <dc:subject/>
  <dc:title>Voorlichting  Keuzemiddag 3 vwo/3 havo</dc:title>
</cp:coreProperties>
</file>