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D36-15AC-41B2-8A07-050DAEF8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D99-6B4C-4833-A986-29CBEC03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AAF-A9EF-402C-8F78-56B1450B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F44-1AB9-42C2-A3AF-326BC3F0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DAB-2B0B-4DB7-99E4-39B0EE1C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DF7-E6A3-49C6-9A41-15761440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1CD-D0AB-486D-8B52-095A7617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652-8345-409C-8450-EC456CD1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D42-6864-46D9-A67E-CA9EDED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6F0-6CE9-4749-8CCF-2B9AD4EB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F63-0945-4106-90BF-39476D6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352-59AE-4576-8D1D-5AD73EF7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105-9913-40BB-A0FF-2B767DCC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maa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ssenkooi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22560" cy="47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t g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voelig voor st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geen 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c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30240" y="1341360"/>
            <a:ext cx="3803760" cy="453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175200" cy="345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1748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voudig in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ibeeld 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b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tr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p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4284720" cy="342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2325600"/>
            <a:ext cx="4392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last van stenen, zwerfv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cht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37:16Z</dcterms:created>
  <dc:creator>Johan</dc:creator>
  <dc:description/>
  <dc:language>en-US</dc:language>
  <cp:lastModifiedBy>Johan</cp:lastModifiedBy>
  <dcterms:modified xsi:type="dcterms:W3CDTF">2007-03-09T19:17:28Z</dcterms:modified>
  <cp:revision>3</cp:revision>
  <dc:subject/>
  <dc:title>Gras maaien</dc:title>
</cp:coreProperties>
</file>