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0909-64F3-451C-B938-A0E4D1B2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C8D6-0E8B-4C28-8825-1C04BC3C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BC0A-CB6F-48FE-8FCE-4A4B63A7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8636-D20B-4346-A04C-D8A5D446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C7F7-AB59-447E-A560-6E05AC90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C8F2-9757-4493-AB0C-86CFAA45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1B5E-EACF-47AF-B70B-9E478971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06AF-B933-429C-BD26-34F9431C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D9FE-B6AB-4EEF-8DCD-D9CA97A4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FEB4-8037-4FC1-88EC-13BF456E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DAAE-006A-4564-AB18-9D0584BB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D07C-0552-473B-8726-4F461D0D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B014-9902-42B2-BAA6-6798F2E11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Afbeelding:Mais_kiemplant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 theo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lgaz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els raai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dbee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dzwenk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els raai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47640" y="144468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ldbeemd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19280" y="1422360"/>
            <a:ext cx="554508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dzwenk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85800" y="1413000"/>
            <a:ext cx="5373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rtv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etzwenk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odzwenk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we sm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gels raai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ldbee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odzwe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etzwenk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47640" y="1446120"/>
            <a:ext cx="547236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dzwenk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19280" y="1270080"/>
            <a:ext cx="5545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uwe sm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76360" y="1395360"/>
            <a:ext cx="561672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n golfb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woon struis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 struis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dzwenk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woon struis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76360" y="1425600"/>
            <a:ext cx="554364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enzaadlobb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Maïs kiemplant met rechts het coleoptylLinks komt het eerste blaadje door het coleoptyl naar buit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560" y="2060640"/>
            <a:ext cx="3964320" cy="41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Tweezaadlobbige kiemplanten van Bladmoes"/>
          <p:cNvPicPr/>
          <p:nvPr/>
        </p:nvPicPr>
        <p:blipFill>
          <a:blip r:embed="rId3"/>
          <a:stretch/>
        </p:blipFill>
        <p:spPr>
          <a:xfrm>
            <a:off x="4716360" y="2803680"/>
            <a:ext cx="395928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 struis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47640" y="1405080"/>
            <a:ext cx="547236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kenning van gras soo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famil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amb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673272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e pl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ui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i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erw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e plek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35290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ifrequ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et = succes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x per jaar = kru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x per jaar is 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neer groeit gras? Groeip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neer vormt het snel za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neer kun je het best inzaai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vaak maai 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 welke hoogte maai 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gebeurt als je te laag maa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gebeurt als je te hoog maa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sonderho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i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 vaak + wanne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nten stek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 vaa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ticuter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it? Waa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orzaa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g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voetbalve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ladruim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regen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 vaa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gedie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krui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ke soor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ucht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it + waa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me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oll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pen (grasla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weepen (go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rzaken 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zure grond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na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ondbewe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laag maaie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ger ze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veel schaduw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er meng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vilting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ticu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weinig luch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orende laa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veldku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devor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vor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ngs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unctie (sportveld, golf, siergaz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asseng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8:38:48Z</dcterms:created>
  <dc:creator>johan</dc:creator>
  <dc:description/>
  <dc:language>en-US</dc:language>
  <cp:lastModifiedBy>johan</cp:lastModifiedBy>
  <dcterms:modified xsi:type="dcterms:W3CDTF">2009-02-19T08:32:10Z</dcterms:modified>
  <cp:revision>5</cp:revision>
  <dc:subject/>
  <dc:title>Gras theorie</dc:title>
</cp:coreProperties>
</file>