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7B2-9C32-4789-A4EC-B558C797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91B-6305-4836-9665-BCB4FBF4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469-FE37-4F13-82F1-A9AAEF40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AB9-DB33-41DB-8B60-6202D24B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333-BF8A-45E2-AADD-58EE0412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D29-3223-4D7C-B3A8-1E740ED0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892-CEA5-404D-BE92-69663BC5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D84-5CB9-4FD5-BAE7-96F38A06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A94-C9DF-4B2B-9343-93BB97E0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533-658D-4607-806F-12346476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A8A-C960-420C-B91B-DBAFA5EB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813-A371-4FF0-89B1-44A07733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7ED0-1800-42C1-B861-962DF65B6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79600"/>
            <a:ext cx="59770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65280" y="1125360"/>
            <a:ext cx="4299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ofdelemen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K (warme maaltij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, Mg, S (ontbijt + lun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enelemen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, Mn, Cl,B, Mo,Cu,Zn (fruit, koekj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iksto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   fosfo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tel + afrijping 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    kal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vige cel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  kal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+ waterop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g  magnes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   zwav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maak van ei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stroo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                                  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                                       P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3456000" cy="288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320364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3456000" cy="286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H of zuurg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+    (zuur)        (pH &l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H-   (basisch)  (pH &g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2O (neutraal)   (pH =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l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hoog (minder z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r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laag (zuurdere gr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11560"/>
            <a:ext cx="9144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gelijking tussen organische en anorganische meststoffe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ganisch: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oeiepoep, compos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Langzaamwerkend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le elementen  zitten er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 voor bodemlev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oeilijk te verwerk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koop in aanschaf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rg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stmest N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elwer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ecoat = langzaam werken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kele 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teloos voor bodem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kelijk verwerk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s duurder in aansch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9:27:18Z</dcterms:created>
  <dc:creator>johan</dc:creator>
  <dc:description/>
  <dc:language>en-US</dc:language>
  <cp:lastModifiedBy>johan</cp:lastModifiedBy>
  <dcterms:modified xsi:type="dcterms:W3CDTF">2008-08-27T18:08:12Z</dcterms:modified>
  <cp:revision>7</cp:revision>
  <dc:subject/>
  <dc:title>Bemesting</dc:title>
</cp:coreProperties>
</file>