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5D5-668C-4C91-A205-FD2F9085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644-2570-4CB7-A3B8-2B8D3B52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3F7-B2C0-4301-9465-CB9ECF6E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84F-523F-4482-ABC3-C17981DF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094-AF10-4FD2-8914-8F1C96CE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C44-8BB5-4D16-B5BB-B76BC155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367-9711-4DBA-8B95-D8748896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2D4-AFD3-4AF6-941C-A865A18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CB8-8B99-4253-B811-FAD36B55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845-32B9-43F8-951A-F1A9626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231-6C42-4E9A-88BA-04CD1A61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4C4-6493-43AD-B958-D373C899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708-0678-4930-AFD9-2E8BEC37E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ade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690640"/>
            <a:ext cx="9144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ar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d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eeuwschimmel (fusariu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592360" cy="195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70680" y="1125360"/>
            <a:ext cx="3073320" cy="231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5761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1386000"/>
            <a:ext cx="6335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st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rling (larve meikev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3290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elt (larve langpootmu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9:25:32Z</dcterms:created>
  <dc:creator>johan</dc:creator>
  <dc:description/>
  <dc:language>en-US</dc:language>
  <cp:lastModifiedBy>johan</cp:lastModifiedBy>
  <dcterms:modified xsi:type="dcterms:W3CDTF">2008-11-02T19:47:44Z</dcterms:modified>
  <cp:revision>2</cp:revision>
  <dc:subject/>
  <dc:title>gras</dc:title>
</cp:coreProperties>
</file>