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BA0A-4864-40EF-9FA3-9DAA300F0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8316-55DF-4B00-983F-BD4309A1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FF90-B558-4E9B-971C-48BB2A412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6A0A-0CF0-452B-804C-78BB114E9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223B-4494-44E5-9145-34FB26B7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D4F4-494A-4EE0-B58C-71E1BAC6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15E7-A5AB-4A17-BCC3-05DCD913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16C5-CAA5-4289-8A44-0714CEAF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C7AC-020C-4960-9866-ED3818A5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1976-478F-41EB-9018-2BEF8A0E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C2B2-5CA9-4E71-9B23-D6AE7D58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427F-7D0E-46DB-9274-8CAE51F6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C3F7-041C-404F-9EF4-7E908911D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s maa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chillende syst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ssenkooimaa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3922560" cy="4771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0" y="1989000"/>
            <a:ext cx="41036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us                                  M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oi maaibe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nipt gr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voelig voor st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n geen hoog gras maa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ircelmaa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30240" y="1341360"/>
            <a:ext cx="3803760" cy="4535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580000" y="1700280"/>
            <a:ext cx="3175200" cy="3457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1197000"/>
            <a:ext cx="317484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us                            M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g gras maa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voudig in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aibeeld mi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aib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3619440" cy="48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us                              M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g g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oi maaibee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nipp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stro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epelmaa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316160"/>
            <a:ext cx="4284720" cy="3427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0" y="2325600"/>
            <a:ext cx="439272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us                                 M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il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en last van stenen, zwerfvu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cht maaibe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18:37:16Z</dcterms:created>
  <dc:creator>Johan</dc:creator>
  <dc:description/>
  <dc:language>en-US</dc:language>
  <cp:lastModifiedBy>Johan</cp:lastModifiedBy>
  <dcterms:modified xsi:type="dcterms:W3CDTF">2007-03-09T19:17:28Z</dcterms:modified>
  <cp:revision>3</cp:revision>
  <dc:subject/>
  <dc:title>Gras maaien</dc:title>
</cp:coreProperties>
</file>