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13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C1EEB-BC86-452D-870C-2523F39FA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BC7F0-1C9A-4518-BBAC-759DBD76D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169BB-E452-4108-927F-F89C8333F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7E2D2-40E2-4BFF-AC85-CB7849A1B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9066F-2A21-48DE-B0AD-E036085D3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2ED39-C1B2-436D-B4F7-8503DA84D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01E9F-9729-4B40-AAD3-7380D33EF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BA289-86B3-41C7-A80F-496BECD7D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0383B-A369-46D5-AB90-3566E4F24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88D96-ACFA-45AE-85D1-5A90FA5E8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44245-D41A-4BFF-ACD9-3634854F9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09C16-BCDE-41C0-B67C-26A7D1171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4C26E-B37F-41D7-8E8A-33E7EC1B6F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nl.wikipedia.org/wiki/Afbeelding:Mais_kiemplant.jpg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as theor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eelgaz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gels raaigr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ldbeem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odzwenkgr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gels raaigr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547640" y="1444680"/>
            <a:ext cx="540072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eldbeemdgr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619280" y="1422360"/>
            <a:ext cx="5545080" cy="53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oodzwenkgr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585800" y="1413000"/>
            <a:ext cx="5373720" cy="54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ortve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ietzwenkgr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oodzwenkgr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uwe sme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ngels raaigr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eldbeem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oodzwen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ietzwenkgr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1547640" y="1446120"/>
            <a:ext cx="5472360" cy="538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oodzwenkgr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619280" y="1270080"/>
            <a:ext cx="554508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Ruwe sme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1476360" y="1395360"/>
            <a:ext cx="5616720" cy="54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een golfba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woon struisgr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 struisgr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odzwenkgr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woon struisgr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1476360" y="1425600"/>
            <a:ext cx="5543640" cy="545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enzaadlobbi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Maïs kiemplant met rechts het coleoptylLinks komt het eerste blaadje door het coleoptyl naar buite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93560" y="2060640"/>
            <a:ext cx="3964320" cy="41050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Tweezaadlobbige kiemplanten van Bladmoes"/>
          <p:cNvPicPr/>
          <p:nvPr/>
        </p:nvPicPr>
        <p:blipFill>
          <a:blip r:embed="rId3"/>
          <a:stretch/>
        </p:blipFill>
        <p:spPr>
          <a:xfrm>
            <a:off x="4716360" y="2803680"/>
            <a:ext cx="3959280" cy="294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it struisgr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1547640" y="1405080"/>
            <a:ext cx="5472360" cy="545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terminer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rkenning van gras soor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asfamil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a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ra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r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ambo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411280" y="1628640"/>
            <a:ext cx="6732720" cy="422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ccess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ale pl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ruid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uik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erwou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ale plek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4859280" y="1916280"/>
            <a:ext cx="3529080" cy="35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aifrequent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iet = success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 x per jaar = krui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5x per jaar is gr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rag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nneer groeit gras? Groeipie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nneer vormt het snel zaa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nneer kun je het best inzaai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e vaak maai j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 welke hoogte maai j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t gebeurt als je te laag maa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t gebeurt als je te hoog maa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rasonderhoud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aaien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oe vaak + wannee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Kanten steken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oe vaak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erticuteren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AT is dit? Waaro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oorzaai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egen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(voetbalvel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ladruimen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AARO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eregenen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oe vaak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ngedier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nkruid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elke soorte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eluchten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at is dit + waaro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emes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oll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lepen (graslan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weepen (golf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orzaken m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 zure grond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kal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 nat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grondbewer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 laag maaien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hoger zet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 veel schaduw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er mengs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vilting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verticute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 weinig lucht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torende laa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asveldkun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odevor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olvor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engs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Functie (sportveld, golf, siergaz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rassengi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7T18:38:48Z</dcterms:created>
  <dc:creator>johan</dc:creator>
  <dc:description/>
  <dc:language>en-US</dc:language>
  <cp:lastModifiedBy>johan</cp:lastModifiedBy>
  <dcterms:modified xsi:type="dcterms:W3CDTF">2009-02-19T08:32:10Z</dcterms:modified>
  <cp:revision>5</cp:revision>
  <dc:subject/>
  <dc:title>Gras theorie</dc:title>
</cp:coreProperties>
</file>