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81E-D367-4607-894A-4FBFC88C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DD3-E8AE-49E3-9D43-2E98C187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D604-0DBB-4B83-A05D-A1D03429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056-60FA-4FDC-B6DB-D6A1EEB9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2F7-BA0C-47A8-AD9A-02047C8E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AF77-BEF6-42B5-8966-22E06804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255-FA49-48A4-93A9-4EB42145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719-532A-4EEA-8C1D-28B7CA96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8B1-9B95-4A5F-93FE-3A290D80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0762-6672-41DB-A36E-5CA00444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D0C-F4FC-45B9-8A39-F3B06955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C64-D348-4AA1-BAEF-1ED9C52E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9A20-7ACB-4006-858D-298AF9274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479600"/>
            <a:ext cx="597708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nd, lucht, water en bem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jn belangrijke groeifact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eer deze zo goed mo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 krijgen en te hou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echte grond en slechte bemesting zorgen voor slecht groeiende 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arnaast wordt de plant veel gevoeliger voor ziekten en plage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65280" y="1125360"/>
            <a:ext cx="42991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ofdelement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PK (warme maaltij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, Mg, S (ontbijt + lun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enelement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, Mn, Cl,B, Mo,Cu,Zn (fruit, koekj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tiksto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   fosfo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tel + afrijping vr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    kal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vige cel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  kal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wand+ waterop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g  magnesiu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dgr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    zwav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maak van ei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stroo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v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                                    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                                       P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3456000" cy="2884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97000"/>
            <a:ext cx="3203640" cy="261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476360" y="4149720"/>
            <a:ext cx="3456000" cy="2860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H of zuurgr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+    (zuur)        (pH &lt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H-   (basisch)  (pH &gt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2O (neutraal)   (pH =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lk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H omhoog (minder z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rf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H omlaag (zuurdere gr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11560"/>
            <a:ext cx="9144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gelijking tussen organische en anorganische meststoffe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rganisch: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oeiepoep, compost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Langzaamwerkend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le elementen  zitten er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oed voor bodemleven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oeilijk te verwerken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oedkoop in aanschaf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rga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nstmest N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elwer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ecoat = langzaam werkend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kele ele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tteloos voor bodem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kelijk verwerk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ts duurder in aansch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9:27:18Z</dcterms:created>
  <dc:creator>johan</dc:creator>
  <dc:description/>
  <dc:language>en-US</dc:language>
  <cp:lastModifiedBy>johan</cp:lastModifiedBy>
  <dcterms:modified xsi:type="dcterms:W3CDTF">2008-08-27T18:08:12Z</dcterms:modified>
  <cp:revision>7</cp:revision>
  <dc:subject/>
  <dc:title>Bemesting</dc:title>
</cp:coreProperties>
</file>