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B402-5FF1-4088-8721-5CA6B625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A44F-88C7-4FB6-A942-5772FE3C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9D4B-7A7A-49FE-9134-8C7E89D6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4ADA-E0E3-4875-AC8C-A8E0F7F3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0E26-D2AB-43B7-826C-7A9F92C1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1050-F3FA-48DB-A5A5-0E29A9D5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F03D-3982-4556-8E95-ECCCE3DC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9966-099C-449E-B78E-B50769B0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FFD6-BD3D-4983-A1D0-9DAD07AE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7C26-43E0-445D-9664-1A8EDCBC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F41B-E397-48C1-A58D-EFCB1D1D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7139-30CE-4C95-91A8-B63EB813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AE28-5084-4692-AFFB-A805627A9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ekten en p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adebe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690640"/>
            <a:ext cx="91440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ek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llar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056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ddr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neeuwschimmel (fusariu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592360" cy="1955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70680" y="1125360"/>
            <a:ext cx="3073320" cy="2318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576108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aarde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92360" y="1386000"/>
            <a:ext cx="63356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684072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806436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estj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erling (larve meikev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532908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melt (larve langpootmu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434960"/>
            <a:ext cx="91440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9:25:32Z</dcterms:created>
  <dc:creator>johan</dc:creator>
  <dc:description/>
  <dc:language>en-US</dc:language>
  <cp:lastModifiedBy>johan</cp:lastModifiedBy>
  <dcterms:modified xsi:type="dcterms:W3CDTF">2008-11-02T19:47:44Z</dcterms:modified>
  <cp:revision>2</cp:revision>
  <dc:subject/>
  <dc:title>gras</dc:title>
</cp:coreProperties>
</file>