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5D0-17DE-46C8-807F-7C217DA9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C58-2455-41F1-9E6E-B96ECD60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97A-F305-44EE-95AF-FE293561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00C-23F5-4BBB-B78A-02B16A1D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2A3-3CD3-43D6-8182-1DA911F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F7E-D435-4337-A0BF-8E8467E7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1A4-6975-447A-A2C4-E2CEEB0A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EC3-9C38-41C3-B29D-6A249DA8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7D3-6C99-43C7-99E0-4C4AFA0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7D1-3C8D-459B-8BBA-1C76AFE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0D9-9ECF-4333-AECF-BB5E08FC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714-A720-4669-B2FF-F997DE4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1C30-58D0-4972-BC49-75DF76416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 maa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ssenkooi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22560" cy="47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t g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voelig voor st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geen 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c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30240" y="1341360"/>
            <a:ext cx="3803760" cy="453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175200" cy="345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31748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 maa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voudig in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ibeeld 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ib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 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i maaibe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ni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tr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epelmaa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4284720" cy="342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2325600"/>
            <a:ext cx="4392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                                 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last van stenen, zwerfv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cht maaib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37:16Z</dcterms:created>
  <dc:creator>Johan</dc:creator>
  <dc:description/>
  <dc:language>en-US</dc:language>
  <cp:lastModifiedBy>Johan</cp:lastModifiedBy>
  <dcterms:modified xsi:type="dcterms:W3CDTF">2007-03-09T19:17:28Z</dcterms:modified>
  <cp:revision>3</cp:revision>
  <dc:subject/>
  <dc:title>Gras maaien</dc:title>
</cp:coreProperties>
</file>