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CC8-E95D-429F-BC83-0C44CC2A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F41-CEB4-44A3-8B0E-66B20B4F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B10-72F7-48E9-90E8-A9EAA02E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7C5-E04A-485B-A51C-6A0C035D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658-A901-4F5A-94FC-4FEF8C91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5CE-68E2-4B90-B594-3366EB8B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CB9-B900-475E-AA6C-9E1B7B0D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44B-5936-4E55-B053-37657A4A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967-C2BD-4F56-A422-F59E5C11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E6E-53D3-418F-8D31-41AF1252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86F-1513-4E36-A928-37EA8105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C2B-214D-42C0-9DFF-7FAD95C1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57C6-25DF-4EA3-A118-2F6B8F1B0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79600"/>
            <a:ext cx="59770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65280" y="1125360"/>
            <a:ext cx="4299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ofdelemen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K (warme maaltij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, Mg, S (ontbijt + lun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enelemen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, Mn, Cl,B, Mo,Cu,Zn (fruit, koekj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iksto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   fosfo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tel + afrijping 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    kal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vige cel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  kal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+ waterop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g  magnes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   zwav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maak van ei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stroo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                                  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                                       P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3456000" cy="288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320364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3456000" cy="286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H of zuurg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+    (zuur)        (pH &l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H-   (basisch)  (pH &g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2O (neutraal)   (pH =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l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hoog (minder z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r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laag (zuurdere gr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11560"/>
            <a:ext cx="9144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gelijking tussen organische en anorganische meststoffe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ganisch: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oeiepoep, compos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Langzaamwerkend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le elementen  zitten er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 voor bodemlev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oeilijk te verwerk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koop in aanschaf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rg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stmest N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elwer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ecoat = langzaam werken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kele 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teloos voor bodem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kelijk verwerk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s duurder in aansch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9:27:18Z</dcterms:created>
  <dc:creator>johan</dc:creator>
  <dc:description/>
  <dc:language>en-US</dc:language>
  <cp:lastModifiedBy>johan</cp:lastModifiedBy>
  <dcterms:modified xsi:type="dcterms:W3CDTF">2008-08-27T18:08:12Z</dcterms:modified>
  <cp:revision>7</cp:revision>
  <dc:subject/>
  <dc:title>Bemesting</dc:title>
</cp:coreProperties>
</file>