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9DFE-90B7-4A29-9B79-6CA7AEE02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B235-6666-45E9-A407-14CD47C9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52FE-FCE3-47D9-917C-727EF34A0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4187-C1AE-4E4B-89CB-630C5B86A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8BE0-463B-4CDF-9ED8-9AC51AC8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1174-2B6B-4CB1-970B-109DC3C5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5547-EA4B-4713-BCF8-41B363B5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5595-BE97-41E3-83ED-4CF26145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0DEF-BBF5-482D-8F8C-AE1AC121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DCE6-C466-4090-86DE-6CD1712F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A340-20B5-4E05-AC2E-6FB11FFA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EB4E-AA69-4C01-8CCA-22D887F2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A616-66B0-4E47-B044-1C8D63D30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s maa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chillende syst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ssenkooimaa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3922560" cy="4771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0" y="1989000"/>
            <a:ext cx="41036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us                                  M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oi maaibe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knipt gr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voelig voor st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n geen hoog gras maa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ircelmaa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30240" y="1341360"/>
            <a:ext cx="3803760" cy="4535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580000" y="1700280"/>
            <a:ext cx="3175200" cy="3457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1197000"/>
            <a:ext cx="317484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us                            M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g gras maa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voudig in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aibeeld mi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aib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627280" y="1557360"/>
            <a:ext cx="3619440" cy="48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us                              M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g g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oi maaibee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knipp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stro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epelmaa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316160"/>
            <a:ext cx="4284720" cy="3427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72000" y="2325600"/>
            <a:ext cx="439272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us                                 M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il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en last van stenen, zwerfvu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echt maaibe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18:37:16Z</dcterms:created>
  <dc:creator>Johan</dc:creator>
  <dc:description/>
  <dc:language>en-US</dc:language>
  <cp:lastModifiedBy>Johan</cp:lastModifiedBy>
  <dcterms:modified xsi:type="dcterms:W3CDTF">2007-03-09T19:17:28Z</dcterms:modified>
  <cp:revision>3</cp:revision>
  <dc:subject/>
  <dc:title>Gras maaien</dc:title>
</cp:coreProperties>
</file>