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A1D08-87F9-455F-9A0C-5B1EB93B7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4A96D-5892-4E23-97A2-C27985A31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2729C-E1F5-465A-8FE6-7361F372D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BA35A-4E7F-4CDE-97D6-6058B9357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3731D-3CFE-4A6D-BEF6-5EF462182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052EB-CDC1-4F58-AB77-B9B43FDD1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0F3D0-9987-400A-B058-CFD1F0501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7524A-2E9C-4F20-8A91-7DCEC5F47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3C515-9445-4538-B8EA-9BFB20FB7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DB12A-4430-4D31-B74C-D4D587D6D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6EE3E-78A7-440F-B459-A857A93F0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CF62F-B5E1-4F01-9E2B-DCCE36DFB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D5565-FA36-45B3-A179-CAEC5CF641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iekten en pla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hadebee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2690640"/>
            <a:ext cx="9144000" cy="23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ziekt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llarspo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042920" y="1341360"/>
            <a:ext cx="705636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oddra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1916280"/>
            <a:ext cx="9144000" cy="33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neeuwschimmel (fusarium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324000" y="1197000"/>
            <a:ext cx="2592360" cy="19558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070680" y="1125360"/>
            <a:ext cx="3073320" cy="23180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0" y="3500280"/>
            <a:ext cx="5761080" cy="312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kru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paardeblo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692360" y="1386000"/>
            <a:ext cx="6335640" cy="53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la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900000" y="1341360"/>
            <a:ext cx="6840720" cy="531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delief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55640" y="1268280"/>
            <a:ext cx="8064360" cy="535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estj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gerling (larve meikever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476360" y="1413000"/>
            <a:ext cx="5329080" cy="52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Emelt (larve langpootmug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1434960"/>
            <a:ext cx="9144000" cy="485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2T19:25:32Z</dcterms:created>
  <dc:creator>johan</dc:creator>
  <dc:description/>
  <dc:language>en-US</dc:language>
  <cp:lastModifiedBy>johan</cp:lastModifiedBy>
  <dcterms:modified xsi:type="dcterms:W3CDTF">2008-11-02T19:47:44Z</dcterms:modified>
  <cp:revision>2</cp:revision>
  <dc:subject/>
  <dc:title>gras</dc:title>
</cp:coreProperties>
</file>