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6D0-CFD7-4E1F-ADDB-B2BF3507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AA4E-E50D-45B7-883A-49F8CD58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570-37FA-4232-A994-8A957B81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DC6-0C5D-4EA9-9C7E-B51AA04E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214-4DF5-486D-9952-B74E994C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C60-2015-4083-B077-3E07F286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0D0-8D73-4158-AF8F-B11F036A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EBE9-A700-4CA4-8370-91CBA3C3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80A-C58C-4D95-9938-9412703B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F413-2C36-4025-80EE-475C13CC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7F9-2729-4BA6-A4EC-EEA36CB8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9F8-F811-419E-9D8C-0294E05A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FD8A-1DC2-4D71-B7D2-DED1C6430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kten en p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ade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690640"/>
            <a:ext cx="91440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lar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56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ddr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neeuwschimmel (fusariu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592360" cy="1955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70680" y="1125360"/>
            <a:ext cx="3073320" cy="2318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57610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arde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92360" y="1386000"/>
            <a:ext cx="63356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806436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stj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erling (larve meikev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532908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elt (larve langpootmu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434960"/>
            <a:ext cx="91440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9:25:32Z</dcterms:created>
  <dc:creator>johan</dc:creator>
  <dc:description/>
  <dc:language>en-US</dc:language>
  <cp:lastModifiedBy>johan</cp:lastModifiedBy>
  <dcterms:modified xsi:type="dcterms:W3CDTF">2008-11-02T19:47:44Z</dcterms:modified>
  <cp:revision>2</cp:revision>
  <dc:subject/>
  <dc:title>gras</dc:title>
</cp:coreProperties>
</file>