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C00-B679-4DF7-B0B0-A671D86C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573-0758-4860-9E9F-3FE632BD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41F-6B79-4815-8D93-F57445B9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D71-566F-4BE1-9AEF-74798E00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0BD-D771-4965-A6DD-F786B96C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66F-41CC-446F-B1F6-52CC111B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363-5B8A-4F7A-9691-A96432A5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A6E-F909-4DB2-8D5A-287BDF9A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B41-BE99-48BB-B35D-5742C91C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DD8-2BDE-4913-AA60-A3C66FAC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921-6D73-451A-A2FC-D3BA80AC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92D-4EE1-4CC2-8B2C-1A2CBE5B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4417-D4BA-481A-87E5-8993401BB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Mais_kiemplan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 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gaz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dbee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47640" y="144468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dbeemd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19280" y="1422360"/>
            <a:ext cx="55450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85800" y="1413000"/>
            <a:ext cx="5373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v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sm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gels raai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bee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odzwe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et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1446120"/>
            <a:ext cx="547236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70080"/>
            <a:ext cx="554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we sm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1395360"/>
            <a:ext cx="56167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golfb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oon struis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 struis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dzwenk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woon strui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1425600"/>
            <a:ext cx="55436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zaadlob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Maïs kiemplant met rechts het coleoptylLinks komt het eerste blaadje door het coleoptyl naar buit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560" y="2060640"/>
            <a:ext cx="3964320" cy="41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weezaadlobbige kiemplanten van Bladmoes"/>
          <p:cNvPicPr/>
          <p:nvPr/>
        </p:nvPicPr>
        <p:blipFill>
          <a:blip r:embed="rId3"/>
          <a:stretch/>
        </p:blipFill>
        <p:spPr>
          <a:xfrm>
            <a:off x="4716360" y="2803680"/>
            <a:ext cx="39592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 strui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47640" y="1405080"/>
            <a:ext cx="54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kenning van gras 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fami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mb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e p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u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r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e plek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529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ifrequ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= 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x per jaar = kru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x per jaar is 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groeit gras? Groeip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vormt het snel za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kun je het best inzaa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aak maai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welke hoogte maai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gebeurt als je te laag ma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gebeurt als je te hoog ma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sonderho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i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 + wanne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ten stek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ticuter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it? 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zaa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g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etbalv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adruim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rege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va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di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krui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soo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uch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it + waa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m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ll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pen (grasl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weepen (go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zure gron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n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ndbe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laag maai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ger 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veel schadu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er meng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ilt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ticu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weinig luch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nde la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veldku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v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v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ctie (sportveld, golf, siergaz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sseng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8:38:48Z</dcterms:created>
  <dc:creator>johan</dc:creator>
  <dc:description/>
  <dc:language>en-US</dc:language>
  <cp:lastModifiedBy>johan</cp:lastModifiedBy>
  <dcterms:modified xsi:type="dcterms:W3CDTF">2009-02-19T08:32:10Z</dcterms:modified>
  <cp:revision>5</cp:revision>
  <dc:subject/>
  <dc:title>Gras theorie</dc:title>
</cp:coreProperties>
</file>